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31.jpeg" ContentType="image/jpeg"/>
  <Override PartName="/ppt/media/image10.wmf" ContentType="image/x-wmf"/>
  <Override PartName="/ppt/media/image30.wmf" ContentType="image/x-wmf"/>
  <Override PartName="/ppt/media/image34.jpeg" ContentType="image/jpeg"/>
  <Override PartName="/ppt/media/image35.png" ContentType="image/png"/>
  <Override PartName="/ppt/media/image18.wmf" ContentType="image/x-wmf"/>
  <Override PartName="/ppt/media/image20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media/image5.jpeg" ContentType="image/jpeg"/>
  <Override PartName="/ppt/media/image11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F9F-DCEC-4577-B7DF-56DD7E9C49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2E4-A5F9-4A19-AC4A-39662B604A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A6811-97CD-4B23-9187-C6E46078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F5DDA-2D7E-4828-AEC6-13716DB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6AC77-3985-4613-9B3E-226FAABF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907FDC-F525-4174-ADFB-4E3D19C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47F199-CBB6-4EAF-80D8-29B9919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55705C-3D1C-45AE-B79D-7C784E0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960E1-4942-4798-8309-28F00EA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12D9D7-DE1E-4720-A03B-06EDDC5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62A3B8-2195-49FD-A5AC-D6AAA0C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8E87B-5A5B-4E14-BE26-617093B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F59A13-E914-4019-96D3-2B76A060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7EB4C-8984-4DBF-8869-06609769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EBD3D-3EC8-4717-AA7B-A84AFA9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AB26-37AF-4B46-8629-B0AB1205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D7CA3-A23B-4BC6-B0D2-A653462B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B3A23-6FB2-428E-95C1-1CA49EF7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5478D-9B73-4CA7-98D0-63BAED6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A4509-94EA-431B-87CD-F4EDD6CD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31A43-286D-455F-A2DC-20DE049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6A642-A64D-42A1-8FEA-720DA65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7E39-1870-44EB-ADF1-57941A0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19E0F-85F9-401F-9AC2-73235353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58A0A-A6F1-4E26-84E5-CAFB9013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D1F0-EB78-45CC-BD6C-E0A4BAF3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D9A78-8F62-423F-816F-857D0C96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9617F-5926-474E-BC9A-CAF3F1CC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3E6AC-9C90-4660-A80B-D01323F0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FF3C5-C68F-4ECC-BCF1-7B8843E3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8F99A-7EA6-4166-A6F1-04790D7D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96456-42A5-422D-B328-F88361A7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3BE95-B602-4F28-AB80-51F5F47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7F900-7584-4EE3-A045-0DA0B58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30A91-F033-480A-B941-336C54F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76E1F-A50C-40BE-B755-B28E6607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8290D-CDFC-48BA-9DB2-DDEAF784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8D4FB-BAF9-4FB6-9927-2C46AA3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1CA66-F812-48EB-89A6-2A8B0668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FDA0C-8114-41B2-8F14-E47D63D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AB730-EC09-4FF1-874E-A53F8C77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DD7A7-E3AF-41F3-9D9A-48A2D34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DA030-8B2D-45AB-A05B-189561F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FC4A8-7815-4919-8C8F-6B2C426B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1B9A4-E393-4DFF-95C5-C322035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8F2CA-8461-48E6-806E-8FBDBBB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3F9A4-D49D-49BB-A8A4-C134942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EB1AD-2CF7-4B9B-ABBC-1B82A0D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1D1D8-F30E-407B-A785-5AB771E0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E59F1-3B7F-4A25-94E5-4C7D6B3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ED980-6C02-4D0B-BB9A-F73C6ADE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CBBE8-20FC-4A62-A19D-CF86F18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BDF40-EBCE-4CD6-A63C-220DF9A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34FD5-FE69-4963-B29A-664E192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72BDB-24E0-48C6-8BCB-FEC6DC9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00379-A0FF-4A85-99ED-13850C13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6565C-293A-4AFF-95F6-E643BEA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A03C3-4504-422B-AB2D-4E21695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AD476-1379-451D-9EF3-18352A4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FFA62-C799-41FA-AE33-580D1771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856F5-CFC0-4B1C-9127-EDE00F04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084FD-CFF0-4F0C-8C16-592694EC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ACD4-39B9-4A80-A310-7C95387826C9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02C-9E64-4D95-B071-DA08D154D58A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FA6-915F-4F20-8C22-D1CD69B2CD7C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853B-63A2-4275-90BA-4A0DC721CA58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59E2-8CEB-4D59-9E67-059235E98824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CF1E-07C3-4FF9-B6D6-6F39B6C41CF6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90A-7B85-47CA-ABAC-9D00CB92DBD6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231840" y="1274760"/>
            <a:ext cx="8845560" cy="272412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360360" y="4005360"/>
            <a:ext cx="842328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12" descr=""/>
          <p:cNvPicPr/>
          <p:nvPr/>
        </p:nvPicPr>
        <p:blipFill>
          <a:blip r:embed="rId3"/>
          <a:stretch/>
        </p:blipFill>
        <p:spPr>
          <a:xfrm>
            <a:off x="3780000" y="1052640"/>
            <a:ext cx="1220760" cy="1211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179280" y="422424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92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3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4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1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600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1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6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1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ole tekstowe 6"/>
          <p:cNvSpPr/>
          <p:nvPr/>
        </p:nvSpPr>
        <p:spPr>
          <a:xfrm>
            <a:off x="179280" y="434808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12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13" name="pole tekstowe 7"/>
          <p:cNvSpPr/>
          <p:nvPr/>
        </p:nvSpPr>
        <p:spPr>
          <a:xfrm>
            <a:off x="144360" y="56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 graficzny naniesiony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9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20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2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6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7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8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9" name="pole tekstowe 9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1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1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35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6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4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rostokąt 37"/>
          <p:cNvSpPr/>
          <p:nvPr/>
        </p:nvSpPr>
        <p:spPr>
          <a:xfrm>
            <a:off x="1763640" y="981000"/>
            <a:ext cx="439272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Obraz 2" descr=""/>
          <p:cNvPicPr/>
          <p:nvPr/>
        </p:nvPicPr>
        <p:blipFill>
          <a:blip r:embed="rId1"/>
          <a:stretch/>
        </p:blipFill>
        <p:spPr>
          <a:xfrm>
            <a:off x="1908000" y="1011240"/>
            <a:ext cx="4032360" cy="5700600"/>
          </a:xfrm>
          <a:prstGeom prst="rect">
            <a:avLst/>
          </a:prstGeom>
          <a:ln w="0">
            <a:noFill/>
          </a:ln>
        </p:spPr>
      </p:pic>
      <p:sp>
        <p:nvSpPr>
          <p:cNvPr id="64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ole tekstowe 17"/>
          <p:cNvSpPr/>
          <p:nvPr/>
        </p:nvSpPr>
        <p:spPr>
          <a:xfrm>
            <a:off x="4603680" y="2413080"/>
            <a:ext cx="41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 Black"/>
              </a:rPr>
              <a:t>KARTA DO GŁOS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8" name="pole tekstowe 4"/>
          <p:cNvSpPr/>
          <p:nvPr/>
        </p:nvSpPr>
        <p:spPr>
          <a:xfrm>
            <a:off x="4603680" y="1125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ole tekstowe 6"/>
          <p:cNvSpPr/>
          <p:nvPr/>
        </p:nvSpPr>
        <p:spPr>
          <a:xfrm>
            <a:off x="4357800" y="231948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ddany na pytanie n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ole tekstowe 12"/>
          <p:cNvSpPr/>
          <p:nvPr/>
        </p:nvSpPr>
        <p:spPr>
          <a:xfrm>
            <a:off x="4343400" y="276228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ole tekstowe 13"/>
          <p:cNvSpPr/>
          <p:nvPr/>
        </p:nvSpPr>
        <p:spPr>
          <a:xfrm>
            <a:off x="4603680" y="3860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ole tekstowe 14"/>
          <p:cNvSpPr/>
          <p:nvPr/>
        </p:nvSpPr>
        <p:spPr>
          <a:xfrm>
            <a:off x="4321080" y="492120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ole tekstowe 15"/>
          <p:cNvSpPr/>
          <p:nvPr/>
        </p:nvSpPr>
        <p:spPr>
          <a:xfrm>
            <a:off x="4248000" y="530064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Obraz 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9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ole tekstowe 13"/>
          <p:cNvSpPr/>
          <p:nvPr/>
        </p:nvSpPr>
        <p:spPr>
          <a:xfrm>
            <a:off x="4643280" y="17002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ole tekstowe 14"/>
          <p:cNvSpPr/>
          <p:nvPr/>
        </p:nvSpPr>
        <p:spPr>
          <a:xfrm>
            <a:off x="4321080" y="292428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le tekstowe 15"/>
          <p:cNvSpPr/>
          <p:nvPr/>
        </p:nvSpPr>
        <p:spPr>
          <a:xfrm>
            <a:off x="4321080" y="35560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 pytaniu nr 1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Łącznik prosty 16"/>
          <p:cNvSpPr/>
          <p:nvPr/>
        </p:nvSpPr>
        <p:spPr>
          <a:xfrm>
            <a:off x="12970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Łącznik prosty 17"/>
          <p:cNvSpPr/>
          <p:nvPr/>
        </p:nvSpPr>
        <p:spPr>
          <a:xfrm flipV="1">
            <a:off x="1341360" y="3085920"/>
            <a:ext cx="18108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ole tekstowe 18"/>
          <p:cNvSpPr/>
          <p:nvPr/>
        </p:nvSpPr>
        <p:spPr>
          <a:xfrm>
            <a:off x="4392720" y="4941720"/>
            <a:ext cx="47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,,X” 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w obu kratkach przy  pytaniu nr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Obraz 1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Łącznik prosty 10"/>
          <p:cNvSpPr/>
          <p:nvPr/>
        </p:nvSpPr>
        <p:spPr>
          <a:xfrm flipV="1">
            <a:off x="841320" y="135252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>
            <a:off x="858960" y="138924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ole tekstowe 13"/>
          <p:cNvSpPr/>
          <p:nvPr/>
        </p:nvSpPr>
        <p:spPr>
          <a:xfrm>
            <a:off x="4356000" y="384336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Znak ,,X” postawiony poza przeznaczoną na to kratką, w zakresie danego pyt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Obraz 8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8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13"/>
          <p:cNvSpPr/>
          <p:nvPr/>
        </p:nvSpPr>
        <p:spPr>
          <a:xfrm>
            <a:off x="4356000" y="3844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raz 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pole tekstowe 9"/>
          <p:cNvSpPr/>
          <p:nvPr/>
        </p:nvSpPr>
        <p:spPr>
          <a:xfrm>
            <a:off x="4754520" y="126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ole tekstowe 12"/>
          <p:cNvSpPr/>
          <p:nvPr/>
        </p:nvSpPr>
        <p:spPr>
          <a:xfrm>
            <a:off x="4321080" y="234936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ole tekstowe 13"/>
          <p:cNvSpPr/>
          <p:nvPr/>
        </p:nvSpPr>
        <p:spPr>
          <a:xfrm>
            <a:off x="4356000" y="3052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pytaniu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ole tekstowe 14"/>
          <p:cNvSpPr/>
          <p:nvPr/>
        </p:nvSpPr>
        <p:spPr>
          <a:xfrm>
            <a:off x="4433760" y="458136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czynienie innych dopisków poza kratk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ie wpływa na ważność gło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wolny kształt: kształt 5"/>
          <p:cNvSpPr/>
          <p:nvPr/>
        </p:nvSpPr>
        <p:spPr>
          <a:xfrm>
            <a:off x="1189080" y="2228760"/>
            <a:ext cx="7174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owolny kształt: kształt 5"/>
          <p:cNvSpPr/>
          <p:nvPr/>
        </p:nvSpPr>
        <p:spPr>
          <a:xfrm>
            <a:off x="2627280" y="220968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olny kształt: kształt 5"/>
          <p:cNvSpPr/>
          <p:nvPr/>
        </p:nvSpPr>
        <p:spPr>
          <a:xfrm>
            <a:off x="1116000" y="381960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owolny kształt: kształt 5"/>
          <p:cNvSpPr/>
          <p:nvPr/>
        </p:nvSpPr>
        <p:spPr>
          <a:xfrm>
            <a:off x="2631960" y="3833640"/>
            <a:ext cx="719280" cy="28764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Obraz 1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710" name="Prostokąt 1"/>
          <p:cNvSpPr/>
          <p:nvPr/>
        </p:nvSpPr>
        <p:spPr>
          <a:xfrm>
            <a:off x="324000" y="3824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z pytaniami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2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rostokąt 1"/>
          <p:cNvSpPr/>
          <p:nvPr/>
        </p:nvSpPr>
        <p:spPr>
          <a:xfrm>
            <a:off x="7920" y="1484280"/>
            <a:ext cx="7848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Franklin Gothic Book"/>
              </a:rPr>
              <a:t>Ustalając, czy głos w zakresie danego pytania jest ważny czy nieważny, OKW stosuje poniższe reguł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oraz, czy postawiony jest on w kratce, czy poza ni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20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(w razie  wątpliwości komisja rozstrzyga w głosowani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głosującego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dopisanie na karcie do głosowania dodatkowych pytań lub wariantów rozwiązania albo poczynienie innych dopisków poza kratką nie wpływa na ważność gło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4"/>
          <p:cNvSpPr/>
          <p:nvPr/>
        </p:nvSpPr>
        <p:spPr>
          <a:xfrm>
            <a:off x="8317080" y="4149720"/>
            <a:ext cx="431640" cy="46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rostokąt 5"/>
          <p:cNvSpPr/>
          <p:nvPr/>
        </p:nvSpPr>
        <p:spPr>
          <a:xfrm>
            <a:off x="8299440" y="3070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6"/>
          <p:cNvSpPr/>
          <p:nvPr/>
        </p:nvSpPr>
        <p:spPr>
          <a:xfrm>
            <a:off x="8407440" y="3017880"/>
            <a:ext cx="61272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Mnożenie 8"/>
          <p:cNvSpPr/>
          <p:nvPr/>
        </p:nvSpPr>
        <p:spPr>
          <a:xfrm>
            <a:off x="8353440" y="349416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Nie równa się 12"/>
          <p:cNvSpPr/>
          <p:nvPr/>
        </p:nvSpPr>
        <p:spPr>
          <a:xfrm>
            <a:off x="8286840" y="2355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Minus 13"/>
          <p:cNvSpPr/>
          <p:nvPr/>
        </p:nvSpPr>
        <p:spPr>
          <a:xfrm rot="19142400">
            <a:off x="8461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9"/>
          <p:cNvSpPr/>
          <p:nvPr/>
        </p:nvSpPr>
        <p:spPr>
          <a:xfrm>
            <a:off x="8317080" y="2278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6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8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81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8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>Krajowe Biuro Wyborcze w Kielcach</dc:creator>
  <dc:description/>
  <dc:language>en-US</dc:language>
  <cp:lastModifiedBy>Adam Michcik</cp:lastModifiedBy>
  <cp:lastPrinted>2018-05-15T10:39:02Z</cp:lastPrinted>
  <dcterms:modified xsi:type="dcterms:W3CDTF">2023-09-30T08:22:36Z</dcterms:modified>
  <cp:revision>3292</cp:revision>
  <dc:subject/>
  <dc:title>Slajd 1</dc:title>
</cp:coreProperties>
</file>