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7.wmf" ContentType="image/x-wmf"/>
  <Override PartName="/ppt/media/image9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3.jpeg" ContentType="image/jpeg"/>
  <Override PartName="/ppt/media/image34.wmf" ContentType="image/x-wmf"/>
  <Override PartName="/ppt/media/image36.png" ContentType="image/png"/>
  <Override PartName="/ppt/media/image19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1.jpeg" ContentType="image/jpeg"/>
  <Override PartName="/ppt/media/image35.jpeg" ContentType="image/jpeg"/>
  <Override PartName="/ppt/media/image38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2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CB95-F356-475E-B63D-97DC564DD2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65A9-C07B-46C7-8310-A579BB4B9C4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A60480-CCAC-4E50-844B-5E55B848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BF8ED9-0F88-4903-9F10-9B5406FD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158B2-2063-47D4-AE13-65E6CAC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A51F4C-BACA-48EB-AB69-D89A3528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24E273-E490-43D9-97A2-8FCC505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A41279-8F55-43F7-901E-01B976DA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633B1C-4DE8-4440-9FC1-7B35931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0D1042-36A9-4875-8204-34360CF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D52B8D-552F-4C98-8B1F-DF883F3D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104F73-3114-4DAC-A568-2F4606DB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051FAC-6264-4E7C-8646-2978C0EF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4C85B-97C7-4398-8DB2-AE642D83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37FFE-7AA3-473B-8F0B-B67AC3AA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FD2E-D5AA-4C8A-B494-6B1B943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00792-FBDC-47BF-81B2-CE527DFA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6E922-1861-42D9-B21C-B3C3AC89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63E53-773C-4621-B313-52B8EC89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15FEC-8A87-47E7-B78D-84F89769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DBA0C-915D-41DB-B5E1-5713BBC0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4A03D-FE32-45B2-8611-AB9257E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E78AC-AFB8-4C2E-B39C-4C6DEA0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CA851-4DB5-4B19-9EC0-5E103072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6A3C5-233D-4700-B03E-0B9A7CEA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D240F-6AE4-42D4-9478-F05497E2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15259-50C3-4EE3-A623-D614A2E6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BAFAB-F6A9-4C33-A7D4-AA9061F5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D63A5-462B-4EB0-9359-21929C97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56248-A47C-4D23-B472-818EE5B7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A5AB7-7704-482E-BBFF-1CA44B56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13048-2E70-4C3A-8F94-A4C5BC0E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836D8-FB43-466E-A70F-A5A40A9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51768-2D96-41CF-A751-A54C9AA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7930E-9270-498F-8617-A96EE642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28186-7C88-4A72-BCE6-DD9A3B96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267A7-157F-4F0B-8798-AD50EDAB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0202E-39DF-49AA-ADEA-61EC700C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AAAC6-CFFD-4A9B-803C-1EDCA7E0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32A82-6788-4C4B-97CF-27333C1E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E721A-0B25-4DC3-B7A1-5C54D69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BECBC-DCAC-41EF-950F-C3A91719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6D0C9-0732-4144-B50B-624CB45A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3823A-10F7-4B4B-9CB0-CC5B49CB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5DCA6-94AD-44EF-BE7D-3375307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9A8B2-A32F-46F8-92E2-E6442E63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600E2-25B9-4A6F-8DDE-3C5FDC47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793A7-32D8-4933-BF31-D3BC5732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7D0BB4-8964-43B5-9555-0EED5964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2CF6C-BC7E-4AAE-A52B-2384A421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1BB8B-2E88-4AF6-A400-1ED925C2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84A30-9C83-4DBC-8086-51FCD63C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166EC-714C-4265-92CA-6727122E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5BCBB-46DC-4A11-B997-630FBD94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F0A1A-B29E-4C72-A45B-D9631566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318C6-4D83-4F46-9AC3-5BDB598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E1797-F4FE-45F0-882F-98B1DFA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A79D5-6E2E-494C-9E5E-D0B48C7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55AFC-0643-45CE-9342-B2BA7B3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DCBC7-81B4-476F-ACF0-8E48D8C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A192D-E25F-4213-B3D1-73439E52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7F9DD-0414-47DD-BA6F-3B9B8A0B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0C04-11C0-41D6-8A4D-2304A0DFD8A3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DC57-552B-4448-B162-BA8DED162A8F}" type="datetime">
              <a:rPr b="0" lang="pl-PL" sz="1200" spc="-1" strike="noStrike">
                <a:solidFill>
                  <a:srgbClr val="9a9a9b"/>
                </a:solidFill>
                <a:latin typeface="Open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a9a9b"/>
                </a:solidFill>
                <a:latin typeface="Open Sans"/>
              </a:rPr>
              <a:t>opracowanie: D.BIAŁOWĄS_KBW OLSZT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5BEA-0F17-47EB-B470-F0B95A474ACA}" type="slidenum">
              <a:rPr b="0" lang="pl-PL" sz="1800" spc="-1" strike="noStrike">
                <a:solidFill>
                  <a:srgbClr val="5859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BEF7-83D7-4444-BE83-DC0E2E1F8188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3640-CC11-4DD5-B2D4-17BED40001A4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3629-F6FB-47D2-B4FA-1DE0DE5F2E7B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70A-C54B-45D2-9BD7-03C4D7EA925C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rójkąt prostokątny 12"/>
          <p:cNvSpPr/>
          <p:nvPr/>
        </p:nvSpPr>
        <p:spPr>
          <a:xfrm rot="10800000">
            <a:off x="1042920" y="-11520"/>
            <a:ext cx="8105760" cy="6869160"/>
          </a:xfrm>
          <a:custGeom>
            <a:avLst/>
            <a:gdLst/>
            <a:ahLst/>
            <a:rect l="l" t="t" r="r" b="b"/>
            <a:pathLst>
              <a:path w="8105223" h="6869157">
                <a:moveTo>
                  <a:pt x="4831" y="6869157"/>
                </a:moveTo>
                <a:cubicBezTo>
                  <a:pt x="5625" y="4579678"/>
                  <a:pt x="-726" y="2290200"/>
                  <a:pt x="68" y="721"/>
                </a:cubicBezTo>
                <a:lnTo>
                  <a:pt x="419698" y="0"/>
                </a:lnTo>
                <a:lnTo>
                  <a:pt x="8105223" y="6869157"/>
                </a:lnTo>
                <a:lnTo>
                  <a:pt x="4831" y="6869157"/>
                </a:lnTo>
                <a:close/>
              </a:path>
            </a:pathLst>
          </a:custGeom>
          <a:solidFill>
            <a:srgbClr val="9d0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Obraz 6" descr=""/>
          <p:cNvPicPr/>
          <p:nvPr/>
        </p:nvPicPr>
        <p:blipFill>
          <a:blip r:embed="rId2"/>
          <a:stretch/>
        </p:blipFill>
        <p:spPr>
          <a:xfrm>
            <a:off x="3938760" y="3162240"/>
            <a:ext cx="1266480" cy="533520"/>
          </a:xfrm>
          <a:prstGeom prst="rect">
            <a:avLst/>
          </a:prstGeom>
          <a:ln cap="sq" w="203040">
            <a:solidFill>
              <a:srgbClr val="ffffff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5"/>
          <p:cNvSpPr/>
          <p:nvPr/>
        </p:nvSpPr>
        <p:spPr>
          <a:xfrm>
            <a:off x="155520" y="-433440"/>
            <a:ext cx="77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rostokąt 2"/>
          <p:cNvSpPr/>
          <p:nvPr/>
        </p:nvSpPr>
        <p:spPr>
          <a:xfrm>
            <a:off x="392040" y="6083280"/>
            <a:ext cx="648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Opracowa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© Krajowe Biuro Wyborc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ole tekstowe 10" descr=""/>
          <p:cNvPicPr/>
          <p:nvPr/>
        </p:nvPicPr>
        <p:blipFill>
          <a:blip r:embed="rId2"/>
          <a:stretch/>
        </p:blipFill>
        <p:spPr>
          <a:xfrm>
            <a:off x="506520" y="2462040"/>
            <a:ext cx="8845560" cy="1281240"/>
          </a:xfrm>
          <a:prstGeom prst="rect">
            <a:avLst/>
          </a:prstGeom>
          <a:ln w="0">
            <a:noFill/>
          </a:ln>
        </p:spPr>
      </p:pic>
      <p:sp>
        <p:nvSpPr>
          <p:cNvPr id="535" name="Łącznik prostoliniowy 5"/>
          <p:cNvSpPr/>
          <p:nvPr/>
        </p:nvSpPr>
        <p:spPr>
          <a:xfrm>
            <a:off x="468360" y="3860640"/>
            <a:ext cx="842472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Obraz 9" descr="SS 2019 - logo.jpg"/>
          <p:cNvPicPr/>
          <p:nvPr/>
        </p:nvPicPr>
        <p:blipFill>
          <a:blip r:embed="rId3"/>
          <a:stretch/>
        </p:blipFill>
        <p:spPr>
          <a:xfrm>
            <a:off x="3656160" y="966960"/>
            <a:ext cx="1542960" cy="1184040"/>
          </a:xfrm>
          <a:prstGeom prst="rect">
            <a:avLst/>
          </a:prstGeom>
          <a:ln w="0">
            <a:noFill/>
          </a:ln>
        </p:spPr>
      </p:pic>
      <p:sp>
        <p:nvSpPr>
          <p:cNvPr id="537" name="Prostokąt 1"/>
          <p:cNvSpPr/>
          <p:nvPr/>
        </p:nvSpPr>
        <p:spPr>
          <a:xfrm>
            <a:off x="214200" y="4059360"/>
            <a:ext cx="871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SZKOL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CZŁONKÓW OBWODOWYCH KOMISJI WYBORCZY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Kwalifikacja ważności gł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smo odręczne 10" descr=""/>
          <p:cNvPicPr/>
          <p:nvPr/>
        </p:nvPicPr>
        <p:blipFill>
          <a:blip r:embed="rId1"/>
          <a:stretch/>
        </p:blipFill>
        <p:spPr>
          <a:xfrm>
            <a:off x="30240" y="1887480"/>
            <a:ext cx="2616120" cy="2482920"/>
          </a:xfrm>
          <a:prstGeom prst="rect">
            <a:avLst/>
          </a:prstGeom>
          <a:ln w="0">
            <a:noFill/>
          </a:ln>
        </p:spPr>
      </p:pic>
      <p:pic>
        <p:nvPicPr>
          <p:cNvPr id="589" name="Pismo odręczne 11" descr=""/>
          <p:cNvPicPr/>
          <p:nvPr/>
        </p:nvPicPr>
        <p:blipFill>
          <a:blip r:embed="rId2"/>
          <a:stretch/>
        </p:blipFill>
        <p:spPr>
          <a:xfrm>
            <a:off x="441360" y="2087640"/>
            <a:ext cx="2720880" cy="2182680"/>
          </a:xfrm>
          <a:prstGeom prst="rect">
            <a:avLst/>
          </a:prstGeom>
          <a:ln w="0">
            <a:noFill/>
          </a:ln>
        </p:spPr>
      </p:pic>
      <p:pic>
        <p:nvPicPr>
          <p:cNvPr id="590" name="Pismo odręczne 12" descr=""/>
          <p:cNvPicPr/>
          <p:nvPr/>
        </p:nvPicPr>
        <p:blipFill>
          <a:blip r:embed="rId3"/>
          <a:stretch/>
        </p:blipFill>
        <p:spPr>
          <a:xfrm>
            <a:off x="573120" y="2463840"/>
            <a:ext cx="2583000" cy="2116080"/>
          </a:xfrm>
          <a:prstGeom prst="rect">
            <a:avLst/>
          </a:prstGeom>
          <a:ln w="0">
            <a:noFill/>
          </a:ln>
        </p:spPr>
      </p:pic>
      <p:pic>
        <p:nvPicPr>
          <p:cNvPr id="591" name="Pismo odręczne 14" descr=""/>
          <p:cNvPicPr/>
          <p:nvPr/>
        </p:nvPicPr>
        <p:blipFill>
          <a:blip r:embed="rId4"/>
          <a:stretch/>
        </p:blipFill>
        <p:spPr>
          <a:xfrm>
            <a:off x="689040" y="1887480"/>
            <a:ext cx="1187280" cy="3562560"/>
          </a:xfrm>
          <a:prstGeom prst="rect">
            <a:avLst/>
          </a:prstGeom>
          <a:ln w="0">
            <a:noFill/>
          </a:ln>
        </p:spPr>
      </p:pic>
      <p:sp>
        <p:nvSpPr>
          <p:cNvPr id="592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1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smo odręczne 9" descr=""/>
          <p:cNvPicPr/>
          <p:nvPr/>
        </p:nvPicPr>
        <p:blipFill>
          <a:blip r:embed="rId1"/>
          <a:stretch/>
        </p:blipFill>
        <p:spPr>
          <a:xfrm>
            <a:off x="1014480" y="1227240"/>
            <a:ext cx="3352680" cy="3220920"/>
          </a:xfrm>
          <a:prstGeom prst="rect">
            <a:avLst/>
          </a:prstGeom>
          <a:ln w="0">
            <a:noFill/>
          </a:ln>
        </p:spPr>
      </p:pic>
      <p:sp>
        <p:nvSpPr>
          <p:cNvPr id="597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1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smo odręczne 9" descr=""/>
          <p:cNvPicPr/>
          <p:nvPr/>
        </p:nvPicPr>
        <p:blipFill>
          <a:blip r:embed="rId1"/>
          <a:stretch/>
        </p:blipFill>
        <p:spPr>
          <a:xfrm>
            <a:off x="841320" y="155088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602" name="Pismo odręczne 11" descr=""/>
          <p:cNvPicPr/>
          <p:nvPr/>
        </p:nvPicPr>
        <p:blipFill>
          <a:blip r:embed="rId2"/>
          <a:stretch/>
        </p:blipFill>
        <p:spPr>
          <a:xfrm>
            <a:off x="2209680" y="1468440"/>
            <a:ext cx="1820880" cy="1941480"/>
          </a:xfrm>
          <a:prstGeom prst="rect">
            <a:avLst/>
          </a:prstGeom>
          <a:ln w="0">
            <a:noFill/>
          </a:ln>
        </p:spPr>
      </p:pic>
      <p:sp>
        <p:nvSpPr>
          <p:cNvPr id="603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1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Trzy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smo odręczne 22" descr=""/>
          <p:cNvPicPr/>
          <p:nvPr/>
        </p:nvPicPr>
        <p:blipFill>
          <a:blip r:embed="rId1"/>
          <a:stretch/>
        </p:blipFill>
        <p:spPr>
          <a:xfrm>
            <a:off x="2419200" y="1909800"/>
            <a:ext cx="1258920" cy="874800"/>
          </a:xfrm>
          <a:prstGeom prst="rect">
            <a:avLst/>
          </a:prstGeom>
          <a:ln w="0">
            <a:noFill/>
          </a:ln>
        </p:spPr>
      </p:pic>
      <p:pic>
        <p:nvPicPr>
          <p:cNvPr id="608" name="Pismo odręczne 24" descr=""/>
          <p:cNvPicPr/>
          <p:nvPr/>
        </p:nvPicPr>
        <p:blipFill>
          <a:blip r:embed="rId2"/>
          <a:stretch/>
        </p:blipFill>
        <p:spPr>
          <a:xfrm>
            <a:off x="2457360" y="1693800"/>
            <a:ext cx="1435320" cy="1041480"/>
          </a:xfrm>
          <a:prstGeom prst="rect">
            <a:avLst/>
          </a:prstGeom>
          <a:ln w="0">
            <a:noFill/>
          </a:ln>
        </p:spPr>
      </p:pic>
      <p:sp>
        <p:nvSpPr>
          <p:cNvPr id="609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1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1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smo odręczne 24" descr=""/>
          <p:cNvPicPr/>
          <p:nvPr/>
        </p:nvPicPr>
        <p:blipFill>
          <a:blip r:embed="rId1"/>
          <a:stretch/>
        </p:blipFill>
        <p:spPr>
          <a:xfrm>
            <a:off x="1278000" y="1476360"/>
            <a:ext cx="2897280" cy="1596960"/>
          </a:xfrm>
          <a:prstGeom prst="rect">
            <a:avLst/>
          </a:prstGeom>
          <a:ln w="0">
            <a:noFill/>
          </a:ln>
        </p:spPr>
      </p:pic>
      <p:pic>
        <p:nvPicPr>
          <p:cNvPr id="614" name="Pismo odręczne 28" descr=""/>
          <p:cNvPicPr/>
          <p:nvPr/>
        </p:nvPicPr>
        <p:blipFill>
          <a:blip r:embed="rId2"/>
          <a:stretch/>
        </p:blipFill>
        <p:spPr>
          <a:xfrm>
            <a:off x="768240" y="1587600"/>
            <a:ext cx="2614680" cy="2836800"/>
          </a:xfrm>
          <a:prstGeom prst="rect">
            <a:avLst/>
          </a:prstGeom>
          <a:ln w="0">
            <a:noFill/>
          </a:ln>
        </p:spPr>
      </p:pic>
      <p:pic>
        <p:nvPicPr>
          <p:cNvPr id="615" name="Pismo odręczne 30" descr=""/>
          <p:cNvPicPr/>
          <p:nvPr/>
        </p:nvPicPr>
        <p:blipFill>
          <a:blip r:embed="rId3"/>
          <a:stretch/>
        </p:blipFill>
        <p:spPr>
          <a:xfrm>
            <a:off x="1204920" y="1542960"/>
            <a:ext cx="2139840" cy="3003480"/>
          </a:xfrm>
          <a:prstGeom prst="rect">
            <a:avLst/>
          </a:prstGeom>
          <a:ln w="0">
            <a:noFill/>
          </a:ln>
        </p:spPr>
      </p:pic>
      <p:sp>
        <p:nvSpPr>
          <p:cNvPr id="616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smo odręczne 34" descr=""/>
          <p:cNvPicPr/>
          <p:nvPr/>
        </p:nvPicPr>
        <p:blipFill>
          <a:blip r:embed="rId1"/>
          <a:stretch/>
        </p:blipFill>
        <p:spPr>
          <a:xfrm>
            <a:off x="1322280" y="2335320"/>
            <a:ext cx="1208160" cy="344520"/>
          </a:xfrm>
          <a:prstGeom prst="rect">
            <a:avLst/>
          </a:prstGeom>
          <a:ln w="0">
            <a:noFill/>
          </a:ln>
        </p:spPr>
      </p:pic>
      <p:pic>
        <p:nvPicPr>
          <p:cNvPr id="621" name="Pismo odręczne 35" descr=""/>
          <p:cNvPicPr/>
          <p:nvPr/>
        </p:nvPicPr>
        <p:blipFill>
          <a:blip r:embed="rId2"/>
          <a:stretch/>
        </p:blipFill>
        <p:spPr>
          <a:xfrm>
            <a:off x="1333440" y="2602080"/>
            <a:ext cx="316080" cy="1118880"/>
          </a:xfrm>
          <a:prstGeom prst="rect">
            <a:avLst/>
          </a:prstGeom>
          <a:ln w="0">
            <a:noFill/>
          </a:ln>
        </p:spPr>
      </p:pic>
      <p:pic>
        <p:nvPicPr>
          <p:cNvPr id="622" name="Pismo odręczne 36" descr=""/>
          <p:cNvPicPr/>
          <p:nvPr/>
        </p:nvPicPr>
        <p:blipFill>
          <a:blip r:embed="rId3"/>
          <a:stretch/>
        </p:blipFill>
        <p:spPr>
          <a:xfrm>
            <a:off x="1616040" y="2935440"/>
            <a:ext cx="581040" cy="765000"/>
          </a:xfrm>
          <a:prstGeom prst="rect">
            <a:avLst/>
          </a:prstGeom>
          <a:ln w="0">
            <a:noFill/>
          </a:ln>
        </p:spPr>
      </p:pic>
      <p:pic>
        <p:nvPicPr>
          <p:cNvPr id="623" name="Pismo odręczne 40" descr=""/>
          <p:cNvPicPr/>
          <p:nvPr/>
        </p:nvPicPr>
        <p:blipFill>
          <a:blip r:embed="rId4"/>
          <a:stretch/>
        </p:blipFill>
        <p:spPr>
          <a:xfrm>
            <a:off x="2330280" y="3006720"/>
            <a:ext cx="498600" cy="631800"/>
          </a:xfrm>
          <a:prstGeom prst="rect">
            <a:avLst/>
          </a:prstGeom>
          <a:ln w="0">
            <a:noFill/>
          </a:ln>
        </p:spPr>
      </p:pic>
      <p:sp>
        <p:nvSpPr>
          <p:cNvPr id="624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smo odręczne 4" descr=""/>
          <p:cNvPicPr/>
          <p:nvPr/>
        </p:nvPicPr>
        <p:blipFill>
          <a:blip r:embed="rId1"/>
          <a:stretch/>
        </p:blipFill>
        <p:spPr>
          <a:xfrm>
            <a:off x="1620720" y="2557440"/>
            <a:ext cx="871560" cy="882720"/>
          </a:xfrm>
          <a:prstGeom prst="rect">
            <a:avLst/>
          </a:prstGeom>
          <a:ln w="0">
            <a:noFill/>
          </a:ln>
        </p:spPr>
      </p:pic>
      <p:pic>
        <p:nvPicPr>
          <p:cNvPr id="629" name="Pismo odręczne 8" descr=""/>
          <p:cNvPicPr/>
          <p:nvPr/>
        </p:nvPicPr>
        <p:blipFill>
          <a:blip r:embed="rId2"/>
          <a:stretch/>
        </p:blipFill>
        <p:spPr>
          <a:xfrm>
            <a:off x="-1521000" y="237024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630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1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1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smo odręczne 3" descr=""/>
          <p:cNvPicPr/>
          <p:nvPr/>
        </p:nvPicPr>
        <p:blipFill>
          <a:blip r:embed="rId1"/>
          <a:stretch/>
        </p:blipFill>
        <p:spPr>
          <a:xfrm>
            <a:off x="1936800" y="3132000"/>
            <a:ext cx="144360" cy="174600"/>
          </a:xfrm>
          <a:prstGeom prst="rect">
            <a:avLst/>
          </a:prstGeom>
          <a:ln w="0">
            <a:noFill/>
          </a:ln>
        </p:spPr>
      </p:pic>
      <p:sp>
        <p:nvSpPr>
          <p:cNvPr id="635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1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rostokąt 37"/>
          <p:cNvSpPr/>
          <p:nvPr/>
        </p:nvSpPr>
        <p:spPr>
          <a:xfrm>
            <a:off x="1598760" y="981000"/>
            <a:ext cx="5041800" cy="576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ole tekstowe 2"/>
          <p:cNvSpPr/>
          <p:nvPr/>
        </p:nvSpPr>
        <p:spPr>
          <a:xfrm>
            <a:off x="900000" y="4046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 I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Obraz 1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495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ole tekstowe 17"/>
          <p:cNvSpPr/>
          <p:nvPr/>
        </p:nvSpPr>
        <p:spPr>
          <a:xfrm>
            <a:off x="5724360" y="2205000"/>
            <a:ext cx="41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KARTA DO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2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ole tekstowe 1"/>
          <p:cNvSpPr/>
          <p:nvPr/>
        </p:nvSpPr>
        <p:spPr>
          <a:xfrm>
            <a:off x="108000" y="177336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2"/>
          <p:cNvSpPr/>
          <p:nvPr/>
        </p:nvSpPr>
        <p:spPr>
          <a:xfrm>
            <a:off x="248436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rostokąt 1"/>
          <p:cNvSpPr/>
          <p:nvPr/>
        </p:nvSpPr>
        <p:spPr>
          <a:xfrm>
            <a:off x="250920" y="422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ole tekstowe 2"/>
          <p:cNvSpPr/>
          <p:nvPr/>
        </p:nvSpPr>
        <p:spPr>
          <a:xfrm>
            <a:off x="826920" y="507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KWALIFIKACJA WAŻNOŚCI GŁOSÓW -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3" descr="j0233018"/>
          <p:cNvPicPr/>
          <p:nvPr/>
        </p:nvPicPr>
        <p:blipFill>
          <a:blip r:embed="rId1"/>
          <a:stretch/>
        </p:blipFill>
        <p:spPr>
          <a:xfrm>
            <a:off x="2700360" y="2565360"/>
            <a:ext cx="4032360" cy="2921040"/>
          </a:xfrm>
          <a:prstGeom prst="rect">
            <a:avLst/>
          </a:prstGeom>
          <a:ln w="0">
            <a:noFill/>
          </a:ln>
        </p:spPr>
      </p:pic>
      <p:sp>
        <p:nvSpPr>
          <p:cNvPr id="645" name="AutoShape 10"/>
          <p:cNvSpPr/>
          <p:nvPr/>
        </p:nvSpPr>
        <p:spPr>
          <a:xfrm>
            <a:off x="324000" y="2749680"/>
            <a:ext cx="3238200" cy="961920"/>
          </a:xfrm>
          <a:prstGeom prst="cloudCallout">
            <a:avLst>
              <a:gd name="adj1" fmla="val 51898"/>
              <a:gd name="adj2" fmla="val 94962"/>
            </a:avLst>
          </a:prstGeom>
          <a:solidFill>
            <a:srgbClr val="9d032a"/>
          </a:solidFill>
          <a:ln w="38160">
            <a:solidFill>
              <a:srgbClr val="bfbfbf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Franklin Gothic Book"/>
              </a:rPr>
              <a:t>Głos 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8"/>
          <p:cNvSpPr/>
          <p:nvPr/>
        </p:nvSpPr>
        <p:spPr>
          <a:xfrm>
            <a:off x="2124000" y="1413000"/>
            <a:ext cx="2519280" cy="1079280"/>
          </a:xfrm>
          <a:prstGeom prst="cloudCallout">
            <a:avLst>
              <a:gd name="adj1" fmla="val 59583"/>
              <a:gd name="adj2" fmla="val 110754"/>
            </a:avLst>
          </a:prstGeom>
          <a:solidFill>
            <a:srgbClr val="ffffff"/>
          </a:solidFill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Franklin Gothic Book"/>
              </a:rPr>
              <a:t>Głos </a:t>
            </a:r>
            <a:r>
              <a:rPr b="1" lang="pl-PL" sz="2400" spc="-1" strike="noStrike">
                <a:solidFill>
                  <a:srgbClr val="9d032a"/>
                </a:solidFill>
                <a:latin typeface="Franklin Gothic Book"/>
              </a:rPr>
              <a:t>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2"/>
          <p:cNvSpPr/>
          <p:nvPr/>
        </p:nvSpPr>
        <p:spPr>
          <a:xfrm>
            <a:off x="6300720" y="1628640"/>
            <a:ext cx="2600280" cy="928800"/>
          </a:xfrm>
          <a:prstGeom prst="cloudCallout">
            <a:avLst>
              <a:gd name="adj1" fmla="val -41550"/>
              <a:gd name="adj2" fmla="val 131060"/>
            </a:avLst>
          </a:prstGeom>
          <a:solidFill>
            <a:srgbClr val="bfbfbf"/>
          </a:solidFill>
          <a:ln w="38160">
            <a:solidFill>
              <a:srgbClr val="9d032a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6499080" y="3135240"/>
            <a:ext cx="2448000" cy="1152720"/>
          </a:xfrm>
          <a:prstGeom prst="cloudCallout">
            <a:avLst>
              <a:gd name="adj1" fmla="val -84296"/>
              <a:gd name="adj2" fmla="val 102175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1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52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53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ole tekstowe 9"/>
          <p:cNvSpPr/>
          <p:nvPr/>
        </p:nvSpPr>
        <p:spPr>
          <a:xfrm>
            <a:off x="6480000" y="2133720"/>
            <a:ext cx="2592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kandydata tylko na je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1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Łącznik prosty 10"/>
          <p:cNvSpPr/>
          <p:nvPr/>
        </p:nvSpPr>
        <p:spPr>
          <a:xfrm>
            <a:off x="231840" y="196704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Łącznik prosty 11"/>
          <p:cNvSpPr/>
          <p:nvPr/>
        </p:nvSpPr>
        <p:spPr>
          <a:xfrm flipV="1">
            <a:off x="212760" y="19638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owolny kształt 11"/>
          <p:cNvSpPr/>
          <p:nvPr/>
        </p:nvSpPr>
        <p:spPr>
          <a:xfrm>
            <a:off x="393840" y="3898800"/>
            <a:ext cx="577800" cy="146160"/>
          </a:xfrm>
          <a:custGeom>
            <a:avLst/>
            <a:gdLst/>
            <a:ahLst/>
            <a:rect l="l" t="t" r="r" b="b"/>
            <a:pathLst>
              <a:path w="1346467" h="95988">
                <a:moveTo>
                  <a:pt x="40944" y="68692"/>
                </a:moveTo>
                <a:cubicBezTo>
                  <a:pt x="209266" y="64143"/>
                  <a:pt x="377527" y="55044"/>
                  <a:pt x="545911" y="55044"/>
                </a:cubicBezTo>
                <a:cubicBezTo>
                  <a:pt x="623382" y="55044"/>
                  <a:pt x="700743" y="61981"/>
                  <a:pt x="777923" y="68692"/>
                </a:cubicBezTo>
                <a:cubicBezTo>
                  <a:pt x="805491" y="71089"/>
                  <a:pt x="832796" y="76337"/>
                  <a:pt x="859809" y="82340"/>
                </a:cubicBezTo>
                <a:cubicBezTo>
                  <a:pt x="873853" y="85461"/>
                  <a:pt x="915139" y="95988"/>
                  <a:pt x="900753" y="95988"/>
                </a:cubicBezTo>
                <a:cubicBezTo>
                  <a:pt x="600468" y="95988"/>
                  <a:pt x="300251" y="86889"/>
                  <a:pt x="0" y="82340"/>
                </a:cubicBezTo>
                <a:cubicBezTo>
                  <a:pt x="36394" y="77791"/>
                  <a:pt x="73797" y="78342"/>
                  <a:pt x="109182" y="68692"/>
                </a:cubicBezTo>
                <a:cubicBezTo>
                  <a:pt x="125007" y="64376"/>
                  <a:pt x="133737" y="42071"/>
                  <a:pt x="150126" y="41397"/>
                </a:cubicBezTo>
                <a:cubicBezTo>
                  <a:pt x="468338" y="28320"/>
                  <a:pt x="787021" y="32298"/>
                  <a:pt x="1105469" y="27749"/>
                </a:cubicBezTo>
                <a:cubicBezTo>
                  <a:pt x="1123666" y="23200"/>
                  <a:pt x="1141491" y="16754"/>
                  <a:pt x="1160060" y="14101"/>
                </a:cubicBezTo>
                <a:cubicBezTo>
                  <a:pt x="1258763" y="0"/>
                  <a:pt x="1346467" y="453"/>
                  <a:pt x="1282890" y="453"/>
                </a:cubicBezTo>
              </a:path>
            </a:pathLst>
          </a:custGeom>
          <a:noFill/>
          <a:ln w="2232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ole tekstowe 14"/>
          <p:cNvSpPr/>
          <p:nvPr/>
        </p:nvSpPr>
        <p:spPr>
          <a:xfrm rot="19073400">
            <a:off x="232560" y="316548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e75b6"/>
                </a:solidFill>
                <a:latin typeface="Calibri"/>
              </a:rPr>
              <a:t>Nie głosuj na niego !!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załka w dół 15"/>
          <p:cNvSpPr/>
          <p:nvPr/>
        </p:nvSpPr>
        <p:spPr>
          <a:xfrm rot="2950200">
            <a:off x="658800" y="3566880"/>
            <a:ext cx="46080" cy="334800"/>
          </a:xfrm>
          <a:prstGeom prst="downArrow">
            <a:avLst>
              <a:gd name="adj1" fmla="val 50000"/>
              <a:gd name="adj2" fmla="val 49918"/>
            </a:avLst>
          </a:prstGeom>
          <a:solidFill>
            <a:srgbClr val="376092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Uśmiechnięta buźka 13"/>
          <p:cNvSpPr/>
          <p:nvPr/>
        </p:nvSpPr>
        <p:spPr>
          <a:xfrm>
            <a:off x="611280" y="4133880"/>
            <a:ext cx="288720" cy="30312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ole tekstowe 19"/>
          <p:cNvSpPr/>
          <p:nvPr/>
        </p:nvSpPr>
        <p:spPr>
          <a:xfrm>
            <a:off x="6437160" y="4076640"/>
            <a:ext cx="2592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szelkie znaki, wykreślenia, przekreślenia,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tym również i znak „X” postawiony przez wyborcę poza przeznaczoną na to kratką, traktuje się jako dopiski, które nie wpływają na ważność gło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65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66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ole tekstowe 9"/>
          <p:cNvSpPr/>
          <p:nvPr/>
        </p:nvSpPr>
        <p:spPr>
          <a:xfrm>
            <a:off x="6480000" y="2060640"/>
            <a:ext cx="2592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 obok nazwisk dwóch lub więcej kandydatów </a:t>
            </a:r>
            <a:r>
              <a:rPr b="1" lang="pl-PL" sz="1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z tej samej lis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taki uważa się za ważnie oddany na daną listę i zalicza kandydatowi, którego nazwisko jest umieszczone najwyżej na tej liście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od innych nazwisk, przy których również postawiono znak „X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2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Łącznik prosty 10"/>
          <p:cNvSpPr/>
          <p:nvPr/>
        </p:nvSpPr>
        <p:spPr>
          <a:xfrm>
            <a:off x="1076400" y="1947960"/>
            <a:ext cx="1108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Łącznik prosty 11"/>
          <p:cNvSpPr/>
          <p:nvPr/>
        </p:nvSpPr>
        <p:spPr>
          <a:xfrm flipV="1">
            <a:off x="1057320" y="196668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Łącznik prosty 17"/>
          <p:cNvSpPr/>
          <p:nvPr/>
        </p:nvSpPr>
        <p:spPr>
          <a:xfrm flipV="1">
            <a:off x="1042920" y="32130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Łącznik prosty 20"/>
          <p:cNvSpPr/>
          <p:nvPr/>
        </p:nvSpPr>
        <p:spPr>
          <a:xfrm>
            <a:off x="1076400" y="320040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Łącznik prosty 21"/>
          <p:cNvSpPr/>
          <p:nvPr/>
        </p:nvSpPr>
        <p:spPr>
          <a:xfrm>
            <a:off x="1079640" y="54435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Łącznik prosty 22"/>
          <p:cNvSpPr/>
          <p:nvPr/>
        </p:nvSpPr>
        <p:spPr>
          <a:xfrm flipV="1">
            <a:off x="1042920" y="544356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6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77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78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ole tekstowe 9"/>
          <p:cNvSpPr/>
          <p:nvPr/>
        </p:nvSpPr>
        <p:spPr>
          <a:xfrm>
            <a:off x="6480000" y="2060640"/>
            <a:ext cx="25927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innego kandydata z tej samej lis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zalicza się nieskreślonemu kandydatow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3 kandydata nr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Łącznik prosty 10"/>
          <p:cNvSpPr/>
          <p:nvPr/>
        </p:nvSpPr>
        <p:spPr>
          <a:xfrm>
            <a:off x="1940040" y="2583000"/>
            <a:ext cx="1108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Łącznik prosty 11"/>
          <p:cNvSpPr/>
          <p:nvPr/>
        </p:nvSpPr>
        <p:spPr>
          <a:xfrm flipV="1">
            <a:off x="1913040" y="257004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7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88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689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ole tekstowe 9"/>
          <p:cNvSpPr/>
          <p:nvPr/>
        </p:nvSpPr>
        <p:spPr>
          <a:xfrm>
            <a:off x="6480000" y="2060640"/>
            <a:ext cx="259272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innego kandydata z innej (</a:t>
            </a: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ale tylko jednej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) lis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jest na kandydata z innej listy i na tę list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4 kandydata nr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Łącznik prosty 10"/>
          <p:cNvSpPr/>
          <p:nvPr/>
        </p:nvSpPr>
        <p:spPr>
          <a:xfrm>
            <a:off x="2797200" y="246708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Łącznik prosty 11"/>
          <p:cNvSpPr/>
          <p:nvPr/>
        </p:nvSpPr>
        <p:spPr>
          <a:xfrm flipV="1">
            <a:off x="2762280" y="246672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69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0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ole tekstowe 9"/>
          <p:cNvSpPr/>
          <p:nvPr/>
        </p:nvSpPr>
        <p:spPr>
          <a:xfrm>
            <a:off x="6480000" y="2060640"/>
            <a:ext cx="259272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 </a:t>
            </a:r>
            <a:r>
              <a:rPr b="1" lang="pl-PL" sz="1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jedynie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listę ale nie zaliczony żadnemu kandydatowi z tej li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Łącznik prosty 17"/>
          <p:cNvSpPr/>
          <p:nvPr/>
        </p:nvSpPr>
        <p:spPr>
          <a:xfrm flipV="1">
            <a:off x="1890720" y="346392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Łącznik prosty 20"/>
          <p:cNvSpPr/>
          <p:nvPr/>
        </p:nvSpPr>
        <p:spPr>
          <a:xfrm>
            <a:off x="1951200" y="34653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rostokąt 12"/>
          <p:cNvSpPr/>
          <p:nvPr/>
        </p:nvSpPr>
        <p:spPr>
          <a:xfrm>
            <a:off x="1962360" y="3444840"/>
            <a:ext cx="910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wal 1"/>
          <p:cNvSpPr/>
          <p:nvPr/>
        </p:nvSpPr>
        <p:spPr>
          <a:xfrm>
            <a:off x="1979640" y="1341360"/>
            <a:ext cx="792000" cy="287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0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1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ole tekstowe 9"/>
          <p:cNvSpPr/>
          <p:nvPr/>
        </p:nvSpPr>
        <p:spPr>
          <a:xfrm>
            <a:off x="6480000" y="2060640"/>
            <a:ext cx="2592720" cy="34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kandydata z listy, której rejestrację unieważniono oraz postawiono znak „X” w kratce obok nazwiska kandydata z innej (</a:t>
            </a: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ale tylko jednej</a:t>
            </a: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) lis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jest oddany na kandydata z innej listy i na tę list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5 kandydata nr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Łącznik prosty 17"/>
          <p:cNvSpPr/>
          <p:nvPr/>
        </p:nvSpPr>
        <p:spPr>
          <a:xfrm flipV="1">
            <a:off x="2741760" y="383220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Łącznik prosty 20"/>
          <p:cNvSpPr/>
          <p:nvPr/>
        </p:nvSpPr>
        <p:spPr>
          <a:xfrm>
            <a:off x="2811600" y="386064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Łącznik prosty 12"/>
          <p:cNvSpPr/>
          <p:nvPr/>
        </p:nvSpPr>
        <p:spPr>
          <a:xfrm flipV="1">
            <a:off x="3598920" y="246996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Łącznik prosty 15"/>
          <p:cNvSpPr/>
          <p:nvPr/>
        </p:nvSpPr>
        <p:spPr>
          <a:xfrm>
            <a:off x="3641760" y="246708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rostokąt 12"/>
          <p:cNvSpPr/>
          <p:nvPr/>
        </p:nvSpPr>
        <p:spPr>
          <a:xfrm>
            <a:off x="2765520" y="1316160"/>
            <a:ext cx="1217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2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2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ole tekstowe 9"/>
          <p:cNvSpPr/>
          <p:nvPr/>
        </p:nvSpPr>
        <p:spPr>
          <a:xfrm>
            <a:off x="6480000" y="2133720"/>
            <a:ext cx="2592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kandydata tylko na je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listę nr 3 kandydata n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Łącznik prosty 10"/>
          <p:cNvSpPr/>
          <p:nvPr/>
        </p:nvSpPr>
        <p:spPr>
          <a:xfrm>
            <a:off x="1936800" y="2216160"/>
            <a:ext cx="1112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Łącznik prosty 11"/>
          <p:cNvSpPr/>
          <p:nvPr/>
        </p:nvSpPr>
        <p:spPr>
          <a:xfrm flipV="1">
            <a:off x="1908000" y="220500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Dowolny kształt 11"/>
          <p:cNvSpPr/>
          <p:nvPr/>
        </p:nvSpPr>
        <p:spPr>
          <a:xfrm>
            <a:off x="2878200" y="2411280"/>
            <a:ext cx="885600" cy="146160"/>
          </a:xfrm>
          <a:custGeom>
            <a:avLst/>
            <a:gdLst/>
            <a:ahLst/>
            <a:rect l="l" t="t" r="r" b="b"/>
            <a:pathLst>
              <a:path w="1346467" h="95988">
                <a:moveTo>
                  <a:pt x="40944" y="68692"/>
                </a:moveTo>
                <a:cubicBezTo>
                  <a:pt x="209266" y="64143"/>
                  <a:pt x="377527" y="55044"/>
                  <a:pt x="545911" y="55044"/>
                </a:cubicBezTo>
                <a:cubicBezTo>
                  <a:pt x="623382" y="55044"/>
                  <a:pt x="700743" y="61981"/>
                  <a:pt x="777923" y="68692"/>
                </a:cubicBezTo>
                <a:cubicBezTo>
                  <a:pt x="805491" y="71089"/>
                  <a:pt x="832796" y="76337"/>
                  <a:pt x="859809" y="82340"/>
                </a:cubicBezTo>
                <a:cubicBezTo>
                  <a:pt x="873853" y="85461"/>
                  <a:pt x="915139" y="95988"/>
                  <a:pt x="900753" y="95988"/>
                </a:cubicBezTo>
                <a:cubicBezTo>
                  <a:pt x="600468" y="95988"/>
                  <a:pt x="300251" y="86889"/>
                  <a:pt x="0" y="82340"/>
                </a:cubicBezTo>
                <a:cubicBezTo>
                  <a:pt x="36394" y="77791"/>
                  <a:pt x="73797" y="78342"/>
                  <a:pt x="109182" y="68692"/>
                </a:cubicBezTo>
                <a:cubicBezTo>
                  <a:pt x="125007" y="64376"/>
                  <a:pt x="133737" y="42071"/>
                  <a:pt x="150126" y="41397"/>
                </a:cubicBezTo>
                <a:cubicBezTo>
                  <a:pt x="468338" y="28320"/>
                  <a:pt x="787021" y="32298"/>
                  <a:pt x="1105469" y="27749"/>
                </a:cubicBezTo>
                <a:cubicBezTo>
                  <a:pt x="1123666" y="23200"/>
                  <a:pt x="1141491" y="16754"/>
                  <a:pt x="1160060" y="14101"/>
                </a:cubicBezTo>
                <a:cubicBezTo>
                  <a:pt x="1258763" y="0"/>
                  <a:pt x="1346467" y="453"/>
                  <a:pt x="1282890" y="453"/>
                </a:cubicBezTo>
              </a:path>
            </a:pathLst>
          </a:custGeom>
          <a:noFill/>
          <a:ln w="2232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ole tekstowe 19"/>
          <p:cNvSpPr/>
          <p:nvPr/>
        </p:nvSpPr>
        <p:spPr>
          <a:xfrm>
            <a:off x="6437160" y="4367160"/>
            <a:ext cx="25927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szelkie inne znaki niż znak „X”, tj. niebędą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co najmniej dwiema liniami, które przecinają się w obrębie kratki,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niesione w obrębie kratki, również nie wpływają na ważność gło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3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3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ole tekstowe 9"/>
          <p:cNvSpPr/>
          <p:nvPr/>
        </p:nvSpPr>
        <p:spPr>
          <a:xfrm>
            <a:off x="6480000" y="2060640"/>
            <a:ext cx="259272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przy nazwiskach kandydatów 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 różnych list kandydatów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tj. z więcej niż jednej listy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Łącznik prosty 17"/>
          <p:cNvSpPr/>
          <p:nvPr/>
        </p:nvSpPr>
        <p:spPr>
          <a:xfrm flipV="1">
            <a:off x="4448160" y="3956040"/>
            <a:ext cx="1810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Łącznik prosty 20"/>
          <p:cNvSpPr/>
          <p:nvPr/>
        </p:nvSpPr>
        <p:spPr>
          <a:xfrm>
            <a:off x="4500720" y="397512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Łącznik prosty 12"/>
          <p:cNvSpPr/>
          <p:nvPr/>
        </p:nvSpPr>
        <p:spPr>
          <a:xfrm flipV="1">
            <a:off x="3618000" y="185256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Łącznik prosty 15"/>
          <p:cNvSpPr/>
          <p:nvPr/>
        </p:nvSpPr>
        <p:spPr>
          <a:xfrm>
            <a:off x="3632040" y="1854360"/>
            <a:ext cx="1112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9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40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41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ole tekstowe 9"/>
          <p:cNvSpPr/>
          <p:nvPr/>
        </p:nvSpPr>
        <p:spPr>
          <a:xfrm>
            <a:off x="6480000" y="2060640"/>
            <a:ext cx="2592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yborca postawił znak „X” jedynie w kratce obok nazwiska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 listy, której rejestrację unieważni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rostokąt 12"/>
          <p:cNvSpPr/>
          <p:nvPr/>
        </p:nvSpPr>
        <p:spPr>
          <a:xfrm>
            <a:off x="2765520" y="1316160"/>
            <a:ext cx="1217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" spc="-1" strike="noStrike">
                <a:solidFill>
                  <a:srgbClr val="ff0000"/>
                </a:solidFill>
                <a:latin typeface="Arial"/>
              </a:rPr>
              <a:t>Unieważniona list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Łącznik prosty 11"/>
          <p:cNvSpPr/>
          <p:nvPr/>
        </p:nvSpPr>
        <p:spPr>
          <a:xfrm flipV="1">
            <a:off x="2762280" y="2342880"/>
            <a:ext cx="18108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Łącznik prosty 12"/>
          <p:cNvSpPr/>
          <p:nvPr/>
        </p:nvSpPr>
        <p:spPr>
          <a:xfrm>
            <a:off x="2797200" y="2340000"/>
            <a:ext cx="1112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rostokąt 1"/>
          <p:cNvSpPr/>
          <p:nvPr/>
        </p:nvSpPr>
        <p:spPr>
          <a:xfrm>
            <a:off x="7920" y="1484280"/>
            <a:ext cx="78487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Franklin Gothic Book"/>
              </a:rPr>
              <a:t>Ustalając, czy głos na karcie jest ważny, czy nieważny, OKW stosuje poniższe regu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3333ff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ff"/>
                </a:solidFill>
                <a:latin typeface="Franklin Gothic Book"/>
              </a:rPr>
              <a:t>znakiem „X” postawionym w kratce są co najmniej dwie linie, które przecinają się w obrębie krat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Ustalenie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czy postawiony znak jest znakiem „X” w rozumieniu Kodeksu wyborczego oraz, czy postawiony jest on w kratce, czy poza nią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należy</a:t>
            </a:r>
            <a:r>
              <a:rPr b="1" lang="pl-PL" sz="1800" spc="-1" strike="noStrike" u="sng">
                <a:solidFill>
                  <a:srgbClr val="cc0066"/>
                </a:solidFill>
                <a:uFillTx/>
                <a:latin typeface="Franklin Gothic Book"/>
              </a:rPr>
              <a:t> </a:t>
            </a:r>
            <a:r>
              <a:rPr b="1" lang="pl-PL" sz="1800" spc="-1" strike="noStrike" u="sng">
                <a:solidFill>
                  <a:srgbClr val="c00000"/>
                </a:solidFill>
                <a:uFillTx/>
                <a:latin typeface="Franklin Gothic Book"/>
              </a:rPr>
              <a:t>do  OKW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(w razie wątpliwości komisja rozstrzyga w głosowaniu)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wszelkie znaki, wykreślenia, przekreślenia, w tym również i znak „X” postawiony przez wyborcę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poza przeznaczoną na to kratką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, traktuje się jako dopiski, które nie wpływają na ważność głos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wszelkie inne znaki niż znak „X”, tj. niebędące</a:t>
            </a:r>
            <a:r>
              <a:rPr b="0" lang="pl-PL" sz="1800" spc="-1" strike="noStrike">
                <a:solidFill>
                  <a:srgbClr val="000000"/>
                </a:solidFill>
                <a:latin typeface="Franklin Gothic Book"/>
              </a:rPr>
              <a:t> co najmniej dwiema liniami, które przecinają się w obrębie kratki, </a:t>
            </a:r>
            <a:r>
              <a:rPr b="1" lang="pl-PL" sz="1800" spc="-1" strike="noStrike">
                <a:solidFill>
                  <a:srgbClr val="000000"/>
                </a:solidFill>
                <a:latin typeface="Franklin Gothic Book"/>
              </a:rPr>
              <a:t>naniesione w obrębie kratki, również nie wpływają na ważność głosu</a:t>
            </a:r>
            <a:r>
              <a:rPr b="0" lang="pl-PL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rostokąt 4"/>
          <p:cNvSpPr/>
          <p:nvPr/>
        </p:nvSpPr>
        <p:spPr>
          <a:xfrm>
            <a:off x="8317080" y="4041720"/>
            <a:ext cx="43164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rostokąt 5"/>
          <p:cNvSpPr/>
          <p:nvPr/>
        </p:nvSpPr>
        <p:spPr>
          <a:xfrm>
            <a:off x="8299440" y="285444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nożenie 6"/>
          <p:cNvSpPr/>
          <p:nvPr/>
        </p:nvSpPr>
        <p:spPr>
          <a:xfrm>
            <a:off x="8397720" y="2730600"/>
            <a:ext cx="613080" cy="482400"/>
          </a:xfrm>
          <a:custGeom>
            <a:avLst/>
            <a:gdLst/>
            <a:ahLst/>
            <a:rect l="l" t="t" r="r" b="b"/>
            <a:pathLst>
              <a:path w="612775" h="482600">
                <a:moveTo>
                  <a:pt x="112059" y="160495"/>
                </a:moveTo>
                <a:lnTo>
                  <a:pt x="182288" y="71322"/>
                </a:lnTo>
                <a:lnTo>
                  <a:pt x="306388" y="169058"/>
                </a:lnTo>
                <a:lnTo>
                  <a:pt x="430487" y="71322"/>
                </a:lnTo>
                <a:lnTo>
                  <a:pt x="500716" y="160495"/>
                </a:lnTo>
                <a:lnTo>
                  <a:pt x="398115" y="241300"/>
                </a:lnTo>
                <a:lnTo>
                  <a:pt x="500716" y="322105"/>
                </a:lnTo>
                <a:lnTo>
                  <a:pt x="430487" y="411278"/>
                </a:lnTo>
                <a:lnTo>
                  <a:pt x="306388" y="313542"/>
                </a:lnTo>
                <a:lnTo>
                  <a:pt x="182288" y="411278"/>
                </a:lnTo>
                <a:lnTo>
                  <a:pt x="112059" y="322105"/>
                </a:lnTo>
                <a:lnTo>
                  <a:pt x="214660" y="241300"/>
                </a:lnTo>
                <a:lnTo>
                  <a:pt x="112059" y="160495"/>
                </a:lnTo>
                <a:close/>
              </a:path>
            </a:pathLst>
          </a:cu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nożenie 8"/>
          <p:cNvSpPr/>
          <p:nvPr/>
        </p:nvSpPr>
        <p:spPr>
          <a:xfrm>
            <a:off x="8353440" y="3351240"/>
            <a:ext cx="395280" cy="798480"/>
          </a:xfrm>
          <a:custGeom>
            <a:avLst/>
            <a:gdLst/>
            <a:ahLst/>
            <a:rect l="l" t="t" r="r" b="b"/>
            <a:pathLst>
              <a:path w="395288" h="798512">
                <a:moveTo>
                  <a:pt x="53278" y="212406"/>
                </a:moveTo>
                <a:lnTo>
                  <a:pt x="136599" y="171159"/>
                </a:lnTo>
                <a:lnTo>
                  <a:pt x="197644" y="294475"/>
                </a:lnTo>
                <a:lnTo>
                  <a:pt x="258689" y="171159"/>
                </a:lnTo>
                <a:lnTo>
                  <a:pt x="342010" y="212406"/>
                </a:lnTo>
                <a:lnTo>
                  <a:pt x="249514" y="399256"/>
                </a:lnTo>
                <a:lnTo>
                  <a:pt x="342010" y="586106"/>
                </a:lnTo>
                <a:lnTo>
                  <a:pt x="258689" y="627353"/>
                </a:lnTo>
                <a:lnTo>
                  <a:pt x="197644" y="504037"/>
                </a:lnTo>
                <a:lnTo>
                  <a:pt x="136599" y="627353"/>
                </a:lnTo>
                <a:lnTo>
                  <a:pt x="53278" y="586106"/>
                </a:lnTo>
                <a:lnTo>
                  <a:pt x="145774" y="399256"/>
                </a:lnTo>
                <a:lnTo>
                  <a:pt x="53278" y="21240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Nie równa się 12"/>
          <p:cNvSpPr/>
          <p:nvPr/>
        </p:nvSpPr>
        <p:spPr>
          <a:xfrm>
            <a:off x="8286840" y="2139840"/>
            <a:ext cx="461880" cy="352440"/>
          </a:xfrm>
          <a:custGeom>
            <a:avLst/>
            <a:gdLst/>
            <a:ahLst/>
            <a:rect l="l" t="t" r="r" b="b"/>
            <a:pathLst>
              <a:path w="461963" h="352425">
                <a:moveTo>
                  <a:pt x="61233" y="72600"/>
                </a:moveTo>
                <a:lnTo>
                  <a:pt x="224588" y="72600"/>
                </a:lnTo>
                <a:lnTo>
                  <a:pt x="251013" y="0"/>
                </a:lnTo>
                <a:lnTo>
                  <a:pt x="328904" y="28350"/>
                </a:lnTo>
                <a:lnTo>
                  <a:pt x="312799" y="72600"/>
                </a:lnTo>
                <a:lnTo>
                  <a:pt x="400730" y="72600"/>
                </a:lnTo>
                <a:lnTo>
                  <a:pt x="400730" y="155490"/>
                </a:lnTo>
                <a:lnTo>
                  <a:pt x="282629" y="155490"/>
                </a:lnTo>
                <a:lnTo>
                  <a:pt x="267544" y="196935"/>
                </a:lnTo>
                <a:lnTo>
                  <a:pt x="400730" y="196935"/>
                </a:lnTo>
                <a:lnTo>
                  <a:pt x="400730" y="279825"/>
                </a:lnTo>
                <a:lnTo>
                  <a:pt x="237375" y="279825"/>
                </a:lnTo>
                <a:lnTo>
                  <a:pt x="210950" y="352425"/>
                </a:lnTo>
                <a:lnTo>
                  <a:pt x="133059" y="324075"/>
                </a:lnTo>
                <a:lnTo>
                  <a:pt x="149164" y="279825"/>
                </a:lnTo>
                <a:lnTo>
                  <a:pt x="61233" y="279825"/>
                </a:lnTo>
                <a:lnTo>
                  <a:pt x="61233" y="196935"/>
                </a:lnTo>
                <a:lnTo>
                  <a:pt x="179334" y="196935"/>
                </a:lnTo>
                <a:lnTo>
                  <a:pt x="194419" y="155490"/>
                </a:lnTo>
                <a:lnTo>
                  <a:pt x="61233" y="155490"/>
                </a:lnTo>
                <a:lnTo>
                  <a:pt x="61233" y="72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Minus 13"/>
          <p:cNvSpPr/>
          <p:nvPr/>
        </p:nvSpPr>
        <p:spPr>
          <a:xfrm rot="19142400">
            <a:off x="8407440" y="4470120"/>
            <a:ext cx="71892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95322" y="165120"/>
                </a:moveTo>
                <a:lnTo>
                  <a:pt x="623816" y="165120"/>
                </a:lnTo>
                <a:lnTo>
                  <a:pt x="623816" y="266680"/>
                </a:lnTo>
                <a:lnTo>
                  <a:pt x="95322" y="266680"/>
                </a:lnTo>
                <a:lnTo>
                  <a:pt x="95322" y="16512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rostokąt 3"/>
          <p:cNvSpPr/>
          <p:nvPr/>
        </p:nvSpPr>
        <p:spPr>
          <a:xfrm>
            <a:off x="179280" y="4478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Arial Black"/>
              </a:rPr>
              <a:t>KWALIFIKACJA WAŻNOŚCI GŁ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rostokąt 17"/>
          <p:cNvSpPr/>
          <p:nvPr/>
        </p:nvSpPr>
        <p:spPr>
          <a:xfrm>
            <a:off x="8291520" y="2062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8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pic>
        <p:nvPicPr>
          <p:cNvPr id="749" name="Obraz 2" descr=""/>
          <p:cNvPicPr/>
          <p:nvPr/>
        </p:nvPicPr>
        <p:blipFill>
          <a:blip r:embed="rId3"/>
          <a:stretch/>
        </p:blipFill>
        <p:spPr>
          <a:xfrm>
            <a:off x="5413320" y="5738760"/>
            <a:ext cx="290520" cy="289080"/>
          </a:xfrm>
          <a:prstGeom prst="rect">
            <a:avLst/>
          </a:prstGeom>
          <a:ln w="0">
            <a:noFill/>
          </a:ln>
        </p:spPr>
      </p:pic>
      <p:sp>
        <p:nvSpPr>
          <p:cNvPr id="750" name="pole tekstowe 8"/>
          <p:cNvSpPr/>
          <p:nvPr/>
        </p:nvSpPr>
        <p:spPr>
          <a:xfrm>
            <a:off x="594036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ole tekstowe 9"/>
          <p:cNvSpPr/>
          <p:nvPr/>
        </p:nvSpPr>
        <p:spPr>
          <a:xfrm>
            <a:off x="6480000" y="2060640"/>
            <a:ext cx="25927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 przy nazwisku kandydata na żadnej liś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Obraz 7" descr=""/>
          <p:cNvPicPr/>
          <p:nvPr/>
        </p:nvPicPr>
        <p:blipFill>
          <a:blip r:embed="rId1"/>
          <a:stretch/>
        </p:blipFill>
        <p:spPr>
          <a:xfrm>
            <a:off x="179280" y="1117440"/>
            <a:ext cx="6051600" cy="499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4" name="Obraz 13" descr=""/>
          <p:cNvPicPr/>
          <p:nvPr/>
        </p:nvPicPr>
        <p:blipFill>
          <a:blip r:embed="rId2"/>
          <a:stretch/>
        </p:blipFill>
        <p:spPr>
          <a:xfrm>
            <a:off x="5803920" y="5695920"/>
            <a:ext cx="376200" cy="374760"/>
          </a:xfrm>
          <a:prstGeom prst="rect">
            <a:avLst/>
          </a:prstGeom>
          <a:ln w="0">
            <a:noFill/>
          </a:ln>
        </p:spPr>
      </p:pic>
      <p:sp>
        <p:nvSpPr>
          <p:cNvPr id="755" name="Łącznik prosty 11"/>
          <p:cNvSpPr/>
          <p:nvPr/>
        </p:nvSpPr>
        <p:spPr>
          <a:xfrm>
            <a:off x="3645000" y="1852560"/>
            <a:ext cx="1108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Łącznik prosty 14"/>
          <p:cNvSpPr/>
          <p:nvPr/>
        </p:nvSpPr>
        <p:spPr>
          <a:xfrm flipV="1">
            <a:off x="3618000" y="1841400"/>
            <a:ext cx="18072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ole tekstowe 21"/>
          <p:cNvSpPr/>
          <p:nvPr/>
        </p:nvSpPr>
        <p:spPr>
          <a:xfrm>
            <a:off x="6480000" y="2060640"/>
            <a:ext cx="2592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Brak pieczęci</a:t>
            </a:r>
            <a:br>
              <a:rPr sz="1600"/>
            </a:b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obwodowej komisji wyborcz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UWA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O NIE JEST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GŁOS NIEWAŻNY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O J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ARTA NIEWAŻNA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0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sp>
        <p:nvSpPr>
          <p:cNvPr id="762" name="pole tekstowe 12"/>
          <p:cNvSpPr/>
          <p:nvPr/>
        </p:nvSpPr>
        <p:spPr>
          <a:xfrm>
            <a:off x="5106960" y="1916280"/>
            <a:ext cx="41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KARTA DO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 Black"/>
              </a:rPr>
              <a:t>GŁOSO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5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67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68" name="Łącznik prosty 10"/>
          <p:cNvSpPr/>
          <p:nvPr/>
        </p:nvSpPr>
        <p:spPr>
          <a:xfrm flipH="1" flipV="1">
            <a:off x="1331640" y="293040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Łącznik prosty 12"/>
          <p:cNvSpPr/>
          <p:nvPr/>
        </p:nvSpPr>
        <p:spPr>
          <a:xfrm flipV="1">
            <a:off x="1333440" y="290016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ole tekstowe 14"/>
          <p:cNvSpPr/>
          <p:nvPr/>
        </p:nvSpPr>
        <p:spPr>
          <a:xfrm>
            <a:off x="536400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ole tekstowe 15"/>
          <p:cNvSpPr/>
          <p:nvPr/>
        </p:nvSpPr>
        <p:spPr>
          <a:xfrm>
            <a:off x="5940360" y="2133720"/>
            <a:ext cx="259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jedneg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 kandyda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Głos oddany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na kandydata n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4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76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77" name="Łącznik prosty 10"/>
          <p:cNvSpPr/>
          <p:nvPr/>
        </p:nvSpPr>
        <p:spPr>
          <a:xfrm flipH="1" flipV="1">
            <a:off x="1331640" y="17935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Łącznik prosty 12"/>
          <p:cNvSpPr/>
          <p:nvPr/>
        </p:nvSpPr>
        <p:spPr>
          <a:xfrm flipV="1">
            <a:off x="1317600" y="18032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rostokąt 12"/>
          <p:cNvSpPr/>
          <p:nvPr/>
        </p:nvSpPr>
        <p:spPr>
          <a:xfrm>
            <a:off x="2224440" y="250200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ole tekstowe 17"/>
          <p:cNvSpPr/>
          <p:nvPr/>
        </p:nvSpPr>
        <p:spPr>
          <a:xfrm>
            <a:off x="5364000" y="1628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ole tekstowe 18"/>
          <p:cNvSpPr/>
          <p:nvPr/>
        </p:nvSpPr>
        <p:spPr>
          <a:xfrm>
            <a:off x="5940360" y="2133720"/>
            <a:ext cx="25923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skreślonego kandydata oraz postawiono znak „X” </a:t>
            </a:r>
            <a:br>
              <a:rPr sz="1600"/>
            </a:b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w kratce obok nazwiska tylko jednego nieskreślonego kandy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b050"/>
                </a:solidFill>
                <a:latin typeface="Arial"/>
                <a:ea typeface="Arial"/>
              </a:rPr>
              <a:t>Głos oddany na nie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Głos oddany </a:t>
            </a:r>
            <a:br>
              <a:rPr sz="1600"/>
            </a:br>
            <a:r>
              <a:rPr b="1" lang="pl-PL" sz="1600" spc="-1" strike="noStrike">
                <a:solidFill>
                  <a:srgbClr val="00b050"/>
                </a:solidFill>
                <a:latin typeface="Calibri"/>
                <a:ea typeface="Arial"/>
              </a:rPr>
              <a:t>na kandydata n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ole tekstowe 9"/>
          <p:cNvSpPr/>
          <p:nvPr/>
        </p:nvSpPr>
        <p:spPr>
          <a:xfrm>
            <a:off x="5867280" y="2387520"/>
            <a:ext cx="2592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Znak „X” postawion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kach przy nazwiskach więcej niż jed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8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790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91" name="Łącznik prosty 10"/>
          <p:cNvSpPr/>
          <p:nvPr/>
        </p:nvSpPr>
        <p:spPr>
          <a:xfrm flipH="1" flipV="1">
            <a:off x="1331640" y="17935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Łącznik prosty 12"/>
          <p:cNvSpPr/>
          <p:nvPr/>
        </p:nvSpPr>
        <p:spPr>
          <a:xfrm flipV="1">
            <a:off x="1317600" y="18032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ole tekstowe 9"/>
          <p:cNvSpPr/>
          <p:nvPr/>
        </p:nvSpPr>
        <p:spPr>
          <a:xfrm>
            <a:off x="5867280" y="2387520"/>
            <a:ext cx="259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przy żadnym nazwisku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9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801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ole tekstowe 8"/>
          <p:cNvSpPr/>
          <p:nvPr/>
        </p:nvSpPr>
        <p:spPr>
          <a:xfrm>
            <a:off x="5327640" y="1692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ole tekstowe 9"/>
          <p:cNvSpPr/>
          <p:nvPr/>
        </p:nvSpPr>
        <p:spPr>
          <a:xfrm>
            <a:off x="5867280" y="2387520"/>
            <a:ext cx="2665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„X” tylko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w kratce obok nazwiska skreślonego kandy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Obraz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4484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6" name="Trójkąt prostokątny 11"/>
          <p:cNvSpPr/>
          <p:nvPr/>
        </p:nvSpPr>
        <p:spPr>
          <a:xfrm rot="10800000">
            <a:off x="4716000" y="1052640"/>
            <a:ext cx="382680" cy="4111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Obraz 13" descr=""/>
          <p:cNvPicPr/>
          <p:nvPr/>
        </p:nvPicPr>
        <p:blipFill>
          <a:blip r:embed="rId2"/>
          <a:stretch/>
        </p:blipFill>
        <p:spPr>
          <a:xfrm>
            <a:off x="4307040" y="5524560"/>
            <a:ext cx="745920" cy="744480"/>
          </a:xfrm>
          <a:prstGeom prst="rect">
            <a:avLst/>
          </a:prstGeom>
          <a:ln w="0">
            <a:noFill/>
          </a:ln>
        </p:spPr>
      </p:pic>
      <p:pic>
        <p:nvPicPr>
          <p:cNvPr id="808" name="Obraz 2" descr=""/>
          <p:cNvPicPr/>
          <p:nvPr/>
        </p:nvPicPr>
        <p:blipFill>
          <a:blip r:embed="rId3"/>
          <a:stretch/>
        </p:blipFill>
        <p:spPr>
          <a:xfrm>
            <a:off x="3540240" y="563076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809" name="Prostokąt 12"/>
          <p:cNvSpPr/>
          <p:nvPr/>
        </p:nvSpPr>
        <p:spPr>
          <a:xfrm>
            <a:off x="2224440" y="2502000"/>
            <a:ext cx="127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ff0000"/>
                </a:solidFill>
                <a:latin typeface="Arial"/>
              </a:rPr>
              <a:t>Kandydat skreśl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Łącznik prosty 15"/>
          <p:cNvSpPr/>
          <p:nvPr/>
        </p:nvSpPr>
        <p:spPr>
          <a:xfrm flipV="1">
            <a:off x="1303200" y="2566800"/>
            <a:ext cx="181080" cy="14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Łącznik prosty 16"/>
          <p:cNvSpPr/>
          <p:nvPr/>
        </p:nvSpPr>
        <p:spPr>
          <a:xfrm flipH="1" flipV="1">
            <a:off x="1331640" y="2547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ole tekstowe 8"/>
          <p:cNvSpPr/>
          <p:nvPr/>
        </p:nvSpPr>
        <p:spPr>
          <a:xfrm>
            <a:off x="5327640" y="1981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ole tekstowe 9"/>
          <p:cNvSpPr/>
          <p:nvPr/>
        </p:nvSpPr>
        <p:spPr>
          <a:xfrm>
            <a:off x="5867280" y="2638440"/>
            <a:ext cx="237672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„x” jednocześnie w kratce za wyborem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TAK”)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i w kratce przeciw wyborowi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NIE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Obraz 1" descr=""/>
          <p:cNvPicPr/>
          <p:nvPr/>
        </p:nvPicPr>
        <p:blipFill>
          <a:blip r:embed="rId1"/>
          <a:stretch/>
        </p:blipFill>
        <p:spPr>
          <a:xfrm>
            <a:off x="900000" y="1765440"/>
            <a:ext cx="4608720" cy="324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16" name="Trójkąt prostokątny 11"/>
          <p:cNvSpPr/>
          <p:nvPr/>
        </p:nvSpPr>
        <p:spPr>
          <a:xfrm rot="10800000">
            <a:off x="5076720" y="1746000"/>
            <a:ext cx="432000" cy="53028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Obraz 13" descr=""/>
          <p:cNvPicPr/>
          <p:nvPr/>
        </p:nvPicPr>
        <p:blipFill>
          <a:blip r:embed="rId2"/>
          <a:stretch/>
        </p:blipFill>
        <p:spPr>
          <a:xfrm>
            <a:off x="4610160" y="4152960"/>
            <a:ext cx="788760" cy="788760"/>
          </a:xfrm>
          <a:prstGeom prst="rect">
            <a:avLst/>
          </a:prstGeom>
          <a:ln w="0">
            <a:noFill/>
          </a:ln>
        </p:spPr>
      </p:pic>
      <p:pic>
        <p:nvPicPr>
          <p:cNvPr id="818" name="Obraz 2" descr=""/>
          <p:cNvPicPr/>
          <p:nvPr/>
        </p:nvPicPr>
        <p:blipFill>
          <a:blip r:embed="rId3"/>
          <a:stretch/>
        </p:blipFill>
        <p:spPr>
          <a:xfrm>
            <a:off x="3780000" y="4248000"/>
            <a:ext cx="593640" cy="594000"/>
          </a:xfrm>
          <a:prstGeom prst="rect">
            <a:avLst/>
          </a:prstGeom>
          <a:ln w="0">
            <a:noFill/>
          </a:ln>
        </p:spPr>
      </p:pic>
      <p:sp>
        <p:nvSpPr>
          <p:cNvPr id="819" name="Łącznik prosty 13"/>
          <p:cNvSpPr/>
          <p:nvPr/>
        </p:nvSpPr>
        <p:spPr>
          <a:xfrm flipH="1" flipV="1">
            <a:off x="1596960" y="3257280"/>
            <a:ext cx="152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Łącznik prosty 14"/>
          <p:cNvSpPr/>
          <p:nvPr/>
        </p:nvSpPr>
        <p:spPr>
          <a:xfrm flipV="1">
            <a:off x="1600200" y="3282840"/>
            <a:ext cx="18108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Łącznik prosty 17"/>
          <p:cNvSpPr/>
          <p:nvPr/>
        </p:nvSpPr>
        <p:spPr>
          <a:xfrm flipH="1" flipV="1">
            <a:off x="1611000" y="3609720"/>
            <a:ext cx="1522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Łącznik prosty 18"/>
          <p:cNvSpPr/>
          <p:nvPr/>
        </p:nvSpPr>
        <p:spPr>
          <a:xfrm flipV="1">
            <a:off x="1590840" y="3643200"/>
            <a:ext cx="180720" cy="14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ole tekstowe 2"/>
          <p:cNvSpPr/>
          <p:nvPr/>
        </p:nvSpPr>
        <p:spPr>
          <a:xfrm>
            <a:off x="1042920" y="36504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WYBORY DO SEN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ole tekstowe 8"/>
          <p:cNvSpPr/>
          <p:nvPr/>
        </p:nvSpPr>
        <p:spPr>
          <a:xfrm>
            <a:off x="5327640" y="1981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ole tekstowe 9"/>
          <p:cNvSpPr/>
          <p:nvPr/>
        </p:nvSpPr>
        <p:spPr>
          <a:xfrm>
            <a:off x="5867280" y="2638440"/>
            <a:ext cx="23767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„x” ani za wyborem kandydata (w kratce oznaczonej słowem „TAK”), ani przeciw wyborowi kandydata </a:t>
            </a:r>
            <a:br>
              <a:rPr sz="1600"/>
            </a:b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(w kratce oznaczonej słowem „NIE”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raz 1" descr=""/>
          <p:cNvPicPr/>
          <p:nvPr/>
        </p:nvPicPr>
        <p:blipFill>
          <a:blip r:embed="rId1"/>
          <a:stretch/>
        </p:blipFill>
        <p:spPr>
          <a:xfrm>
            <a:off x="900000" y="1765440"/>
            <a:ext cx="4608720" cy="324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27" name="Trójkąt prostokątny 11"/>
          <p:cNvSpPr/>
          <p:nvPr/>
        </p:nvSpPr>
        <p:spPr>
          <a:xfrm rot="10800000">
            <a:off x="5076720" y="1746000"/>
            <a:ext cx="432000" cy="53028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Obraz 13" descr=""/>
          <p:cNvPicPr/>
          <p:nvPr/>
        </p:nvPicPr>
        <p:blipFill>
          <a:blip r:embed="rId2"/>
          <a:stretch/>
        </p:blipFill>
        <p:spPr>
          <a:xfrm>
            <a:off x="4610160" y="4152960"/>
            <a:ext cx="788760" cy="788760"/>
          </a:xfrm>
          <a:prstGeom prst="rect">
            <a:avLst/>
          </a:prstGeom>
          <a:ln w="0">
            <a:noFill/>
          </a:ln>
        </p:spPr>
      </p:pic>
      <p:pic>
        <p:nvPicPr>
          <p:cNvPr id="829" name="Obraz 2" descr=""/>
          <p:cNvPicPr/>
          <p:nvPr/>
        </p:nvPicPr>
        <p:blipFill>
          <a:blip r:embed="rId3"/>
          <a:stretch/>
        </p:blipFill>
        <p:spPr>
          <a:xfrm>
            <a:off x="3780000" y="424800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smo odręczne 8" descr=""/>
          <p:cNvPicPr/>
          <p:nvPr/>
        </p:nvPicPr>
        <p:blipFill>
          <a:blip r:embed="rId1"/>
          <a:stretch/>
        </p:blipFill>
        <p:spPr>
          <a:xfrm>
            <a:off x="828720" y="1438200"/>
            <a:ext cx="2582640" cy="3137040"/>
          </a:xfrm>
          <a:prstGeom prst="rect">
            <a:avLst/>
          </a:prstGeom>
          <a:ln w="0">
            <a:noFill/>
          </a:ln>
        </p:spPr>
      </p:pic>
      <p:pic>
        <p:nvPicPr>
          <p:cNvPr id="555" name="Pismo odręczne 10" descr=""/>
          <p:cNvPicPr/>
          <p:nvPr/>
        </p:nvPicPr>
        <p:blipFill>
          <a:blip r:embed="rId2"/>
          <a:stretch/>
        </p:blipFill>
        <p:spPr>
          <a:xfrm>
            <a:off x="619200" y="1498680"/>
            <a:ext cx="3163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1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1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ole tekstowe 1"/>
          <p:cNvSpPr/>
          <p:nvPr/>
        </p:nvSpPr>
        <p:spPr>
          <a:xfrm>
            <a:off x="108000" y="177336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90181b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ole tekstowe 2"/>
          <p:cNvSpPr/>
          <p:nvPr/>
        </p:nvSpPr>
        <p:spPr>
          <a:xfrm>
            <a:off x="2124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rostokąt 1"/>
          <p:cNvSpPr/>
          <p:nvPr/>
        </p:nvSpPr>
        <p:spPr>
          <a:xfrm>
            <a:off x="250920" y="4221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90181b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ole tekstowe 1"/>
          <p:cNvSpPr/>
          <p:nvPr/>
        </p:nvSpPr>
        <p:spPr>
          <a:xfrm>
            <a:off x="179280" y="154152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stwierdzenia, czy głos oddany na karcie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głosowania jest </a:t>
            </a: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głosem ważnym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, czy też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głosem nieważnym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,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uprawniona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 jest tylko obwodowa komisja wyborc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ole tekstowe 2"/>
          <p:cNvSpPr/>
          <p:nvPr/>
        </p:nvSpPr>
        <p:spPr>
          <a:xfrm>
            <a:off x="1908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Obraz 2" descr="Gratis vektorgrafik: Telefon, Mobiltelefon, Ikke, Opkald ..."/>
          <p:cNvPicPr/>
          <p:nvPr/>
        </p:nvPicPr>
        <p:blipFill>
          <a:blip r:embed="rId1"/>
          <a:stretch/>
        </p:blipFill>
        <p:spPr>
          <a:xfrm>
            <a:off x="5580000" y="5445000"/>
            <a:ext cx="1513080" cy="1297080"/>
          </a:xfrm>
          <a:prstGeom prst="rect">
            <a:avLst/>
          </a:prstGeom>
          <a:ln w="0">
            <a:noFill/>
          </a:ln>
        </p:spPr>
      </p:pic>
      <p:sp>
        <p:nvSpPr>
          <p:cNvPr id="836" name="Prostokąt 1"/>
          <p:cNvSpPr/>
          <p:nvPr/>
        </p:nvSpPr>
        <p:spPr>
          <a:xfrm>
            <a:off x="324000" y="382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Nie ma możliwości występowania </a:t>
            </a:r>
            <a:br>
              <a:rPr sz="2400"/>
            </a:b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z pytaniami w tym zakresie do innych podmiotów, w tym do Państwowej Komisji Wyborczej, komisarza wyborczego, urzędnika wyborczego, czy delegatury K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34560" y="34920"/>
            <a:ext cx="9148680" cy="6858000"/>
          </a:xfrm>
          <a:prstGeom prst="rect">
            <a:avLst/>
          </a:prstGeom>
          <a:noFill/>
          <a:ln w="0">
            <a:noFill/>
          </a:ln>
        </p:spPr>
        <p:txBody>
          <a:bodyPr lIns="540000" rIns="540000" tIns="540000" bIns="540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38" name="pole tekstowe 2"/>
          <p:cNvSpPr/>
          <p:nvPr/>
        </p:nvSpPr>
        <p:spPr>
          <a:xfrm>
            <a:off x="3564000" y="62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Państw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Łącznik prosty 3"/>
          <p:cNvSpPr/>
          <p:nvPr/>
        </p:nvSpPr>
        <p:spPr>
          <a:xfrm>
            <a:off x="1943280" y="1844640"/>
            <a:ext cx="1908000" cy="2332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Łącznik prosty 4"/>
          <p:cNvSpPr/>
          <p:nvPr/>
        </p:nvSpPr>
        <p:spPr>
          <a:xfrm flipH="1">
            <a:off x="2410920" y="2448000"/>
            <a:ext cx="219708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6"/>
          <p:cNvSpPr/>
          <p:nvPr/>
        </p:nvSpPr>
        <p:spPr>
          <a:xfrm>
            <a:off x="14292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smo odręczne 13" descr=""/>
          <p:cNvPicPr/>
          <p:nvPr/>
        </p:nvPicPr>
        <p:blipFill>
          <a:blip r:embed="rId1"/>
          <a:stretch/>
        </p:blipFill>
        <p:spPr>
          <a:xfrm>
            <a:off x="476280" y="1428840"/>
            <a:ext cx="3497400" cy="2476440"/>
          </a:xfrm>
          <a:prstGeom prst="rect">
            <a:avLst/>
          </a:prstGeom>
          <a:ln w="0">
            <a:noFill/>
          </a:ln>
        </p:spPr>
      </p:pic>
      <p:sp>
        <p:nvSpPr>
          <p:cNvPr id="566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Łącznik prosty 3"/>
          <p:cNvSpPr/>
          <p:nvPr/>
        </p:nvSpPr>
        <p:spPr>
          <a:xfrm>
            <a:off x="539640" y="1395360"/>
            <a:ext cx="338472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Łącznik prosty 4"/>
          <p:cNvSpPr/>
          <p:nvPr/>
        </p:nvSpPr>
        <p:spPr>
          <a:xfrm flipH="1">
            <a:off x="1258920" y="1908000"/>
            <a:ext cx="3673440" cy="29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bramowanie kratki należy uznać za część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ole tekstowe 6"/>
          <p:cNvSpPr/>
          <p:nvPr/>
        </p:nvSpPr>
        <p:spPr>
          <a:xfrm>
            <a:off x="108000" y="476100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 Dodatkowa jaśniejsza linia może być efektem „nierozpisanego” długopi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Łącznik prosty 7" descr=""/>
          <p:cNvPicPr/>
          <p:nvPr/>
        </p:nvPicPr>
        <p:blipFill>
          <a:blip r:embed="rId1"/>
          <a:stretch/>
        </p:blipFill>
        <p:spPr>
          <a:xfrm>
            <a:off x="450720" y="1895400"/>
            <a:ext cx="3078360" cy="2719440"/>
          </a:xfrm>
          <a:prstGeom prst="rect">
            <a:avLst/>
          </a:prstGeom>
          <a:ln w="0">
            <a:noFill/>
          </a:ln>
        </p:spPr>
      </p:pic>
      <p:pic>
        <p:nvPicPr>
          <p:cNvPr id="577" name="Pismo odręczne 14" descr=""/>
          <p:cNvPicPr/>
          <p:nvPr/>
        </p:nvPicPr>
        <p:blipFill>
          <a:blip r:embed="rId2"/>
          <a:stretch/>
        </p:blipFill>
        <p:spPr>
          <a:xfrm>
            <a:off x="623880" y="1760400"/>
            <a:ext cx="3530520" cy="3057840"/>
          </a:xfrm>
          <a:prstGeom prst="rect">
            <a:avLst/>
          </a:prstGeom>
          <a:ln w="0">
            <a:noFill/>
          </a:ln>
        </p:spPr>
      </p:pic>
      <p:pic>
        <p:nvPicPr>
          <p:cNvPr id="578" name="Pismo odręczne 16" descr=""/>
          <p:cNvPicPr/>
          <p:nvPr/>
        </p:nvPicPr>
        <p:blipFill>
          <a:blip r:embed="rId3"/>
          <a:stretch/>
        </p:blipFill>
        <p:spPr>
          <a:xfrm>
            <a:off x="928800" y="1498680"/>
            <a:ext cx="2260440" cy="3247920"/>
          </a:xfrm>
          <a:prstGeom prst="rect">
            <a:avLst/>
          </a:prstGeom>
          <a:ln w="0">
            <a:noFill/>
          </a:ln>
        </p:spPr>
      </p:pic>
      <p:sp>
        <p:nvSpPr>
          <p:cNvPr id="579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ole tekstowe 4"/>
          <p:cNvSpPr/>
          <p:nvPr/>
        </p:nvSpPr>
        <p:spPr>
          <a:xfrm>
            <a:off x="1619280" y="1989000"/>
            <a:ext cx="115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ole tekstowe 2"/>
          <p:cNvSpPr/>
          <p:nvPr/>
        </p:nvSpPr>
        <p:spPr>
          <a:xfrm>
            <a:off x="147492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0181b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1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0:29Z</dcterms:created>
  <dc:creator/>
  <dc:description/>
  <dc:language>en-US</dc:language>
  <cp:lastModifiedBy>Adam Michcik</cp:lastModifiedBy>
  <cp:lastPrinted>2018-05-15T10:39:02Z</cp:lastPrinted>
  <dcterms:modified xsi:type="dcterms:W3CDTF">2023-09-30T08:30:26Z</dcterms:modified>
  <cp:revision>3293</cp:revision>
  <dc:subject/>
  <dc:title>Slajd 1</dc:title>
</cp:coreProperties>
</file>