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3.wmf" ContentType="image/x-wmf"/>
  <Override PartName="/ppt/media/image9.png" ContentType="image/png"/>
  <Override PartName="/ppt/media/image17.wmf" ContentType="image/x-wmf"/>
  <Override PartName="/ppt/media/image13.wmf" ContentType="image/x-wmf"/>
  <Override PartName="/ppt/media/image1.jpeg" ContentType="image/jpeg"/>
  <Override PartName="/ppt/media/image15.wmf" ContentType="image/x-wmf"/>
  <Override PartName="/ppt/media/image32.png" ContentType="image/png"/>
  <Override PartName="/ppt/media/image2.png" ContentType="image/png"/>
  <Override PartName="/ppt/media/image31.jpeg" ContentType="image/jpeg"/>
  <Override PartName="/ppt/media/image10.wmf" ContentType="image/x-wmf"/>
  <Override PartName="/ppt/media/image30.wmf" ContentType="image/x-wmf"/>
  <Override PartName="/ppt/media/image34.jpeg" ContentType="image/jpeg"/>
  <Override PartName="/ppt/media/image35.png" ContentType="image/png"/>
  <Override PartName="/ppt/media/image18.wmf" ContentType="image/x-wmf"/>
  <Override PartName="/ppt/media/image20.wmf" ContentType="image/x-wmf"/>
  <Override PartName="/ppt/media/image7.wmf" ContentType="image/x-wmf"/>
  <Override PartName="/ppt/media/image6.wmf" ContentType="image/x-wmf"/>
  <Override PartName="/ppt/media/image29.wmf" ContentType="image/x-wmf"/>
  <Override PartName="/ppt/media/image5.jpeg" ContentType="image/jpeg"/>
  <Override PartName="/ppt/media/image11.wmf" ContentType="image/x-wmf"/>
  <Override PartName="/ppt/media/image14.wmf" ContentType="image/x-wmf"/>
  <Override PartName="/ppt/media/image16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0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21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22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8260-7F6B-42B4-A325-DAB920DF277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2E22-011E-4884-A570-62195F30BCE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8C1BA3-A71C-4BF5-B85F-85067E2E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CBB769-A990-4148-A5CF-1AE250DD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CF9B00-A8B2-44D6-9BC7-1BB60505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D51EA0-BE5C-4878-BB48-5698A972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6EF192-7E96-4DE4-B2A7-41768D66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BCD8C9-D656-415B-8544-0B220D38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A9116A-D110-4EA4-9601-4D1209FB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95CB87-2539-4361-AE30-98E04813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FC725B-39F7-4166-94B2-DFEC3B47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5D7ED9-32A4-46A6-A051-698238AA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58B07E-79D9-48D6-9005-3FC23FA1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0CBD26-7429-41D6-89CA-3E322DFD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04177-3C1A-4C6D-90C6-7BE6A50E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BF03B-1F77-492F-B60A-517CA21D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64F1D-1C71-40C1-AF01-2F642BCF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009FA-6E7D-4FF9-8670-5F47EB1F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F4881-0280-4A86-8A8B-2B1BCB73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5576B-987F-439B-9559-A6E3FA3E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46ED8-C5D7-488D-AC7B-BB1AAF27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096BB-E0C5-49BD-B9D7-D8384E97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63029-AE47-48E4-AC60-C1737915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64C95-F7A4-48D0-B7BA-FECBE8ED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E8460-5247-4E52-8636-5CBC3696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5FAAB-5612-4FF7-8244-B3E29734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A85D3-AC8C-415E-8637-64A2403C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EB3BB-F8C7-4B58-AB2C-82A6EC44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75A3A-B35A-4CB8-A8B1-20BAA3F7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F0BC0-D86F-4B7F-B36D-D1287C26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01764-318B-49E4-99EF-DFD1E110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F0F3B-27F7-4E12-9B16-B7405CEA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27364-248F-46A5-9876-ABD2373D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C0905-F08D-4176-B212-57C86486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A7FC8-73E2-4087-A78F-B352B980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117B1-99C5-42CF-99DB-274ABB5E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67006-527C-427D-8FFF-0636A471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1E360-0EA9-4888-B76E-A09BCE4C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4AA067-9EAB-4BE2-9E31-1471DBD2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58B650-E39D-4F86-B44B-C49A6ADC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A5BD4-F4EA-4DE4-A73E-A8D4222A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3E5A7-D3B6-421C-9333-61B2B6E8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FC8F7B-A702-4BBB-9004-9AFD446C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EA2C57-AC76-4A45-AB01-CCABEBCC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AB30AF-5044-4E3A-A3A7-934C46B3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ED10AF-1680-4CFF-9C22-18561B09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B35978-4C62-4FBC-B490-E71CEE6B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4C1872-78C6-41C5-8200-48D724A8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58506C-0D4B-4021-B39A-4BADB748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A5D4C4-7C22-4356-92FC-6F198BBF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016BDB-BC90-402F-9A9B-EF1145D1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A45B43-5F1B-4697-93D6-7A4C547D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912A26-67E4-4EBD-A721-7AD61FB7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CE52E-E189-4323-AE98-CE8B92E8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9E068-8072-40CA-A398-CAD18578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831F13-4DFC-4986-8469-2C7F4BEA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D9E18-57E8-4770-AD84-B9FE47F1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C93D2-1B43-4C2B-B72E-A3B0D374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63FB53-C1BF-4DE1-B828-7DB52095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D80414-928E-4FF5-91F3-225F3D84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C24E2-3B36-45B6-B5BA-FC90D772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990AF-CC52-4BF2-A9F3-D75717B6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4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02DF-DC58-4CEE-9DE9-D61B834CFAE1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a9a9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A1B0-F305-4931-ABBE-8ED032421989}" type="datetime">
              <a:rPr b="0" lang="pl-PL" sz="1200" spc="-1" strike="noStrike">
                <a:solidFill>
                  <a:srgbClr val="9a9a9b"/>
                </a:solidFill>
                <a:latin typeface="Open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a9a9b"/>
                </a:solidFill>
                <a:latin typeface="Open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9a9a9b"/>
                </a:solidFill>
                <a:latin typeface="Open Sans"/>
              </a:rPr>
              <a:t>opracowanie: D.BIAŁOWĄS_KBW OLSZT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1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74CE-E12F-4615-BF00-6E98DBEED4CF}" type="slidenum">
              <a:rPr b="0" lang="pl-PL" sz="1800" spc="-1" strike="noStrike">
                <a:solidFill>
                  <a:srgbClr val="5859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83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D9A3-299D-4B18-AD30-C9F1E26756B8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az 8" descr="Logo - 3109 - 1 strona.jpg"/>
          <p:cNvPicPr/>
          <p:nvPr/>
        </p:nvPicPr>
        <p:blipFill>
          <a:blip r:embed="rId4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12" descr=""/>
          <p:cNvPicPr/>
          <p:nvPr/>
        </p:nvPicPr>
        <p:blipFill>
          <a:blip r:embed="rId5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CC44-8DE8-4FDA-9BA3-C27BE3167AC2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B796-DDC7-47FF-885F-3385A1F46C2E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4F43-F980-46FF-AE16-217DD71ACB84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rójkąt prostokątny 12"/>
          <p:cNvSpPr/>
          <p:nvPr/>
        </p:nvSpPr>
        <p:spPr>
          <a:xfrm rot="10800000">
            <a:off x="1042920" y="-11520"/>
            <a:ext cx="8105760" cy="6869160"/>
          </a:xfrm>
          <a:custGeom>
            <a:avLst/>
            <a:gdLst/>
            <a:ahLst/>
            <a:rect l="l" t="t" r="r" b="b"/>
            <a:pathLst>
              <a:path w="8105223" h="6869157">
                <a:moveTo>
                  <a:pt x="4831" y="6869157"/>
                </a:moveTo>
                <a:cubicBezTo>
                  <a:pt x="5625" y="4579678"/>
                  <a:pt x="-726" y="2290200"/>
                  <a:pt x="68" y="721"/>
                </a:cubicBezTo>
                <a:lnTo>
                  <a:pt x="419698" y="0"/>
                </a:lnTo>
                <a:lnTo>
                  <a:pt x="8105223" y="6869157"/>
                </a:lnTo>
                <a:lnTo>
                  <a:pt x="4831" y="6869157"/>
                </a:lnTo>
                <a:close/>
              </a:path>
            </a:pathLst>
          </a:custGeom>
          <a:solidFill>
            <a:srgbClr val="9d03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Obraz 6" descr=""/>
          <p:cNvPicPr/>
          <p:nvPr/>
        </p:nvPicPr>
        <p:blipFill>
          <a:blip r:embed="rId2"/>
          <a:stretch/>
        </p:blipFill>
        <p:spPr>
          <a:xfrm>
            <a:off x="3938760" y="3162240"/>
            <a:ext cx="1266480" cy="533520"/>
          </a:xfrm>
          <a:prstGeom prst="rect">
            <a:avLst/>
          </a:prstGeom>
          <a:ln cap="sq" w="203040">
            <a:solidFill>
              <a:srgbClr val="ffffff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5"/>
          <p:cNvSpPr/>
          <p:nvPr/>
        </p:nvSpPr>
        <p:spPr>
          <a:xfrm>
            <a:off x="155520" y="-433440"/>
            <a:ext cx="77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rostokąt 2"/>
          <p:cNvSpPr/>
          <p:nvPr/>
        </p:nvSpPr>
        <p:spPr>
          <a:xfrm>
            <a:off x="392040" y="6083280"/>
            <a:ext cx="648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9d032a"/>
                </a:solidFill>
                <a:latin typeface="Arial"/>
                <a:ea typeface="Arial"/>
              </a:rPr>
              <a:t>Opracowan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9d032a"/>
                </a:solidFill>
                <a:latin typeface="Arial"/>
                <a:ea typeface="Arial"/>
              </a:rPr>
              <a:t>© Krajowe Biuro Wyborcz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ole tekstowe 10" descr=""/>
          <p:cNvPicPr/>
          <p:nvPr/>
        </p:nvPicPr>
        <p:blipFill>
          <a:blip r:embed="rId2"/>
          <a:stretch/>
        </p:blipFill>
        <p:spPr>
          <a:xfrm>
            <a:off x="231840" y="1274760"/>
            <a:ext cx="8845560" cy="2724120"/>
          </a:xfrm>
          <a:prstGeom prst="rect">
            <a:avLst/>
          </a:prstGeom>
          <a:ln w="0">
            <a:noFill/>
          </a:ln>
        </p:spPr>
      </p:pic>
      <p:sp>
        <p:nvSpPr>
          <p:cNvPr id="535" name="Łącznik prostoliniowy 5"/>
          <p:cNvSpPr/>
          <p:nvPr/>
        </p:nvSpPr>
        <p:spPr>
          <a:xfrm>
            <a:off x="360360" y="4005360"/>
            <a:ext cx="8423280" cy="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Obraz 12" descr=""/>
          <p:cNvPicPr/>
          <p:nvPr/>
        </p:nvPicPr>
        <p:blipFill>
          <a:blip r:embed="rId3"/>
          <a:stretch/>
        </p:blipFill>
        <p:spPr>
          <a:xfrm>
            <a:off x="3780000" y="1052640"/>
            <a:ext cx="1220760" cy="1211040"/>
          </a:xfrm>
          <a:prstGeom prst="rect">
            <a:avLst/>
          </a:prstGeom>
          <a:ln w="0">
            <a:noFill/>
          </a:ln>
        </p:spPr>
      </p:pic>
      <p:sp>
        <p:nvSpPr>
          <p:cNvPr id="537" name="Prostokąt 1"/>
          <p:cNvSpPr/>
          <p:nvPr/>
        </p:nvSpPr>
        <p:spPr>
          <a:xfrm>
            <a:off x="179280" y="4224240"/>
            <a:ext cx="8713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Black"/>
                <a:ea typeface="Arial"/>
              </a:rPr>
              <a:t>SZKOLE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Black"/>
                <a:ea typeface="Arial"/>
              </a:rPr>
              <a:t>CZŁONKÓW OBWODOWYCH KOMISJI WYBORCZY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1" lang="pl-PL" sz="2400" spc="-1" strike="noStrike">
                <a:solidFill>
                  <a:srgbClr val="c00000"/>
                </a:solidFill>
                <a:latin typeface="Arial Black"/>
                <a:ea typeface="Arial"/>
              </a:rPr>
              <a:t>Kwalifikacja ważności gł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smo odręczne 10" descr=""/>
          <p:cNvPicPr/>
          <p:nvPr/>
        </p:nvPicPr>
        <p:blipFill>
          <a:blip r:embed="rId1"/>
          <a:stretch/>
        </p:blipFill>
        <p:spPr>
          <a:xfrm>
            <a:off x="30240" y="1887480"/>
            <a:ext cx="2616120" cy="2482920"/>
          </a:xfrm>
          <a:prstGeom prst="rect">
            <a:avLst/>
          </a:prstGeom>
          <a:ln w="0">
            <a:noFill/>
          </a:ln>
        </p:spPr>
      </p:pic>
      <p:pic>
        <p:nvPicPr>
          <p:cNvPr id="592" name="Pismo odręczne 11" descr=""/>
          <p:cNvPicPr/>
          <p:nvPr/>
        </p:nvPicPr>
        <p:blipFill>
          <a:blip r:embed="rId2"/>
          <a:stretch/>
        </p:blipFill>
        <p:spPr>
          <a:xfrm>
            <a:off x="441360" y="2087640"/>
            <a:ext cx="2720880" cy="2182680"/>
          </a:xfrm>
          <a:prstGeom prst="rect">
            <a:avLst/>
          </a:prstGeom>
          <a:ln w="0">
            <a:noFill/>
          </a:ln>
        </p:spPr>
      </p:pic>
      <p:pic>
        <p:nvPicPr>
          <p:cNvPr id="593" name="Pismo odręczne 12" descr=""/>
          <p:cNvPicPr/>
          <p:nvPr/>
        </p:nvPicPr>
        <p:blipFill>
          <a:blip r:embed="rId3"/>
          <a:stretch/>
        </p:blipFill>
        <p:spPr>
          <a:xfrm>
            <a:off x="573120" y="2463840"/>
            <a:ext cx="2583000" cy="2116080"/>
          </a:xfrm>
          <a:prstGeom prst="rect">
            <a:avLst/>
          </a:prstGeom>
          <a:ln w="0">
            <a:noFill/>
          </a:ln>
        </p:spPr>
      </p:pic>
      <p:pic>
        <p:nvPicPr>
          <p:cNvPr id="594" name="Pismo odręczne 14" descr=""/>
          <p:cNvPicPr/>
          <p:nvPr/>
        </p:nvPicPr>
        <p:blipFill>
          <a:blip r:embed="rId4"/>
          <a:stretch/>
        </p:blipFill>
        <p:spPr>
          <a:xfrm>
            <a:off x="689040" y="1887480"/>
            <a:ext cx="1187280" cy="3562560"/>
          </a:xfrm>
          <a:prstGeom prst="rect">
            <a:avLst/>
          </a:prstGeom>
          <a:ln w="0">
            <a:noFill/>
          </a:ln>
        </p:spPr>
      </p:pic>
      <p:sp>
        <p:nvSpPr>
          <p:cNvPr id="595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1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smo odręczne 9" descr=""/>
          <p:cNvPicPr/>
          <p:nvPr/>
        </p:nvPicPr>
        <p:blipFill>
          <a:blip r:embed="rId1"/>
          <a:stretch/>
        </p:blipFill>
        <p:spPr>
          <a:xfrm>
            <a:off x="1014480" y="1227240"/>
            <a:ext cx="3352680" cy="3220920"/>
          </a:xfrm>
          <a:prstGeom prst="rect">
            <a:avLst/>
          </a:prstGeom>
          <a:ln w="0">
            <a:noFill/>
          </a:ln>
        </p:spPr>
      </p:pic>
      <p:sp>
        <p:nvSpPr>
          <p:cNvPr id="600" name="pole tekstowe 7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1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1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ole tekstowe 6"/>
          <p:cNvSpPr/>
          <p:nvPr/>
        </p:nvSpPr>
        <p:spPr>
          <a:xfrm>
            <a:off x="179280" y="476100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smo odręczne 9" descr=""/>
          <p:cNvPicPr/>
          <p:nvPr/>
        </p:nvPicPr>
        <p:blipFill>
          <a:blip r:embed="rId1"/>
          <a:stretch/>
        </p:blipFill>
        <p:spPr>
          <a:xfrm>
            <a:off x="841320" y="1550880"/>
            <a:ext cx="2819520" cy="3122640"/>
          </a:xfrm>
          <a:prstGeom prst="rect">
            <a:avLst/>
          </a:prstGeom>
          <a:ln w="0">
            <a:noFill/>
          </a:ln>
        </p:spPr>
      </p:pic>
      <p:pic>
        <p:nvPicPr>
          <p:cNvPr id="606" name="Pismo odręczne 11" descr=""/>
          <p:cNvPicPr/>
          <p:nvPr/>
        </p:nvPicPr>
        <p:blipFill>
          <a:blip r:embed="rId2"/>
          <a:stretch/>
        </p:blipFill>
        <p:spPr>
          <a:xfrm>
            <a:off x="2209680" y="1468440"/>
            <a:ext cx="1820880" cy="1941480"/>
          </a:xfrm>
          <a:prstGeom prst="rect">
            <a:avLst/>
          </a:prstGeom>
          <a:ln w="0">
            <a:noFill/>
          </a:ln>
        </p:spPr>
      </p:pic>
      <p:sp>
        <p:nvSpPr>
          <p:cNvPr id="607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1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1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ole tekstowe 6"/>
          <p:cNvSpPr/>
          <p:nvPr/>
        </p:nvSpPr>
        <p:spPr>
          <a:xfrm>
            <a:off x="179280" y="434808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Trzy linie są ze sobą stycz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smo odręczne 22" descr=""/>
          <p:cNvPicPr/>
          <p:nvPr/>
        </p:nvPicPr>
        <p:blipFill>
          <a:blip r:embed="rId1"/>
          <a:stretch/>
        </p:blipFill>
        <p:spPr>
          <a:xfrm>
            <a:off x="2419200" y="1909800"/>
            <a:ext cx="1258920" cy="874800"/>
          </a:xfrm>
          <a:prstGeom prst="rect">
            <a:avLst/>
          </a:prstGeom>
          <a:ln w="0">
            <a:noFill/>
          </a:ln>
        </p:spPr>
      </p:pic>
      <p:pic>
        <p:nvPicPr>
          <p:cNvPr id="612" name="Pismo odręczne 24" descr=""/>
          <p:cNvPicPr/>
          <p:nvPr/>
        </p:nvPicPr>
        <p:blipFill>
          <a:blip r:embed="rId2"/>
          <a:stretch/>
        </p:blipFill>
        <p:spPr>
          <a:xfrm>
            <a:off x="2457360" y="1693800"/>
            <a:ext cx="1435320" cy="1041480"/>
          </a:xfrm>
          <a:prstGeom prst="rect">
            <a:avLst/>
          </a:prstGeom>
          <a:ln w="0">
            <a:noFill/>
          </a:ln>
        </p:spPr>
      </p:pic>
      <p:sp>
        <p:nvSpPr>
          <p:cNvPr id="613" name="pole tekstowe 7"/>
          <p:cNvSpPr/>
          <p:nvPr/>
        </p:nvSpPr>
        <p:spPr>
          <a:xfrm>
            <a:off x="144360" y="566100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 graficzny naniesiony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1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1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1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się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smo odręczne 24" descr=""/>
          <p:cNvPicPr/>
          <p:nvPr/>
        </p:nvPicPr>
        <p:blipFill>
          <a:blip r:embed="rId1"/>
          <a:stretch/>
        </p:blipFill>
        <p:spPr>
          <a:xfrm>
            <a:off x="1278000" y="1476360"/>
            <a:ext cx="2897280" cy="1596960"/>
          </a:xfrm>
          <a:prstGeom prst="rect">
            <a:avLst/>
          </a:prstGeom>
          <a:ln w="0">
            <a:noFill/>
          </a:ln>
        </p:spPr>
      </p:pic>
      <p:pic>
        <p:nvPicPr>
          <p:cNvPr id="619" name="Pismo odręczne 28" descr=""/>
          <p:cNvPicPr/>
          <p:nvPr/>
        </p:nvPicPr>
        <p:blipFill>
          <a:blip r:embed="rId2"/>
          <a:stretch/>
        </p:blipFill>
        <p:spPr>
          <a:xfrm>
            <a:off x="768240" y="1587600"/>
            <a:ext cx="2614680" cy="2836800"/>
          </a:xfrm>
          <a:prstGeom prst="rect">
            <a:avLst/>
          </a:prstGeom>
          <a:ln w="0">
            <a:noFill/>
          </a:ln>
        </p:spPr>
      </p:pic>
      <p:pic>
        <p:nvPicPr>
          <p:cNvPr id="620" name="Pismo odręczne 30" descr=""/>
          <p:cNvPicPr/>
          <p:nvPr/>
        </p:nvPicPr>
        <p:blipFill>
          <a:blip r:embed="rId3"/>
          <a:stretch/>
        </p:blipFill>
        <p:spPr>
          <a:xfrm>
            <a:off x="1204920" y="1542960"/>
            <a:ext cx="2139840" cy="3003480"/>
          </a:xfrm>
          <a:prstGeom prst="rect">
            <a:avLst/>
          </a:prstGeom>
          <a:ln w="0">
            <a:noFill/>
          </a:ln>
        </p:spPr>
      </p:pic>
      <p:sp>
        <p:nvSpPr>
          <p:cNvPr id="621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1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1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smo odręczne 34" descr=""/>
          <p:cNvPicPr/>
          <p:nvPr/>
        </p:nvPicPr>
        <p:blipFill>
          <a:blip r:embed="rId1"/>
          <a:stretch/>
        </p:blipFill>
        <p:spPr>
          <a:xfrm>
            <a:off x="1322280" y="2335320"/>
            <a:ext cx="1208160" cy="344520"/>
          </a:xfrm>
          <a:prstGeom prst="rect">
            <a:avLst/>
          </a:prstGeom>
          <a:ln w="0">
            <a:noFill/>
          </a:ln>
        </p:spPr>
      </p:pic>
      <p:pic>
        <p:nvPicPr>
          <p:cNvPr id="626" name="Pismo odręczne 35" descr=""/>
          <p:cNvPicPr/>
          <p:nvPr/>
        </p:nvPicPr>
        <p:blipFill>
          <a:blip r:embed="rId2"/>
          <a:stretch/>
        </p:blipFill>
        <p:spPr>
          <a:xfrm>
            <a:off x="1333440" y="2602080"/>
            <a:ext cx="316080" cy="1118880"/>
          </a:xfrm>
          <a:prstGeom prst="rect">
            <a:avLst/>
          </a:prstGeom>
          <a:ln w="0">
            <a:noFill/>
          </a:ln>
        </p:spPr>
      </p:pic>
      <p:pic>
        <p:nvPicPr>
          <p:cNvPr id="627" name="Pismo odręczne 36" descr=""/>
          <p:cNvPicPr/>
          <p:nvPr/>
        </p:nvPicPr>
        <p:blipFill>
          <a:blip r:embed="rId3"/>
          <a:stretch/>
        </p:blipFill>
        <p:spPr>
          <a:xfrm>
            <a:off x="1616040" y="2935440"/>
            <a:ext cx="581040" cy="765000"/>
          </a:xfrm>
          <a:prstGeom prst="rect">
            <a:avLst/>
          </a:prstGeom>
          <a:ln w="0">
            <a:noFill/>
          </a:ln>
        </p:spPr>
      </p:pic>
      <p:pic>
        <p:nvPicPr>
          <p:cNvPr id="628" name="Pismo odręczne 40" descr=""/>
          <p:cNvPicPr/>
          <p:nvPr/>
        </p:nvPicPr>
        <p:blipFill>
          <a:blip r:embed="rId4"/>
          <a:stretch/>
        </p:blipFill>
        <p:spPr>
          <a:xfrm>
            <a:off x="2330280" y="3006720"/>
            <a:ext cx="498600" cy="631800"/>
          </a:xfrm>
          <a:prstGeom prst="rect">
            <a:avLst/>
          </a:prstGeom>
          <a:ln w="0">
            <a:noFill/>
          </a:ln>
        </p:spPr>
      </p:pic>
      <p:sp>
        <p:nvSpPr>
          <p:cNvPr id="629" name="pole tekstowe 9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1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1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1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smo odręczne 4" descr=""/>
          <p:cNvPicPr/>
          <p:nvPr/>
        </p:nvPicPr>
        <p:blipFill>
          <a:blip r:embed="rId1"/>
          <a:stretch/>
        </p:blipFill>
        <p:spPr>
          <a:xfrm>
            <a:off x="1620720" y="2557440"/>
            <a:ext cx="871560" cy="882720"/>
          </a:xfrm>
          <a:prstGeom prst="rect">
            <a:avLst/>
          </a:prstGeom>
          <a:ln w="0">
            <a:noFill/>
          </a:ln>
        </p:spPr>
      </p:pic>
      <p:pic>
        <p:nvPicPr>
          <p:cNvPr id="635" name="Pismo odręczne 8" descr=""/>
          <p:cNvPicPr/>
          <p:nvPr/>
        </p:nvPicPr>
        <p:blipFill>
          <a:blip r:embed="rId2"/>
          <a:stretch/>
        </p:blipFill>
        <p:spPr>
          <a:xfrm>
            <a:off x="-1521000" y="2370240"/>
            <a:ext cx="38160" cy="38160"/>
          </a:xfrm>
          <a:prstGeom prst="rect">
            <a:avLst/>
          </a:prstGeom>
          <a:ln w="0">
            <a:noFill/>
          </a:ln>
        </p:spPr>
      </p:pic>
      <p:sp>
        <p:nvSpPr>
          <p:cNvPr id="636" name="pole tekstowe 7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1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1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1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smo odręczne 3" descr=""/>
          <p:cNvPicPr/>
          <p:nvPr/>
        </p:nvPicPr>
        <p:blipFill>
          <a:blip r:embed="rId1"/>
          <a:stretch/>
        </p:blipFill>
        <p:spPr>
          <a:xfrm>
            <a:off x="1936800" y="3132000"/>
            <a:ext cx="144360" cy="174600"/>
          </a:xfrm>
          <a:prstGeom prst="rect">
            <a:avLst/>
          </a:prstGeom>
          <a:ln w="0">
            <a:noFill/>
          </a:ln>
        </p:spPr>
      </p:pic>
      <p:sp>
        <p:nvSpPr>
          <p:cNvPr id="642" name="pole tekstowe 7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1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1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1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rostokąt 37"/>
          <p:cNvSpPr/>
          <p:nvPr/>
        </p:nvSpPr>
        <p:spPr>
          <a:xfrm>
            <a:off x="1763640" y="981000"/>
            <a:ext cx="4392720" cy="576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Obraz 2" descr=""/>
          <p:cNvPicPr/>
          <p:nvPr/>
        </p:nvPicPr>
        <p:blipFill>
          <a:blip r:embed="rId1"/>
          <a:stretch/>
        </p:blipFill>
        <p:spPr>
          <a:xfrm>
            <a:off x="1908000" y="1011240"/>
            <a:ext cx="4032360" cy="5700600"/>
          </a:xfrm>
          <a:prstGeom prst="rect">
            <a:avLst/>
          </a:prstGeom>
          <a:ln w="0">
            <a:noFill/>
          </a:ln>
        </p:spPr>
      </p:pic>
      <p:sp>
        <p:nvSpPr>
          <p:cNvPr id="646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ole tekstowe 17"/>
          <p:cNvSpPr/>
          <p:nvPr/>
        </p:nvSpPr>
        <p:spPr>
          <a:xfrm>
            <a:off x="4603680" y="2413080"/>
            <a:ext cx="41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 Black"/>
              </a:rPr>
              <a:t>KARTA DO GŁOSO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ole tekstowe 1"/>
          <p:cNvSpPr/>
          <p:nvPr/>
        </p:nvSpPr>
        <p:spPr>
          <a:xfrm>
            <a:off x="108000" y="1268280"/>
            <a:ext cx="8856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Art. 5 ust. 12 Kodeksu wyborcz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lekroć w kodeksie jest mowa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 Black"/>
                <a:ea typeface="Arial"/>
              </a:rPr>
              <a:t>znaku „</a:t>
            </a:r>
            <a:r>
              <a:rPr b="1" lang="pl-PL" sz="4000" spc="-1" strike="noStrike">
                <a:solidFill>
                  <a:srgbClr val="ff0000"/>
                </a:solidFill>
                <a:latin typeface="Arial Black"/>
                <a:ea typeface="Arial"/>
              </a:rPr>
              <a:t>X</a:t>
            </a:r>
            <a:r>
              <a:rPr b="1" lang="pl-PL" sz="4000" spc="-1" strike="noStrike">
                <a:solidFill>
                  <a:srgbClr val="c00000"/>
                </a:solidFill>
                <a:latin typeface="Arial Black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ole tekstowe 2"/>
          <p:cNvSpPr/>
          <p:nvPr/>
        </p:nvSpPr>
        <p:spPr>
          <a:xfrm>
            <a:off x="1908000" y="47628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DEFINICJA ZNAKU „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rostokąt 1"/>
          <p:cNvSpPr/>
          <p:nvPr/>
        </p:nvSpPr>
        <p:spPr>
          <a:xfrm>
            <a:off x="250920" y="3573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 Black"/>
                <a:ea typeface="Arial"/>
              </a:rPr>
              <a:t>– </a:t>
            </a:r>
            <a:r>
              <a:rPr b="1" lang="pl-PL" sz="2800" spc="-1" strike="noStrike">
                <a:solidFill>
                  <a:srgbClr val="c00000"/>
                </a:solidFill>
                <a:latin typeface="Arial Black"/>
                <a:ea typeface="Arial"/>
              </a:rPr>
              <a:t>rozumie się przez to co najmniej dwie linie, któr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rostokąt 5"/>
          <p:cNvSpPr/>
          <p:nvPr/>
        </p:nvSpPr>
        <p:spPr>
          <a:xfrm>
            <a:off x="220680" y="522936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Należy zwrócić szczególną uwagę, że w referendum dopisanie na karcie do głosowania dodatkowych pytań lub wariantów rozwiązania albo poczynienie innych dopisków poza kratką nie wpływa na ważność głos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ole tekstowe 2"/>
          <p:cNvSpPr/>
          <p:nvPr/>
        </p:nvSpPr>
        <p:spPr>
          <a:xfrm>
            <a:off x="826920" y="507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KWALIFIKACJA WAŻNOŚCI GŁOSÓW - QU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13" descr="j0233018"/>
          <p:cNvPicPr/>
          <p:nvPr/>
        </p:nvPicPr>
        <p:blipFill>
          <a:blip r:embed="rId1"/>
          <a:stretch/>
        </p:blipFill>
        <p:spPr>
          <a:xfrm>
            <a:off x="2700360" y="2565360"/>
            <a:ext cx="4032360" cy="292104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10"/>
          <p:cNvSpPr/>
          <p:nvPr/>
        </p:nvSpPr>
        <p:spPr>
          <a:xfrm>
            <a:off x="324000" y="2749680"/>
            <a:ext cx="3238200" cy="961920"/>
          </a:xfrm>
          <a:prstGeom prst="cloudCallout">
            <a:avLst>
              <a:gd name="adj1" fmla="val 51898"/>
              <a:gd name="adj2" fmla="val 94962"/>
            </a:avLst>
          </a:prstGeom>
          <a:solidFill>
            <a:srgbClr val="9d032a"/>
          </a:solidFill>
          <a:ln w="38160">
            <a:solidFill>
              <a:srgbClr val="bfbfbf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Franklin Gothic Book"/>
              </a:rPr>
              <a:t>Głos nie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8"/>
          <p:cNvSpPr/>
          <p:nvPr/>
        </p:nvSpPr>
        <p:spPr>
          <a:xfrm>
            <a:off x="2124000" y="1413000"/>
            <a:ext cx="2519280" cy="1079280"/>
          </a:xfrm>
          <a:prstGeom prst="cloudCallout">
            <a:avLst>
              <a:gd name="adj1" fmla="val 59583"/>
              <a:gd name="adj2" fmla="val 110754"/>
            </a:avLst>
          </a:prstGeom>
          <a:solidFill>
            <a:srgbClr val="ffffff"/>
          </a:solidFill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d032a"/>
                </a:solidFill>
                <a:latin typeface="Franklin Gothic Book"/>
              </a:rPr>
              <a:t>Głos </a:t>
            </a:r>
            <a:r>
              <a:rPr b="1" lang="pl-PL" sz="2400" spc="-1" strike="noStrike">
                <a:solidFill>
                  <a:srgbClr val="9d032a"/>
                </a:solidFill>
                <a:latin typeface="Franklin Gothic Book"/>
              </a:rPr>
              <a:t>nie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2"/>
          <p:cNvSpPr/>
          <p:nvPr/>
        </p:nvSpPr>
        <p:spPr>
          <a:xfrm>
            <a:off x="6300720" y="1628640"/>
            <a:ext cx="2600280" cy="928800"/>
          </a:xfrm>
          <a:prstGeom prst="cloudCallout">
            <a:avLst>
              <a:gd name="adj1" fmla="val -41550"/>
              <a:gd name="adj2" fmla="val 131060"/>
            </a:avLst>
          </a:prstGeom>
          <a:solidFill>
            <a:srgbClr val="bfbfbf"/>
          </a:solidFill>
          <a:ln w="38160">
            <a:solidFill>
              <a:srgbClr val="9d032a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Głos 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6"/>
          <p:cNvSpPr/>
          <p:nvPr/>
        </p:nvSpPr>
        <p:spPr>
          <a:xfrm>
            <a:off x="6499080" y="3135240"/>
            <a:ext cx="2448000" cy="1152720"/>
          </a:xfrm>
          <a:prstGeom prst="cloudCallout">
            <a:avLst>
              <a:gd name="adj1" fmla="val -84296"/>
              <a:gd name="adj2" fmla="val 102175"/>
            </a:avLst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Głos 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8" name="pole tekstowe 4"/>
          <p:cNvSpPr/>
          <p:nvPr/>
        </p:nvSpPr>
        <p:spPr>
          <a:xfrm>
            <a:off x="4603680" y="112536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ole tekstowe 6"/>
          <p:cNvSpPr/>
          <p:nvPr/>
        </p:nvSpPr>
        <p:spPr>
          <a:xfrm>
            <a:off x="4357800" y="2319480"/>
            <a:ext cx="47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Oddany na pytanie n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Łącznik prosty 10"/>
          <p:cNvSpPr/>
          <p:nvPr/>
        </p:nvSpPr>
        <p:spPr>
          <a:xfrm flipV="1">
            <a:off x="2813040" y="3103560"/>
            <a:ext cx="181080" cy="1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Łącznik prosty 11"/>
          <p:cNvSpPr/>
          <p:nvPr/>
        </p:nvSpPr>
        <p:spPr>
          <a:xfrm>
            <a:off x="2843280" y="3141720"/>
            <a:ext cx="1792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ole tekstowe 12"/>
          <p:cNvSpPr/>
          <p:nvPr/>
        </p:nvSpPr>
        <p:spPr>
          <a:xfrm>
            <a:off x="4343400" y="2762280"/>
            <a:ext cx="47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się w obręb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ole tekstowe 13"/>
          <p:cNvSpPr/>
          <p:nvPr/>
        </p:nvSpPr>
        <p:spPr>
          <a:xfrm>
            <a:off x="4603680" y="386064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ole tekstowe 14"/>
          <p:cNvSpPr/>
          <p:nvPr/>
        </p:nvSpPr>
        <p:spPr>
          <a:xfrm>
            <a:off x="4321080" y="492120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Dotyczy pytania nr 1,3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ole tekstowe 15"/>
          <p:cNvSpPr/>
          <p:nvPr/>
        </p:nvSpPr>
        <p:spPr>
          <a:xfrm>
            <a:off x="4248000" y="530064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,,X”  w żadnej z kratek przy danym pytani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Obraz 2" descr=""/>
          <p:cNvPicPr/>
          <p:nvPr/>
        </p:nvPicPr>
        <p:blipFill>
          <a:blip r:embed="rId2"/>
          <a:stretch/>
        </p:blipFill>
        <p:spPr>
          <a:xfrm>
            <a:off x="836640" y="590544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9" name="Łącznik prosty 10"/>
          <p:cNvSpPr/>
          <p:nvPr/>
        </p:nvSpPr>
        <p:spPr>
          <a:xfrm flipV="1">
            <a:off x="2813040" y="3103560"/>
            <a:ext cx="181080" cy="1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Łącznik prosty 11"/>
          <p:cNvSpPr/>
          <p:nvPr/>
        </p:nvSpPr>
        <p:spPr>
          <a:xfrm>
            <a:off x="2843280" y="3141720"/>
            <a:ext cx="1792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ole tekstowe 13"/>
          <p:cNvSpPr/>
          <p:nvPr/>
        </p:nvSpPr>
        <p:spPr>
          <a:xfrm>
            <a:off x="4643280" y="1700280"/>
            <a:ext cx="36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ole tekstowe 14"/>
          <p:cNvSpPr/>
          <p:nvPr/>
        </p:nvSpPr>
        <p:spPr>
          <a:xfrm>
            <a:off x="4321080" y="292428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Dotyczy pytania nr 1,2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ole tekstowe 15"/>
          <p:cNvSpPr/>
          <p:nvPr/>
        </p:nvSpPr>
        <p:spPr>
          <a:xfrm>
            <a:off x="4321080" y="355608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,,X”  w żadnej z kratek przy  pytaniu nr 1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Łącznik prosty 16"/>
          <p:cNvSpPr/>
          <p:nvPr/>
        </p:nvSpPr>
        <p:spPr>
          <a:xfrm>
            <a:off x="1297080" y="3141720"/>
            <a:ext cx="1792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Łącznik prosty 17"/>
          <p:cNvSpPr/>
          <p:nvPr/>
        </p:nvSpPr>
        <p:spPr>
          <a:xfrm flipV="1">
            <a:off x="1341360" y="3085920"/>
            <a:ext cx="181080" cy="14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ole tekstowe 18"/>
          <p:cNvSpPr/>
          <p:nvPr/>
        </p:nvSpPr>
        <p:spPr>
          <a:xfrm>
            <a:off x="4392720" y="4941720"/>
            <a:ext cx="47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Postawiono znak ,,X”  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w obu kratkach przy  pytaniu nr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Obraz 12" descr=""/>
          <p:cNvPicPr/>
          <p:nvPr/>
        </p:nvPicPr>
        <p:blipFill>
          <a:blip r:embed="rId2"/>
          <a:stretch/>
        </p:blipFill>
        <p:spPr>
          <a:xfrm>
            <a:off x="836640" y="590544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0" name="Łącznik prosty 10"/>
          <p:cNvSpPr/>
          <p:nvPr/>
        </p:nvSpPr>
        <p:spPr>
          <a:xfrm flipV="1">
            <a:off x="841320" y="1352520"/>
            <a:ext cx="181080" cy="1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Łącznik prosty 11"/>
          <p:cNvSpPr/>
          <p:nvPr/>
        </p:nvSpPr>
        <p:spPr>
          <a:xfrm>
            <a:off x="858960" y="1389240"/>
            <a:ext cx="1792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le tekstowe 9"/>
          <p:cNvSpPr/>
          <p:nvPr/>
        </p:nvSpPr>
        <p:spPr>
          <a:xfrm>
            <a:off x="4754520" y="20638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ole tekstowe 12"/>
          <p:cNvSpPr/>
          <p:nvPr/>
        </p:nvSpPr>
        <p:spPr>
          <a:xfrm>
            <a:off x="4321080" y="320832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Dotyczy pytania nr 1,2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ole tekstowe 13"/>
          <p:cNvSpPr/>
          <p:nvPr/>
        </p:nvSpPr>
        <p:spPr>
          <a:xfrm>
            <a:off x="4356000" y="384336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Znak ,,X” postawiony poza przeznaczoną na to kratką, w zakresie danego pyt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Obraz 8" descr=""/>
          <p:cNvPicPr/>
          <p:nvPr/>
        </p:nvPicPr>
        <p:blipFill>
          <a:blip r:embed="rId2"/>
          <a:stretch/>
        </p:blipFill>
        <p:spPr>
          <a:xfrm>
            <a:off x="836640" y="590544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8" name="pole tekstowe 9"/>
          <p:cNvSpPr/>
          <p:nvPr/>
        </p:nvSpPr>
        <p:spPr>
          <a:xfrm>
            <a:off x="4754520" y="20638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ole tekstowe 12"/>
          <p:cNvSpPr/>
          <p:nvPr/>
        </p:nvSpPr>
        <p:spPr>
          <a:xfrm>
            <a:off x="4321080" y="320832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Dotyczy pytania nr 1,2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ole tekstowe 13"/>
          <p:cNvSpPr/>
          <p:nvPr/>
        </p:nvSpPr>
        <p:spPr>
          <a:xfrm>
            <a:off x="4356000" y="384480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,,X” w żadnej z kratek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przy danym pytani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raz 6" descr=""/>
          <p:cNvPicPr/>
          <p:nvPr/>
        </p:nvPicPr>
        <p:blipFill>
          <a:blip r:embed="rId2"/>
          <a:stretch/>
        </p:blipFill>
        <p:spPr>
          <a:xfrm>
            <a:off x="836640" y="590544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4" name="pole tekstowe 9"/>
          <p:cNvSpPr/>
          <p:nvPr/>
        </p:nvSpPr>
        <p:spPr>
          <a:xfrm>
            <a:off x="4754520" y="1268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ole tekstowe 12"/>
          <p:cNvSpPr/>
          <p:nvPr/>
        </p:nvSpPr>
        <p:spPr>
          <a:xfrm>
            <a:off x="4321080" y="234936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Dotyczy pytania nr 1,2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ole tekstowe 13"/>
          <p:cNvSpPr/>
          <p:nvPr/>
        </p:nvSpPr>
        <p:spPr>
          <a:xfrm>
            <a:off x="4356000" y="305280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,,X” w żadnej z kratek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przy pytaniu nr 1,2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ole tekstowe 14"/>
          <p:cNvSpPr/>
          <p:nvPr/>
        </p:nvSpPr>
        <p:spPr>
          <a:xfrm>
            <a:off x="4433760" y="4581360"/>
            <a:ext cx="47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Poczynienie innych dopisków poza kratką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nie wpływa na ważność głos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Dowolny kształt: kształt 5"/>
          <p:cNvSpPr/>
          <p:nvPr/>
        </p:nvSpPr>
        <p:spPr>
          <a:xfrm>
            <a:off x="1189080" y="2228760"/>
            <a:ext cx="717480" cy="287280"/>
          </a:xfrm>
          <a:custGeom>
            <a:avLst/>
            <a:gdLst/>
            <a:ahLst/>
            <a:rect l="l" t="t" r="r" b="b"/>
            <a:pathLst>
              <a:path w="339062" h="408369">
                <a:moveTo>
                  <a:pt x="179614" y="27369"/>
                </a:moveTo>
                <a:cubicBezTo>
                  <a:pt x="118511" y="20580"/>
                  <a:pt x="87158" y="14491"/>
                  <a:pt x="16329" y="27369"/>
                </a:cubicBezTo>
                <a:cubicBezTo>
                  <a:pt x="10684" y="28395"/>
                  <a:pt x="12901" y="38326"/>
                  <a:pt x="10886" y="43698"/>
                </a:cubicBezTo>
                <a:cubicBezTo>
                  <a:pt x="7455" y="52846"/>
                  <a:pt x="3629" y="61841"/>
                  <a:pt x="0" y="70912"/>
                </a:cubicBezTo>
                <a:cubicBezTo>
                  <a:pt x="1814" y="103569"/>
                  <a:pt x="1213" y="136450"/>
                  <a:pt x="5443" y="168883"/>
                </a:cubicBezTo>
                <a:cubicBezTo>
                  <a:pt x="6707" y="178571"/>
                  <a:pt x="13239" y="186829"/>
                  <a:pt x="16329" y="196098"/>
                </a:cubicBezTo>
                <a:cubicBezTo>
                  <a:pt x="26724" y="227285"/>
                  <a:pt x="15618" y="211006"/>
                  <a:pt x="32657" y="245083"/>
                </a:cubicBezTo>
                <a:cubicBezTo>
                  <a:pt x="35583" y="250934"/>
                  <a:pt x="40886" y="255434"/>
                  <a:pt x="43543" y="261412"/>
                </a:cubicBezTo>
                <a:cubicBezTo>
                  <a:pt x="48203" y="271898"/>
                  <a:pt x="48857" y="284038"/>
                  <a:pt x="54429" y="294069"/>
                </a:cubicBezTo>
                <a:cubicBezTo>
                  <a:pt x="58167" y="300798"/>
                  <a:pt x="66283" y="304134"/>
                  <a:pt x="70757" y="310398"/>
                </a:cubicBezTo>
                <a:cubicBezTo>
                  <a:pt x="75473" y="317000"/>
                  <a:pt x="76505" y="325889"/>
                  <a:pt x="81643" y="332169"/>
                </a:cubicBezTo>
                <a:cubicBezTo>
                  <a:pt x="93016" y="346070"/>
                  <a:pt x="107043" y="357569"/>
                  <a:pt x="119743" y="370269"/>
                </a:cubicBezTo>
                <a:cubicBezTo>
                  <a:pt x="135986" y="386512"/>
                  <a:pt x="135323" y="389294"/>
                  <a:pt x="157843" y="397483"/>
                </a:cubicBezTo>
                <a:cubicBezTo>
                  <a:pt x="170256" y="401997"/>
                  <a:pt x="183243" y="404740"/>
                  <a:pt x="195943" y="408369"/>
                </a:cubicBezTo>
                <a:cubicBezTo>
                  <a:pt x="221343" y="406555"/>
                  <a:pt x="247782" y="410340"/>
                  <a:pt x="272143" y="402926"/>
                </a:cubicBezTo>
                <a:cubicBezTo>
                  <a:pt x="290917" y="397212"/>
                  <a:pt x="321129" y="370269"/>
                  <a:pt x="321129" y="370269"/>
                </a:cubicBezTo>
                <a:cubicBezTo>
                  <a:pt x="322943" y="364826"/>
                  <a:pt x="325369" y="359550"/>
                  <a:pt x="326571" y="353940"/>
                </a:cubicBezTo>
                <a:cubicBezTo>
                  <a:pt x="342368" y="280218"/>
                  <a:pt x="342018" y="269808"/>
                  <a:pt x="332014" y="179769"/>
                </a:cubicBezTo>
                <a:cubicBezTo>
                  <a:pt x="324646" y="113454"/>
                  <a:pt x="331253" y="108360"/>
                  <a:pt x="293914" y="76355"/>
                </a:cubicBezTo>
                <a:cubicBezTo>
                  <a:pt x="288947" y="72098"/>
                  <a:pt x="283598" y="68046"/>
                  <a:pt x="277586" y="65469"/>
                </a:cubicBezTo>
                <a:cubicBezTo>
                  <a:pt x="270710" y="62522"/>
                  <a:pt x="263071" y="61840"/>
                  <a:pt x="255814" y="60026"/>
                </a:cubicBezTo>
                <a:cubicBezTo>
                  <a:pt x="252186" y="52769"/>
                  <a:pt x="250123" y="44488"/>
                  <a:pt x="244929" y="38255"/>
                </a:cubicBezTo>
                <a:cubicBezTo>
                  <a:pt x="235038" y="26385"/>
                  <a:pt x="220468" y="25336"/>
                  <a:pt x="206829" y="21926"/>
                </a:cubicBezTo>
                <a:cubicBezTo>
                  <a:pt x="194470" y="13686"/>
                  <a:pt x="178504" y="1423"/>
                  <a:pt x="163286" y="155"/>
                </a:cubicBezTo>
                <a:cubicBezTo>
                  <a:pt x="150501" y="-910"/>
                  <a:pt x="137886" y="3784"/>
                  <a:pt x="125186" y="5598"/>
                </a:cubicBezTo>
                <a:cubicBezTo>
                  <a:pt x="113975" y="67254"/>
                  <a:pt x="114300" y="45185"/>
                  <a:pt x="114300" y="7091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Dowolny kształt: kształt 5"/>
          <p:cNvSpPr/>
          <p:nvPr/>
        </p:nvSpPr>
        <p:spPr>
          <a:xfrm>
            <a:off x="2627280" y="2209680"/>
            <a:ext cx="719280" cy="287280"/>
          </a:xfrm>
          <a:custGeom>
            <a:avLst/>
            <a:gdLst/>
            <a:ahLst/>
            <a:rect l="l" t="t" r="r" b="b"/>
            <a:pathLst>
              <a:path w="339062" h="408369">
                <a:moveTo>
                  <a:pt x="179614" y="27369"/>
                </a:moveTo>
                <a:cubicBezTo>
                  <a:pt x="118511" y="20580"/>
                  <a:pt x="87158" y="14491"/>
                  <a:pt x="16329" y="27369"/>
                </a:cubicBezTo>
                <a:cubicBezTo>
                  <a:pt x="10684" y="28395"/>
                  <a:pt x="12901" y="38326"/>
                  <a:pt x="10886" y="43698"/>
                </a:cubicBezTo>
                <a:cubicBezTo>
                  <a:pt x="7455" y="52846"/>
                  <a:pt x="3629" y="61841"/>
                  <a:pt x="0" y="70912"/>
                </a:cubicBezTo>
                <a:cubicBezTo>
                  <a:pt x="1814" y="103569"/>
                  <a:pt x="1213" y="136450"/>
                  <a:pt x="5443" y="168883"/>
                </a:cubicBezTo>
                <a:cubicBezTo>
                  <a:pt x="6707" y="178571"/>
                  <a:pt x="13239" y="186829"/>
                  <a:pt x="16329" y="196098"/>
                </a:cubicBezTo>
                <a:cubicBezTo>
                  <a:pt x="26724" y="227285"/>
                  <a:pt x="15618" y="211006"/>
                  <a:pt x="32657" y="245083"/>
                </a:cubicBezTo>
                <a:cubicBezTo>
                  <a:pt x="35583" y="250934"/>
                  <a:pt x="40886" y="255434"/>
                  <a:pt x="43543" y="261412"/>
                </a:cubicBezTo>
                <a:cubicBezTo>
                  <a:pt x="48203" y="271898"/>
                  <a:pt x="48857" y="284038"/>
                  <a:pt x="54429" y="294069"/>
                </a:cubicBezTo>
                <a:cubicBezTo>
                  <a:pt x="58167" y="300798"/>
                  <a:pt x="66283" y="304134"/>
                  <a:pt x="70757" y="310398"/>
                </a:cubicBezTo>
                <a:cubicBezTo>
                  <a:pt x="75473" y="317000"/>
                  <a:pt x="76505" y="325889"/>
                  <a:pt x="81643" y="332169"/>
                </a:cubicBezTo>
                <a:cubicBezTo>
                  <a:pt x="93016" y="346070"/>
                  <a:pt x="107043" y="357569"/>
                  <a:pt x="119743" y="370269"/>
                </a:cubicBezTo>
                <a:cubicBezTo>
                  <a:pt x="135986" y="386512"/>
                  <a:pt x="135323" y="389294"/>
                  <a:pt x="157843" y="397483"/>
                </a:cubicBezTo>
                <a:cubicBezTo>
                  <a:pt x="170256" y="401997"/>
                  <a:pt x="183243" y="404740"/>
                  <a:pt x="195943" y="408369"/>
                </a:cubicBezTo>
                <a:cubicBezTo>
                  <a:pt x="221343" y="406555"/>
                  <a:pt x="247782" y="410340"/>
                  <a:pt x="272143" y="402926"/>
                </a:cubicBezTo>
                <a:cubicBezTo>
                  <a:pt x="290917" y="397212"/>
                  <a:pt x="321129" y="370269"/>
                  <a:pt x="321129" y="370269"/>
                </a:cubicBezTo>
                <a:cubicBezTo>
                  <a:pt x="322943" y="364826"/>
                  <a:pt x="325369" y="359550"/>
                  <a:pt x="326571" y="353940"/>
                </a:cubicBezTo>
                <a:cubicBezTo>
                  <a:pt x="342368" y="280218"/>
                  <a:pt x="342018" y="269808"/>
                  <a:pt x="332014" y="179769"/>
                </a:cubicBezTo>
                <a:cubicBezTo>
                  <a:pt x="324646" y="113454"/>
                  <a:pt x="331253" y="108360"/>
                  <a:pt x="293914" y="76355"/>
                </a:cubicBezTo>
                <a:cubicBezTo>
                  <a:pt x="288947" y="72098"/>
                  <a:pt x="283598" y="68046"/>
                  <a:pt x="277586" y="65469"/>
                </a:cubicBezTo>
                <a:cubicBezTo>
                  <a:pt x="270710" y="62522"/>
                  <a:pt x="263071" y="61840"/>
                  <a:pt x="255814" y="60026"/>
                </a:cubicBezTo>
                <a:cubicBezTo>
                  <a:pt x="252186" y="52769"/>
                  <a:pt x="250123" y="44488"/>
                  <a:pt x="244929" y="38255"/>
                </a:cubicBezTo>
                <a:cubicBezTo>
                  <a:pt x="235038" y="26385"/>
                  <a:pt x="220468" y="25336"/>
                  <a:pt x="206829" y="21926"/>
                </a:cubicBezTo>
                <a:cubicBezTo>
                  <a:pt x="194470" y="13686"/>
                  <a:pt x="178504" y="1423"/>
                  <a:pt x="163286" y="155"/>
                </a:cubicBezTo>
                <a:cubicBezTo>
                  <a:pt x="150501" y="-910"/>
                  <a:pt x="137886" y="3784"/>
                  <a:pt x="125186" y="5598"/>
                </a:cubicBezTo>
                <a:cubicBezTo>
                  <a:pt x="113975" y="67254"/>
                  <a:pt x="114300" y="45185"/>
                  <a:pt x="114300" y="7091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Dowolny kształt: kształt 5"/>
          <p:cNvSpPr/>
          <p:nvPr/>
        </p:nvSpPr>
        <p:spPr>
          <a:xfrm>
            <a:off x="1116000" y="3819600"/>
            <a:ext cx="719280" cy="287280"/>
          </a:xfrm>
          <a:custGeom>
            <a:avLst/>
            <a:gdLst/>
            <a:ahLst/>
            <a:rect l="l" t="t" r="r" b="b"/>
            <a:pathLst>
              <a:path w="339062" h="408369">
                <a:moveTo>
                  <a:pt x="179614" y="27369"/>
                </a:moveTo>
                <a:cubicBezTo>
                  <a:pt x="118511" y="20580"/>
                  <a:pt x="87158" y="14491"/>
                  <a:pt x="16329" y="27369"/>
                </a:cubicBezTo>
                <a:cubicBezTo>
                  <a:pt x="10684" y="28395"/>
                  <a:pt x="12901" y="38326"/>
                  <a:pt x="10886" y="43698"/>
                </a:cubicBezTo>
                <a:cubicBezTo>
                  <a:pt x="7455" y="52846"/>
                  <a:pt x="3629" y="61841"/>
                  <a:pt x="0" y="70912"/>
                </a:cubicBezTo>
                <a:cubicBezTo>
                  <a:pt x="1814" y="103569"/>
                  <a:pt x="1213" y="136450"/>
                  <a:pt x="5443" y="168883"/>
                </a:cubicBezTo>
                <a:cubicBezTo>
                  <a:pt x="6707" y="178571"/>
                  <a:pt x="13239" y="186829"/>
                  <a:pt x="16329" y="196098"/>
                </a:cubicBezTo>
                <a:cubicBezTo>
                  <a:pt x="26724" y="227285"/>
                  <a:pt x="15618" y="211006"/>
                  <a:pt x="32657" y="245083"/>
                </a:cubicBezTo>
                <a:cubicBezTo>
                  <a:pt x="35583" y="250934"/>
                  <a:pt x="40886" y="255434"/>
                  <a:pt x="43543" y="261412"/>
                </a:cubicBezTo>
                <a:cubicBezTo>
                  <a:pt x="48203" y="271898"/>
                  <a:pt x="48857" y="284038"/>
                  <a:pt x="54429" y="294069"/>
                </a:cubicBezTo>
                <a:cubicBezTo>
                  <a:pt x="58167" y="300798"/>
                  <a:pt x="66283" y="304134"/>
                  <a:pt x="70757" y="310398"/>
                </a:cubicBezTo>
                <a:cubicBezTo>
                  <a:pt x="75473" y="317000"/>
                  <a:pt x="76505" y="325889"/>
                  <a:pt x="81643" y="332169"/>
                </a:cubicBezTo>
                <a:cubicBezTo>
                  <a:pt x="93016" y="346070"/>
                  <a:pt x="107043" y="357569"/>
                  <a:pt x="119743" y="370269"/>
                </a:cubicBezTo>
                <a:cubicBezTo>
                  <a:pt x="135986" y="386512"/>
                  <a:pt x="135323" y="389294"/>
                  <a:pt x="157843" y="397483"/>
                </a:cubicBezTo>
                <a:cubicBezTo>
                  <a:pt x="170256" y="401997"/>
                  <a:pt x="183243" y="404740"/>
                  <a:pt x="195943" y="408369"/>
                </a:cubicBezTo>
                <a:cubicBezTo>
                  <a:pt x="221343" y="406555"/>
                  <a:pt x="247782" y="410340"/>
                  <a:pt x="272143" y="402926"/>
                </a:cubicBezTo>
                <a:cubicBezTo>
                  <a:pt x="290917" y="397212"/>
                  <a:pt x="321129" y="370269"/>
                  <a:pt x="321129" y="370269"/>
                </a:cubicBezTo>
                <a:cubicBezTo>
                  <a:pt x="322943" y="364826"/>
                  <a:pt x="325369" y="359550"/>
                  <a:pt x="326571" y="353940"/>
                </a:cubicBezTo>
                <a:cubicBezTo>
                  <a:pt x="342368" y="280218"/>
                  <a:pt x="342018" y="269808"/>
                  <a:pt x="332014" y="179769"/>
                </a:cubicBezTo>
                <a:cubicBezTo>
                  <a:pt x="324646" y="113454"/>
                  <a:pt x="331253" y="108360"/>
                  <a:pt x="293914" y="76355"/>
                </a:cubicBezTo>
                <a:cubicBezTo>
                  <a:pt x="288947" y="72098"/>
                  <a:pt x="283598" y="68046"/>
                  <a:pt x="277586" y="65469"/>
                </a:cubicBezTo>
                <a:cubicBezTo>
                  <a:pt x="270710" y="62522"/>
                  <a:pt x="263071" y="61840"/>
                  <a:pt x="255814" y="60026"/>
                </a:cubicBezTo>
                <a:cubicBezTo>
                  <a:pt x="252186" y="52769"/>
                  <a:pt x="250123" y="44488"/>
                  <a:pt x="244929" y="38255"/>
                </a:cubicBezTo>
                <a:cubicBezTo>
                  <a:pt x="235038" y="26385"/>
                  <a:pt x="220468" y="25336"/>
                  <a:pt x="206829" y="21926"/>
                </a:cubicBezTo>
                <a:cubicBezTo>
                  <a:pt x="194470" y="13686"/>
                  <a:pt x="178504" y="1423"/>
                  <a:pt x="163286" y="155"/>
                </a:cubicBezTo>
                <a:cubicBezTo>
                  <a:pt x="150501" y="-910"/>
                  <a:pt x="137886" y="3784"/>
                  <a:pt x="125186" y="5598"/>
                </a:cubicBezTo>
                <a:cubicBezTo>
                  <a:pt x="113975" y="67254"/>
                  <a:pt x="114300" y="45185"/>
                  <a:pt x="114300" y="7091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Dowolny kształt: kształt 5"/>
          <p:cNvSpPr/>
          <p:nvPr/>
        </p:nvSpPr>
        <p:spPr>
          <a:xfrm>
            <a:off x="2631960" y="3833640"/>
            <a:ext cx="719280" cy="287640"/>
          </a:xfrm>
          <a:custGeom>
            <a:avLst/>
            <a:gdLst/>
            <a:ahLst/>
            <a:rect l="l" t="t" r="r" b="b"/>
            <a:pathLst>
              <a:path w="339062" h="408369">
                <a:moveTo>
                  <a:pt x="179614" y="27369"/>
                </a:moveTo>
                <a:cubicBezTo>
                  <a:pt x="118511" y="20580"/>
                  <a:pt x="87158" y="14491"/>
                  <a:pt x="16329" y="27369"/>
                </a:cubicBezTo>
                <a:cubicBezTo>
                  <a:pt x="10684" y="28395"/>
                  <a:pt x="12901" y="38326"/>
                  <a:pt x="10886" y="43698"/>
                </a:cubicBezTo>
                <a:cubicBezTo>
                  <a:pt x="7455" y="52846"/>
                  <a:pt x="3629" y="61841"/>
                  <a:pt x="0" y="70912"/>
                </a:cubicBezTo>
                <a:cubicBezTo>
                  <a:pt x="1814" y="103569"/>
                  <a:pt x="1213" y="136450"/>
                  <a:pt x="5443" y="168883"/>
                </a:cubicBezTo>
                <a:cubicBezTo>
                  <a:pt x="6707" y="178571"/>
                  <a:pt x="13239" y="186829"/>
                  <a:pt x="16329" y="196098"/>
                </a:cubicBezTo>
                <a:cubicBezTo>
                  <a:pt x="26724" y="227285"/>
                  <a:pt x="15618" y="211006"/>
                  <a:pt x="32657" y="245083"/>
                </a:cubicBezTo>
                <a:cubicBezTo>
                  <a:pt x="35583" y="250934"/>
                  <a:pt x="40886" y="255434"/>
                  <a:pt x="43543" y="261412"/>
                </a:cubicBezTo>
                <a:cubicBezTo>
                  <a:pt x="48203" y="271898"/>
                  <a:pt x="48857" y="284038"/>
                  <a:pt x="54429" y="294069"/>
                </a:cubicBezTo>
                <a:cubicBezTo>
                  <a:pt x="58167" y="300798"/>
                  <a:pt x="66283" y="304134"/>
                  <a:pt x="70757" y="310398"/>
                </a:cubicBezTo>
                <a:cubicBezTo>
                  <a:pt x="75473" y="317000"/>
                  <a:pt x="76505" y="325889"/>
                  <a:pt x="81643" y="332169"/>
                </a:cubicBezTo>
                <a:cubicBezTo>
                  <a:pt x="93016" y="346070"/>
                  <a:pt x="107043" y="357569"/>
                  <a:pt x="119743" y="370269"/>
                </a:cubicBezTo>
                <a:cubicBezTo>
                  <a:pt x="135986" y="386512"/>
                  <a:pt x="135323" y="389294"/>
                  <a:pt x="157843" y="397483"/>
                </a:cubicBezTo>
                <a:cubicBezTo>
                  <a:pt x="170256" y="401997"/>
                  <a:pt x="183243" y="404740"/>
                  <a:pt x="195943" y="408369"/>
                </a:cubicBezTo>
                <a:cubicBezTo>
                  <a:pt x="221343" y="406555"/>
                  <a:pt x="247782" y="410340"/>
                  <a:pt x="272143" y="402926"/>
                </a:cubicBezTo>
                <a:cubicBezTo>
                  <a:pt x="290917" y="397212"/>
                  <a:pt x="321129" y="370269"/>
                  <a:pt x="321129" y="370269"/>
                </a:cubicBezTo>
                <a:cubicBezTo>
                  <a:pt x="322943" y="364826"/>
                  <a:pt x="325369" y="359550"/>
                  <a:pt x="326571" y="353940"/>
                </a:cubicBezTo>
                <a:cubicBezTo>
                  <a:pt x="342368" y="280218"/>
                  <a:pt x="342018" y="269808"/>
                  <a:pt x="332014" y="179769"/>
                </a:cubicBezTo>
                <a:cubicBezTo>
                  <a:pt x="324646" y="113454"/>
                  <a:pt x="331253" y="108360"/>
                  <a:pt x="293914" y="76355"/>
                </a:cubicBezTo>
                <a:cubicBezTo>
                  <a:pt x="288947" y="72098"/>
                  <a:pt x="283598" y="68046"/>
                  <a:pt x="277586" y="65469"/>
                </a:cubicBezTo>
                <a:cubicBezTo>
                  <a:pt x="270710" y="62522"/>
                  <a:pt x="263071" y="61840"/>
                  <a:pt x="255814" y="60026"/>
                </a:cubicBezTo>
                <a:cubicBezTo>
                  <a:pt x="252186" y="52769"/>
                  <a:pt x="250123" y="44488"/>
                  <a:pt x="244929" y="38255"/>
                </a:cubicBezTo>
                <a:cubicBezTo>
                  <a:pt x="235038" y="26385"/>
                  <a:pt x="220468" y="25336"/>
                  <a:pt x="206829" y="21926"/>
                </a:cubicBezTo>
                <a:cubicBezTo>
                  <a:pt x="194470" y="13686"/>
                  <a:pt x="178504" y="1423"/>
                  <a:pt x="163286" y="155"/>
                </a:cubicBezTo>
                <a:cubicBezTo>
                  <a:pt x="150501" y="-910"/>
                  <a:pt x="137886" y="3784"/>
                  <a:pt x="125186" y="5598"/>
                </a:cubicBezTo>
                <a:cubicBezTo>
                  <a:pt x="113975" y="67254"/>
                  <a:pt x="114300" y="45185"/>
                  <a:pt x="114300" y="7091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Obraz 16" descr=""/>
          <p:cNvPicPr/>
          <p:nvPr/>
        </p:nvPicPr>
        <p:blipFill>
          <a:blip r:embed="rId2"/>
          <a:stretch/>
        </p:blipFill>
        <p:spPr>
          <a:xfrm>
            <a:off x="836640" y="590544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ole tekstowe 1"/>
          <p:cNvSpPr/>
          <p:nvPr/>
        </p:nvSpPr>
        <p:spPr>
          <a:xfrm>
            <a:off x="108000" y="1268280"/>
            <a:ext cx="8856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Art. 5 ust. 12 Kodeksu wyborcz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lekroć w kodeksie jest mowa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 Black"/>
                <a:ea typeface="Arial"/>
              </a:rPr>
              <a:t>znaku „</a:t>
            </a:r>
            <a:r>
              <a:rPr b="1" lang="pl-PL" sz="4000" spc="-1" strike="noStrike">
                <a:solidFill>
                  <a:srgbClr val="ff0000"/>
                </a:solidFill>
                <a:latin typeface="Arial Black"/>
                <a:ea typeface="Arial"/>
              </a:rPr>
              <a:t>X</a:t>
            </a:r>
            <a:r>
              <a:rPr b="1" lang="pl-PL" sz="4000" spc="-1" strike="noStrike">
                <a:solidFill>
                  <a:srgbClr val="c00000"/>
                </a:solidFill>
                <a:latin typeface="Arial Black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ole tekstowe 2"/>
          <p:cNvSpPr/>
          <p:nvPr/>
        </p:nvSpPr>
        <p:spPr>
          <a:xfrm>
            <a:off x="1908000" y="47628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DEFINICJA ZNAKU „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rostokąt 1"/>
          <p:cNvSpPr/>
          <p:nvPr/>
        </p:nvSpPr>
        <p:spPr>
          <a:xfrm>
            <a:off x="250920" y="3573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 Black"/>
                <a:ea typeface="Arial"/>
              </a:rPr>
              <a:t>– </a:t>
            </a:r>
            <a:r>
              <a:rPr b="1" lang="pl-PL" sz="2800" spc="-1" strike="noStrike">
                <a:solidFill>
                  <a:srgbClr val="c00000"/>
                </a:solidFill>
                <a:latin typeface="Arial Black"/>
                <a:ea typeface="Arial"/>
              </a:rPr>
              <a:t>rozumie się przez to co najmniej dwie linie, któr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rostokąt 5"/>
          <p:cNvSpPr/>
          <p:nvPr/>
        </p:nvSpPr>
        <p:spPr>
          <a:xfrm>
            <a:off x="220680" y="522936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Należy zwrócić szczególną uwagę, że w referendum dopisanie na karcie do głosowania dodatkowych pytań lub wariantów rozwiązania albo poczynienie innych dopisków poza kratką nie wpływa na ważność głos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ole tekstowe 1"/>
          <p:cNvSpPr/>
          <p:nvPr/>
        </p:nvSpPr>
        <p:spPr>
          <a:xfrm>
            <a:off x="179280" y="154152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 stwierdzenia, czy głos oddany na karcie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 głosowania jest </a:t>
            </a: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głosem ważnym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, czy też 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głosem nieważnym</a:t>
            </a: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, 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Arial Black"/>
                <a:ea typeface="Arial"/>
              </a:rPr>
              <a:t>uprawniona</a:t>
            </a: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 jest tylko obwodowa komisja wyborc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ole tekstowe 2"/>
          <p:cNvSpPr/>
          <p:nvPr/>
        </p:nvSpPr>
        <p:spPr>
          <a:xfrm>
            <a:off x="1908000" y="4762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0181b"/>
                </a:solidFill>
                <a:latin typeface="Arial Black"/>
              </a:rPr>
              <a:t>DEFINICJA ZNAKU „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az 2" descr="Gratis vektorgrafik: Telefon, Mobiltelefon, Ikke, Opkald ..."/>
          <p:cNvPicPr/>
          <p:nvPr/>
        </p:nvPicPr>
        <p:blipFill>
          <a:blip r:embed="rId1"/>
          <a:stretch/>
        </p:blipFill>
        <p:spPr>
          <a:xfrm>
            <a:off x="5580000" y="5445000"/>
            <a:ext cx="1513080" cy="1297080"/>
          </a:xfrm>
          <a:prstGeom prst="rect">
            <a:avLst/>
          </a:prstGeom>
          <a:ln w="0">
            <a:noFill/>
          </a:ln>
        </p:spPr>
      </p:pic>
      <p:sp>
        <p:nvSpPr>
          <p:cNvPr id="710" name="Prostokąt 1"/>
          <p:cNvSpPr/>
          <p:nvPr/>
        </p:nvSpPr>
        <p:spPr>
          <a:xfrm>
            <a:off x="324000" y="382428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0181b"/>
                </a:solidFill>
                <a:latin typeface="Arial Black"/>
                <a:ea typeface="Arial"/>
              </a:rPr>
              <a:t>Nie ma możliwości występowania z pytaniami </a:t>
            </a:r>
            <a:br>
              <a:rPr sz="2400"/>
            </a:br>
            <a:r>
              <a:rPr b="1" lang="pl-PL" sz="2400" spc="-1" strike="noStrike">
                <a:solidFill>
                  <a:srgbClr val="90181b"/>
                </a:solidFill>
                <a:latin typeface="Arial Black"/>
                <a:ea typeface="Arial"/>
              </a:rPr>
              <a:t>w tym zakresie do innych podmiotów, w tym do Państwowej Komisji Wyborczej, komisarza wyborczego, urzędnika wyborczego, czy delegatury KB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34560" y="34920"/>
            <a:ext cx="9148680" cy="6858000"/>
          </a:xfrm>
          <a:prstGeom prst="rect">
            <a:avLst/>
          </a:prstGeom>
          <a:noFill/>
          <a:ln w="0">
            <a:noFill/>
          </a:ln>
        </p:spPr>
        <p:txBody>
          <a:bodyPr lIns="540000" rIns="540000" tIns="540000" bIns="5400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12" name="pole tekstowe 2"/>
          <p:cNvSpPr/>
          <p:nvPr/>
        </p:nvSpPr>
        <p:spPr>
          <a:xfrm>
            <a:off x="3564000" y="620640"/>
            <a:ext cx="53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Państw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rostokąt 1"/>
          <p:cNvSpPr/>
          <p:nvPr/>
        </p:nvSpPr>
        <p:spPr>
          <a:xfrm>
            <a:off x="7920" y="1484280"/>
            <a:ext cx="784872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Franklin Gothic Book"/>
              </a:rPr>
              <a:t>Ustalając, czy głos w zakresie danego pytania jest ważny czy nieważny, OKW stosuje poniższe reguł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3333ff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ff"/>
                </a:solidFill>
                <a:latin typeface="Franklin Gothic Book"/>
              </a:rPr>
              <a:t>znakiem „X” postawionym w kratce są co najmniej dwie linie, które przecinają się w obrębie krat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Ustalenie</a:t>
            </a: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czy postawiony znak jest znakiem „X” oraz, czy postawiony jest on w kratce, czy poza nią</a:t>
            </a: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pl-PL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należy</a:t>
            </a:r>
            <a:r>
              <a:rPr b="1" lang="pl-PL" sz="2000" spc="-1" strike="noStrike" u="sng">
                <a:solidFill>
                  <a:srgbClr val="cc0066"/>
                </a:solidFill>
                <a:uFillTx/>
                <a:latin typeface="Franklin Gothic Book"/>
              </a:rPr>
              <a:t> </a:t>
            </a:r>
            <a:r>
              <a:rPr b="1" lang="pl-PL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do  OKW </a:t>
            </a: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(w razie  wątpliwości komisja rozstrzyga w głosowaniu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Franklin Gothic Book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wszelkie znaki, wykreślenia, przekreślenia, w tym również i znak „X” postawiony przez głosującego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poza przeznaczoną na to kratką</a:t>
            </a: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, traktuje się jako dopiski, które nie wpływają na ważność głos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dopisanie na karcie do głosowania dodatkowych pytań lub wariantów rozwiązania albo poczynienie innych dopisków poza kratką nie wpływa na ważność gło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rostokąt 4"/>
          <p:cNvSpPr/>
          <p:nvPr/>
        </p:nvSpPr>
        <p:spPr>
          <a:xfrm>
            <a:off x="8317080" y="4149720"/>
            <a:ext cx="431640" cy="466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rostokąt 5"/>
          <p:cNvSpPr/>
          <p:nvPr/>
        </p:nvSpPr>
        <p:spPr>
          <a:xfrm>
            <a:off x="8299440" y="3070080"/>
            <a:ext cx="43164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Mnożenie 6"/>
          <p:cNvSpPr/>
          <p:nvPr/>
        </p:nvSpPr>
        <p:spPr>
          <a:xfrm>
            <a:off x="8407440" y="3017880"/>
            <a:ext cx="612720" cy="482400"/>
          </a:xfrm>
          <a:custGeom>
            <a:avLst/>
            <a:gdLst/>
            <a:ahLst/>
            <a:rect l="l" t="t" r="r" b="b"/>
            <a:pathLst>
              <a:path w="612775" h="482600">
                <a:moveTo>
                  <a:pt x="112059" y="160495"/>
                </a:moveTo>
                <a:lnTo>
                  <a:pt x="182288" y="71322"/>
                </a:lnTo>
                <a:lnTo>
                  <a:pt x="306388" y="169058"/>
                </a:lnTo>
                <a:lnTo>
                  <a:pt x="430487" y="71322"/>
                </a:lnTo>
                <a:lnTo>
                  <a:pt x="500716" y="160495"/>
                </a:lnTo>
                <a:lnTo>
                  <a:pt x="398115" y="241300"/>
                </a:lnTo>
                <a:lnTo>
                  <a:pt x="500716" y="322105"/>
                </a:lnTo>
                <a:lnTo>
                  <a:pt x="430487" y="411278"/>
                </a:lnTo>
                <a:lnTo>
                  <a:pt x="306388" y="313542"/>
                </a:lnTo>
                <a:lnTo>
                  <a:pt x="182288" y="411278"/>
                </a:lnTo>
                <a:lnTo>
                  <a:pt x="112059" y="322105"/>
                </a:lnTo>
                <a:lnTo>
                  <a:pt x="214660" y="241300"/>
                </a:lnTo>
                <a:lnTo>
                  <a:pt x="112059" y="160495"/>
                </a:lnTo>
                <a:close/>
              </a:path>
            </a:pathLst>
          </a:custGeom>
          <a:solidFill>
            <a:srgbClr val="00206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Mnożenie 8"/>
          <p:cNvSpPr/>
          <p:nvPr/>
        </p:nvSpPr>
        <p:spPr>
          <a:xfrm>
            <a:off x="8353440" y="3494160"/>
            <a:ext cx="395280" cy="798480"/>
          </a:xfrm>
          <a:custGeom>
            <a:avLst/>
            <a:gdLst/>
            <a:ahLst/>
            <a:rect l="l" t="t" r="r" b="b"/>
            <a:pathLst>
              <a:path w="395288" h="798512">
                <a:moveTo>
                  <a:pt x="53278" y="212406"/>
                </a:moveTo>
                <a:lnTo>
                  <a:pt x="136599" y="171159"/>
                </a:lnTo>
                <a:lnTo>
                  <a:pt x="197644" y="294475"/>
                </a:lnTo>
                <a:lnTo>
                  <a:pt x="258689" y="171159"/>
                </a:lnTo>
                <a:lnTo>
                  <a:pt x="342010" y="212406"/>
                </a:lnTo>
                <a:lnTo>
                  <a:pt x="249514" y="399256"/>
                </a:lnTo>
                <a:lnTo>
                  <a:pt x="342010" y="586106"/>
                </a:lnTo>
                <a:lnTo>
                  <a:pt x="258689" y="627353"/>
                </a:lnTo>
                <a:lnTo>
                  <a:pt x="197644" y="504037"/>
                </a:lnTo>
                <a:lnTo>
                  <a:pt x="136599" y="627353"/>
                </a:lnTo>
                <a:lnTo>
                  <a:pt x="53278" y="586106"/>
                </a:lnTo>
                <a:lnTo>
                  <a:pt x="145774" y="399256"/>
                </a:lnTo>
                <a:lnTo>
                  <a:pt x="53278" y="21240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Nie równa się 12"/>
          <p:cNvSpPr/>
          <p:nvPr/>
        </p:nvSpPr>
        <p:spPr>
          <a:xfrm>
            <a:off x="8286840" y="2355840"/>
            <a:ext cx="461880" cy="352440"/>
          </a:xfrm>
          <a:custGeom>
            <a:avLst/>
            <a:gdLst/>
            <a:ahLst/>
            <a:rect l="l" t="t" r="r" b="b"/>
            <a:pathLst>
              <a:path w="461963" h="352425">
                <a:moveTo>
                  <a:pt x="61233" y="72600"/>
                </a:moveTo>
                <a:lnTo>
                  <a:pt x="224588" y="72600"/>
                </a:lnTo>
                <a:lnTo>
                  <a:pt x="251013" y="0"/>
                </a:lnTo>
                <a:lnTo>
                  <a:pt x="328904" y="28350"/>
                </a:lnTo>
                <a:lnTo>
                  <a:pt x="312799" y="72600"/>
                </a:lnTo>
                <a:lnTo>
                  <a:pt x="400730" y="72600"/>
                </a:lnTo>
                <a:lnTo>
                  <a:pt x="400730" y="155490"/>
                </a:lnTo>
                <a:lnTo>
                  <a:pt x="282629" y="155490"/>
                </a:lnTo>
                <a:lnTo>
                  <a:pt x="267544" y="196935"/>
                </a:lnTo>
                <a:lnTo>
                  <a:pt x="400730" y="196935"/>
                </a:lnTo>
                <a:lnTo>
                  <a:pt x="400730" y="279825"/>
                </a:lnTo>
                <a:lnTo>
                  <a:pt x="237375" y="279825"/>
                </a:lnTo>
                <a:lnTo>
                  <a:pt x="210950" y="352425"/>
                </a:lnTo>
                <a:lnTo>
                  <a:pt x="133059" y="324075"/>
                </a:lnTo>
                <a:lnTo>
                  <a:pt x="149164" y="279825"/>
                </a:lnTo>
                <a:lnTo>
                  <a:pt x="61233" y="279825"/>
                </a:lnTo>
                <a:lnTo>
                  <a:pt x="61233" y="196935"/>
                </a:lnTo>
                <a:lnTo>
                  <a:pt x="179334" y="196935"/>
                </a:lnTo>
                <a:lnTo>
                  <a:pt x="194419" y="155490"/>
                </a:lnTo>
                <a:lnTo>
                  <a:pt x="61233" y="155490"/>
                </a:lnTo>
                <a:lnTo>
                  <a:pt x="61233" y="72600"/>
                </a:lnTo>
                <a:close/>
              </a:path>
            </a:pathLst>
          </a:custGeom>
          <a:solidFill>
            <a:srgbClr val="0070c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Minus 13"/>
          <p:cNvSpPr/>
          <p:nvPr/>
        </p:nvSpPr>
        <p:spPr>
          <a:xfrm rot="19142400">
            <a:off x="8461440" y="4470120"/>
            <a:ext cx="718920" cy="431640"/>
          </a:xfrm>
          <a:custGeom>
            <a:avLst/>
            <a:gdLst/>
            <a:ahLst/>
            <a:rect l="l" t="t" r="r" b="b"/>
            <a:pathLst>
              <a:path w="719138" h="431800">
                <a:moveTo>
                  <a:pt x="95322" y="165120"/>
                </a:moveTo>
                <a:lnTo>
                  <a:pt x="623816" y="165120"/>
                </a:lnTo>
                <a:lnTo>
                  <a:pt x="623816" y="266680"/>
                </a:lnTo>
                <a:lnTo>
                  <a:pt x="95322" y="266680"/>
                </a:lnTo>
                <a:lnTo>
                  <a:pt x="95322" y="16512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rostokąt 19"/>
          <p:cNvSpPr/>
          <p:nvPr/>
        </p:nvSpPr>
        <p:spPr>
          <a:xfrm>
            <a:off x="8317080" y="2278080"/>
            <a:ext cx="43164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rostokąt 3"/>
          <p:cNvSpPr/>
          <p:nvPr/>
        </p:nvSpPr>
        <p:spPr>
          <a:xfrm>
            <a:off x="179280" y="4478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d032a"/>
                </a:solidFill>
                <a:latin typeface="Arial Black"/>
              </a:rPr>
              <a:t>KWALIFIKACJA WAŻNOŚCI GŁ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smo odręczne 8" descr=""/>
          <p:cNvPicPr/>
          <p:nvPr/>
        </p:nvPicPr>
        <p:blipFill>
          <a:blip r:embed="rId1"/>
          <a:stretch/>
        </p:blipFill>
        <p:spPr>
          <a:xfrm>
            <a:off x="828720" y="1438200"/>
            <a:ext cx="2582640" cy="3137040"/>
          </a:xfrm>
          <a:prstGeom prst="rect">
            <a:avLst/>
          </a:prstGeom>
          <a:ln w="0">
            <a:noFill/>
          </a:ln>
        </p:spPr>
      </p:pic>
      <p:pic>
        <p:nvPicPr>
          <p:cNvPr id="556" name="Pismo odręczne 10" descr=""/>
          <p:cNvPicPr/>
          <p:nvPr/>
        </p:nvPicPr>
        <p:blipFill>
          <a:blip r:embed="rId2"/>
          <a:stretch/>
        </p:blipFill>
        <p:spPr>
          <a:xfrm>
            <a:off x="619200" y="1498680"/>
            <a:ext cx="31636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1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1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Łącznik prosty 3"/>
          <p:cNvSpPr/>
          <p:nvPr/>
        </p:nvSpPr>
        <p:spPr>
          <a:xfrm>
            <a:off x="1943280" y="1844640"/>
            <a:ext cx="1908000" cy="2332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Łącznik prosty 4"/>
          <p:cNvSpPr/>
          <p:nvPr/>
        </p:nvSpPr>
        <p:spPr>
          <a:xfrm flipH="1">
            <a:off x="2410920" y="2448000"/>
            <a:ext cx="2197080" cy="180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6"/>
          <p:cNvSpPr/>
          <p:nvPr/>
        </p:nvSpPr>
        <p:spPr>
          <a:xfrm>
            <a:off x="142920" y="4724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ole tekstowe 7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1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1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1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smo odręczne 13" descr=""/>
          <p:cNvPicPr/>
          <p:nvPr/>
        </p:nvPicPr>
        <p:blipFill>
          <a:blip r:embed="rId1"/>
          <a:stretch/>
        </p:blipFill>
        <p:spPr>
          <a:xfrm>
            <a:off x="476280" y="1428840"/>
            <a:ext cx="3497400" cy="2476440"/>
          </a:xfrm>
          <a:prstGeom prst="rect">
            <a:avLst/>
          </a:prstGeom>
          <a:ln w="0">
            <a:noFill/>
          </a:ln>
        </p:spPr>
      </p:pic>
      <p:sp>
        <p:nvSpPr>
          <p:cNvPr id="568" name="pole tekstowe 7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1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1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Łącznik prosty 3"/>
          <p:cNvSpPr/>
          <p:nvPr/>
        </p:nvSpPr>
        <p:spPr>
          <a:xfrm>
            <a:off x="539640" y="1395360"/>
            <a:ext cx="3384720" cy="28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Łącznik prosty 4"/>
          <p:cNvSpPr/>
          <p:nvPr/>
        </p:nvSpPr>
        <p:spPr>
          <a:xfrm flipH="1">
            <a:off x="1258920" y="1908000"/>
            <a:ext cx="3673440" cy="295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ole tekstowe 6"/>
          <p:cNvSpPr/>
          <p:nvPr/>
        </p:nvSpPr>
        <p:spPr>
          <a:xfrm>
            <a:off x="179280" y="476100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Obramowanie kratki należy uznać za część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1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1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ole tekstowe 6"/>
          <p:cNvSpPr/>
          <p:nvPr/>
        </p:nvSpPr>
        <p:spPr>
          <a:xfrm>
            <a:off x="108000" y="4761000"/>
            <a:ext cx="88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w obrębie kratki. Dodatkowa jaśniejsza linia może być efektem „nierozpisanego” długopis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Łącznik prosty 7" descr=""/>
          <p:cNvPicPr/>
          <p:nvPr/>
        </p:nvPicPr>
        <p:blipFill>
          <a:blip r:embed="rId1"/>
          <a:stretch/>
        </p:blipFill>
        <p:spPr>
          <a:xfrm>
            <a:off x="450720" y="1895400"/>
            <a:ext cx="3078360" cy="2719440"/>
          </a:xfrm>
          <a:prstGeom prst="rect">
            <a:avLst/>
          </a:prstGeom>
          <a:ln w="0">
            <a:noFill/>
          </a:ln>
        </p:spPr>
      </p:pic>
      <p:pic>
        <p:nvPicPr>
          <p:cNvPr id="580" name="Pismo odręczne 14" descr=""/>
          <p:cNvPicPr/>
          <p:nvPr/>
        </p:nvPicPr>
        <p:blipFill>
          <a:blip r:embed="rId2"/>
          <a:stretch/>
        </p:blipFill>
        <p:spPr>
          <a:xfrm>
            <a:off x="623880" y="1760400"/>
            <a:ext cx="3530520" cy="3057840"/>
          </a:xfrm>
          <a:prstGeom prst="rect">
            <a:avLst/>
          </a:prstGeom>
          <a:ln w="0">
            <a:noFill/>
          </a:ln>
        </p:spPr>
      </p:pic>
      <p:pic>
        <p:nvPicPr>
          <p:cNvPr id="581" name="Pismo odręczne 16" descr=""/>
          <p:cNvPicPr/>
          <p:nvPr/>
        </p:nvPicPr>
        <p:blipFill>
          <a:blip r:embed="rId3"/>
          <a:stretch/>
        </p:blipFill>
        <p:spPr>
          <a:xfrm>
            <a:off x="928800" y="1498680"/>
            <a:ext cx="2260440" cy="3247920"/>
          </a:xfrm>
          <a:prstGeom prst="rect">
            <a:avLst/>
          </a:prstGeom>
          <a:ln w="0">
            <a:noFill/>
          </a:ln>
        </p:spPr>
      </p:pic>
      <p:sp>
        <p:nvSpPr>
          <p:cNvPr id="582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1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1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ole tekstowe 6"/>
          <p:cNvSpPr/>
          <p:nvPr/>
        </p:nvSpPr>
        <p:spPr>
          <a:xfrm>
            <a:off x="179280" y="476100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ole tekstowe 4"/>
          <p:cNvSpPr/>
          <p:nvPr/>
        </p:nvSpPr>
        <p:spPr>
          <a:xfrm>
            <a:off x="1619280" y="1989000"/>
            <a:ext cx="115236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1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1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10:10:29Z</dcterms:created>
  <dc:creator>Krajowe Biuro Wyborcze w Kielcach</dc:creator>
  <dc:description/>
  <dc:language>en-US</dc:language>
  <cp:lastModifiedBy>Adam Michcik</cp:lastModifiedBy>
  <cp:lastPrinted>2018-05-15T10:39:02Z</cp:lastPrinted>
  <dcterms:modified xsi:type="dcterms:W3CDTF">2023-09-30T08:22:36Z</dcterms:modified>
  <cp:revision>3292</cp:revision>
  <dc:subject/>
  <dc:title>Slajd 1</dc:title>
</cp:coreProperties>
</file>