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8.wmf" ContentType="image/x-wmf"/>
  <Override PartName="/ppt/media/image3.jpeg" ContentType="image/jpe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33.wmf" ContentType="image/x-wmf"/>
  <Override PartName="/ppt/media/image9.png" ContentType="image/png"/>
  <Override PartName="/ppt/media/image17.wmf" ContentType="image/x-wmf"/>
  <Override PartName="/ppt/media/image13.wmf" ContentType="image/x-wmf"/>
  <Override PartName="/ppt/media/image1.jpeg" ContentType="image/jpeg"/>
  <Override PartName="/ppt/media/image15.wmf" ContentType="image/x-wmf"/>
  <Override PartName="/ppt/media/image32.png" ContentType="image/png"/>
  <Override PartName="/ppt/media/image2.png" ContentType="image/png"/>
  <Override PartName="/ppt/media/image31.jpeg" ContentType="image/jpeg"/>
  <Override PartName="/ppt/media/image10.wmf" ContentType="image/x-wmf"/>
  <Override PartName="/ppt/media/image30.wmf" ContentType="image/x-wmf"/>
  <Override PartName="/ppt/media/image34.jpeg" ContentType="image/jpeg"/>
  <Override PartName="/ppt/media/image35.png" ContentType="image/png"/>
  <Override PartName="/ppt/media/image18.wmf" ContentType="image/x-wmf"/>
  <Override PartName="/ppt/media/image20.wmf" ContentType="image/x-wmf"/>
  <Override PartName="/ppt/media/image7.wmf" ContentType="image/x-wmf"/>
  <Override PartName="/ppt/media/image6.wmf" ContentType="image/x-wmf"/>
  <Override PartName="/ppt/media/image29.wmf" ContentType="image/x-wmf"/>
  <Override PartName="/ppt/media/image5.jpeg" ContentType="image/jpeg"/>
  <Override PartName="/ppt/media/image11.wmf" ContentType="image/x-wmf"/>
  <Override PartName="/ppt/media/image14.wmf" ContentType="image/x-wmf"/>
  <Override PartName="/ppt/media/image16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dt" idx="20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62600" cy="3722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ftr" idx="21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 type="sldNum" idx="22"/>
          </p:nvPr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FEA73-7164-4B58-9BC6-F5BF8217C48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Symbol zastępczy numeru slajd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DBEE1-AFB2-4D62-AD30-1E429F52561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Symbol zastępczy stopki 4"/>
          <p:cNvSpPr/>
          <p:nvPr/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43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43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43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43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557C1B5-3C65-4E7E-A2ED-9E16C006A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2A07C2C-E096-42EB-8402-62538892C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55F7788-FDA4-422A-B74E-B6C7CB1DD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44A26C0-CAF8-4E48-932D-3F91992C4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48AB1A7-FA09-41AB-A7D9-DDEF6E81E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43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995189E-BA76-46C5-901F-EB4708B28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EBA1368-15E9-4D83-BA11-152A928F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C31DE8A-F7F0-42C4-A59F-ABB0D4B4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128A462-4D68-4BBA-8FA5-9FAB755A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393401E-58B7-4139-8FC3-6254A8857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C1A76C2-E41D-4A2F-B548-A362FD45E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A0255E1-0662-45AD-8506-20EB5E165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43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43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836A63-4397-431B-ABA3-22DACDE0F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83AC14-EEEC-4444-95E3-CDE681C9A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3E56BF-A082-44F6-B240-D52F5CBB4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E63A94-560C-42DA-B6A8-2E825FE19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13F8A6-E7E2-4D6B-9A3D-72B55E7C0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43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035D38-FAC4-4F3A-864B-920C0656C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8F4BE1-8CD8-412A-BF91-DDE5BFF5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2D3ED5-327D-46FC-BCAF-E2ACDC64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312076-C81C-43C8-BB3C-127DC66B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498AF2-D0D3-478A-B030-EC7DAD7F5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945792-EE19-4A1A-BBDE-9B4C85B34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F8843D-5B04-4482-BE9D-5EAD37A4B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665303-F8D6-49CF-8709-88BC99ACB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289FA3-71F9-4A15-81ED-1308B27E7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C171FF-C771-4345-BADF-B4A07A607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D9CBA2-0B8B-4D8E-BD73-74F3C9AF6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25330D-A1FB-4DEC-B59A-652E7EA30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43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7434F1-041D-416A-9DFF-1553F5EA7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3145A0-ED16-4442-A4F3-3E092D6E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40C643-49A1-4DFB-B15F-4DA9DD1A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9146F0-CD50-4E02-81A0-D11FACE5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93D2B4-EAF3-476B-AD2F-123AAF8D1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67BE57-8782-40BD-8AFC-C342F11FC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3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1056DB-BA6C-418F-B898-EAE3E3B2C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34ECDE-5EEF-456C-986F-76D698060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A973D6-0388-4C45-BAC8-437C7831D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D922F7-D21F-4A99-9AF0-8AFBB698D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6C769A-4C67-4A81-A4B5-6BC68F277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5F6BC3-BA84-4ED7-A420-833A19B5F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43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370FBB-1701-485F-A33B-83A3A5D93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CCAF7F-2AEE-41CE-8986-ED975F11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A66B76-1FB8-4DC3-B50C-9E956F5D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B749B0-39F6-4EAC-B467-63E712C5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E49E0A-367C-4574-AB0C-22C8601F3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945F68-CC31-478D-94DB-EE8200739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6F7F7E-F8DC-403C-B9E0-3E007BA74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C89C6B-4511-423E-92BF-ED4E61F0E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A0DA65-B0B0-4608-AAF8-8C526B283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B54DDB-287B-4FC9-9B45-7A6E0E3F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5483DD-D00B-4F8D-9E08-E8C5A4728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79350F-6765-42E3-8BD5-1A6F302E1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43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9A065B-92E5-4A70-B4AF-E0DE78550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9D5AB4-F03D-4F9B-82C4-0CDC81DC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52433B-B28C-4D6A-AABE-A68FB0E4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FE0B42-996B-4832-88DC-22F90D61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BF5EB8-4E55-4A3A-84D3-E124393E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1DF03C-864E-4DC3-819E-E00577BBF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33C5A9-9D8C-46C2-8C73-11619EA1D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431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Obraz 8" descr="Logo - 3109 - 1 stron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5955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3" name="Obraz 6" descr=""/>
          <p:cNvPicPr/>
          <p:nvPr/>
        </p:nvPicPr>
        <p:blipFill>
          <a:blip r:embed="rId3"/>
          <a:stretch/>
        </p:blipFill>
        <p:spPr>
          <a:xfrm>
            <a:off x="7885080" y="6313320"/>
            <a:ext cx="1185840" cy="500400"/>
          </a:xfrm>
          <a:prstGeom prst="rect">
            <a:avLst/>
          </a:prstGeom>
          <a:ln w="0">
            <a:noFill/>
          </a:ln>
        </p:spPr>
      </p:pic>
      <p:sp>
        <p:nvSpPr>
          <p:cNvPr id="4" name="pole tekstowe 8"/>
          <p:cNvSpPr/>
          <p:nvPr/>
        </p:nvSpPr>
        <p:spPr>
          <a:xfrm>
            <a:off x="8516880" y="836640"/>
            <a:ext cx="576360" cy="368280"/>
          </a:xfrm>
          <a:prstGeom prst="rect">
            <a:avLst/>
          </a:prstGeom>
          <a:noFill/>
          <a:ln w="9360">
            <a:solidFill>
              <a:srgbClr val="9d03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2771A-EA8D-4499-B49A-FE4D0E4D70AB}" type="slidenum">
              <a:rPr b="1" lang="pl-PL" sz="1800" spc="-1" strike="noStrike">
                <a:solidFill>
                  <a:srgbClr val="9d032a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95b"/>
                </a:solidFill>
                <a:latin typeface="Neo Sans Pro"/>
              </a:rPr>
              <a:t>Click to edit the title text format</a:t>
            </a: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Click to edit the outline text format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1" marL="743040" indent="-28584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con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2" marL="1143000" indent="-22860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Thir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3" marL="1600200" indent="-22860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our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4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if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5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ix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6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ven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95b"/>
                </a:solidFill>
                <a:latin typeface="Neo Sans Pro"/>
              </a:rPr>
              <a:t>Click to edit the title text format</a:t>
            </a: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Click to edit the outline text format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1" marL="743040" indent="-28584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con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2" marL="1143000" indent="-22860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Thir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3" marL="1600200" indent="-22860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our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4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if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5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ix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6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ven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95b"/>
                </a:solidFill>
                <a:latin typeface="Neo Sans Pro"/>
              </a:rPr>
              <a:t>Click to edit the title text format</a:t>
            </a: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Click to edit the outline text format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1" marL="743040" indent="-28584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con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2" marL="1143000" indent="-22860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Thir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3" marL="1600200" indent="-22860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our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4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if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5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ix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6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ven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95b"/>
                </a:solidFill>
                <a:latin typeface="Neo Sans Pro"/>
              </a:rPr>
              <a:t>Click to edit the title text format</a:t>
            </a: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Click to edit the outline text format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1" marL="743040" indent="-28584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con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2" marL="1143000" indent="-22860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Thir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3" marL="1600200" indent="-22860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our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4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if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5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ix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6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ven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9a9a9b"/>
                </a:solidFill>
                <a:latin typeface="Open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41A53-972E-4C4F-8EC7-7481C35EDC76}" type="datetime">
              <a:rPr b="0" lang="pl-PL" sz="1200" spc="-1" strike="noStrike">
                <a:solidFill>
                  <a:srgbClr val="9a9a9b"/>
                </a:solidFill>
                <a:latin typeface="Open Sans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9a9a9b"/>
                </a:solidFill>
                <a:latin typeface="Open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9a9a9b"/>
                </a:solidFill>
                <a:latin typeface="Open Sans"/>
              </a:rPr>
              <a:t>opracowanie: D.BIAŁOWĄS_KBW OLSZTY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1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800" spc="-1" strike="noStrike">
                <a:solidFill>
                  <a:srgbClr val="58595b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FF0EC-C27A-4467-A344-EF8496C1E331}" type="slidenum">
              <a:rPr b="0" lang="pl-PL" sz="1800" spc="-1" strike="noStrike">
                <a:solidFill>
                  <a:srgbClr val="58595b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95b"/>
                </a:solidFill>
                <a:latin typeface="Neo Sans Pro"/>
              </a:rPr>
              <a:t>Click to edit the title text format</a:t>
            </a: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Click to edit the outline text format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1" marL="743040" indent="-28584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con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2" marL="1143000" indent="-22860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Thir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3" marL="1600200" indent="-22860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our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4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if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5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ix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6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ven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Obraz 8" descr="Logo - 3109 - 1 stron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595520"/>
          </a:xfrm>
          <a:prstGeom prst="rect">
            <a:avLst/>
          </a:prstGeom>
          <a:ln w="0">
            <a:noFill/>
          </a:ln>
        </p:spPr>
      </p:pic>
      <p:pic>
        <p:nvPicPr>
          <p:cNvPr id="82" name="Obraz 6" descr=""/>
          <p:cNvPicPr/>
          <p:nvPr/>
        </p:nvPicPr>
        <p:blipFill>
          <a:blip r:embed="rId3"/>
          <a:stretch/>
        </p:blipFill>
        <p:spPr>
          <a:xfrm>
            <a:off x="7885080" y="6313320"/>
            <a:ext cx="1185840" cy="500400"/>
          </a:xfrm>
          <a:prstGeom prst="rect">
            <a:avLst/>
          </a:prstGeom>
          <a:ln w="0">
            <a:noFill/>
          </a:ln>
        </p:spPr>
      </p:pic>
      <p:sp>
        <p:nvSpPr>
          <p:cNvPr id="83" name="pole tekstowe 8"/>
          <p:cNvSpPr/>
          <p:nvPr/>
        </p:nvSpPr>
        <p:spPr>
          <a:xfrm>
            <a:off x="8516880" y="836640"/>
            <a:ext cx="576360" cy="368280"/>
          </a:xfrm>
          <a:prstGeom prst="rect">
            <a:avLst/>
          </a:prstGeom>
          <a:noFill/>
          <a:ln w="9360">
            <a:solidFill>
              <a:srgbClr val="9d03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0684A-6637-4662-B9FF-A6A8E24FF041}" type="slidenum">
              <a:rPr b="1" lang="pl-PL" sz="1800" spc="-1" strike="noStrike">
                <a:solidFill>
                  <a:srgbClr val="9d032a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Obraz 8" descr="Logo - 3109 - 1 strona.jpg"/>
          <p:cNvPicPr/>
          <p:nvPr/>
        </p:nvPicPr>
        <p:blipFill>
          <a:blip r:embed="rId4"/>
          <a:stretch/>
        </p:blipFill>
        <p:spPr>
          <a:xfrm>
            <a:off x="0" y="0"/>
            <a:ext cx="9144000" cy="159552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6"/>
          <p:cNvSpPr/>
          <p:nvPr/>
        </p:nvSpPr>
        <p:spPr>
          <a:xfrm>
            <a:off x="155520" y="233280"/>
            <a:ext cx="987264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Obraz 12" descr=""/>
          <p:cNvPicPr/>
          <p:nvPr/>
        </p:nvPicPr>
        <p:blipFill>
          <a:blip r:embed="rId5"/>
          <a:stretch/>
        </p:blipFill>
        <p:spPr>
          <a:xfrm>
            <a:off x="7885080" y="6313320"/>
            <a:ext cx="1185840" cy="5004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95b"/>
                </a:solidFill>
                <a:latin typeface="Neo Sans Pro"/>
              </a:rPr>
              <a:t>Click to edit the title text format</a:t>
            </a: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Click to edit the outline text format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1" marL="743040" indent="-28584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con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2" marL="1143000" indent="-22860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Thir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3" marL="1600200" indent="-22860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our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4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if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5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ix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6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ven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800" spc="-1" strike="noStrike">
                <a:solidFill>
                  <a:srgbClr val="58595b"/>
                </a:solidFill>
                <a:latin typeface="Open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EE10E-D147-44BB-A4EC-90D23C6C1606}" type="slidenum">
              <a:rPr b="0" lang="pl-PL" sz="1800" spc="-1" strike="noStrike">
                <a:solidFill>
                  <a:srgbClr val="58595b"/>
                </a:solidFill>
                <a:latin typeface="Open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95b"/>
                </a:solidFill>
                <a:latin typeface="Neo Sans Pro"/>
              </a:rPr>
              <a:t>Click to edit the title text format</a:t>
            </a: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Click to edit the outline text format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1" marL="743040" indent="-28584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con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2" marL="1143000" indent="-22860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Thir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3" marL="1600200" indent="-22860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our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4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if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5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ix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6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ven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800" spc="-1" strike="noStrike">
                <a:solidFill>
                  <a:srgbClr val="58595b"/>
                </a:solidFill>
                <a:latin typeface="Open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86771-EA43-437E-8DFC-E7B9469DD8D8}" type="slidenum">
              <a:rPr b="0" lang="pl-PL" sz="1800" spc="-1" strike="noStrike">
                <a:solidFill>
                  <a:srgbClr val="58595b"/>
                </a:solidFill>
                <a:latin typeface="Open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95b"/>
                </a:solidFill>
                <a:latin typeface="Neo Sans Pro"/>
              </a:rPr>
              <a:t>Click to edit the title text format</a:t>
            </a: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Click to edit the outline text format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1" marL="743040" indent="-28584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con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2" marL="1143000" indent="-22860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Thir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3" marL="1600200" indent="-22860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our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4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if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5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ix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6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ven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95b"/>
                </a:solidFill>
                <a:latin typeface="Neo Sans Pro"/>
              </a:rPr>
              <a:t>Click to edit the title text format</a:t>
            </a: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Click to edit the outline text format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1" marL="743040" indent="-28584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con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2" marL="1143000" indent="-22860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Thir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3" marL="1600200" indent="-22860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our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4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if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5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ix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6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ven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800" spc="-1" strike="noStrike">
                <a:solidFill>
                  <a:srgbClr val="58595b"/>
                </a:solidFill>
                <a:latin typeface="Open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07990-DE34-4A55-B2C5-19F5A7E10163}" type="slidenum">
              <a:rPr b="0" lang="pl-PL" sz="1800" spc="-1" strike="noStrike">
                <a:solidFill>
                  <a:srgbClr val="58595b"/>
                </a:solidFill>
                <a:latin typeface="Open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rójkąt prostokątny 12"/>
          <p:cNvSpPr/>
          <p:nvPr/>
        </p:nvSpPr>
        <p:spPr>
          <a:xfrm rot="10800000">
            <a:off x="1042920" y="-11520"/>
            <a:ext cx="8105760" cy="6869160"/>
          </a:xfrm>
          <a:custGeom>
            <a:avLst/>
            <a:gdLst/>
            <a:ahLst/>
            <a:rect l="l" t="t" r="r" b="b"/>
            <a:pathLst>
              <a:path w="8105223" h="6869157">
                <a:moveTo>
                  <a:pt x="4831" y="6869157"/>
                </a:moveTo>
                <a:cubicBezTo>
                  <a:pt x="5625" y="4579678"/>
                  <a:pt x="-726" y="2290200"/>
                  <a:pt x="68" y="721"/>
                </a:cubicBezTo>
                <a:lnTo>
                  <a:pt x="419698" y="0"/>
                </a:lnTo>
                <a:lnTo>
                  <a:pt x="8105223" y="6869157"/>
                </a:lnTo>
                <a:lnTo>
                  <a:pt x="4831" y="6869157"/>
                </a:lnTo>
                <a:close/>
              </a:path>
            </a:pathLst>
          </a:custGeom>
          <a:solidFill>
            <a:srgbClr val="9d03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Obraz 6" descr=""/>
          <p:cNvPicPr/>
          <p:nvPr/>
        </p:nvPicPr>
        <p:blipFill>
          <a:blip r:embed="rId2"/>
          <a:stretch/>
        </p:blipFill>
        <p:spPr>
          <a:xfrm>
            <a:off x="3938760" y="3162240"/>
            <a:ext cx="1266480" cy="533520"/>
          </a:xfrm>
          <a:prstGeom prst="rect">
            <a:avLst/>
          </a:prstGeom>
          <a:ln cap="sq" w="203040">
            <a:solidFill>
              <a:srgbClr val="ffffff"/>
            </a:solidFill>
            <a:miter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95b"/>
                </a:solidFill>
                <a:latin typeface="Neo Sans Pro"/>
              </a:rPr>
              <a:t>Click to edit the title text format</a:t>
            </a: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Click to edit the outline text format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1" marL="743040" indent="-28584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con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2" marL="1143000" indent="-22860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Thir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3" marL="1600200" indent="-22860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our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4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if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5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ix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6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ven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95b"/>
                </a:solidFill>
                <a:latin typeface="Neo Sans Pro"/>
              </a:rPr>
              <a:t>Click to edit the title text format</a:t>
            </a:r>
            <a:endParaRPr b="0" lang="en-US" sz="4400" spc="-1" strike="noStrike">
              <a:solidFill>
                <a:srgbClr val="58595b"/>
              </a:solidFill>
              <a:latin typeface="Neo Sans Pro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Click to edit the outline text format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1" marL="743040" indent="-28584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con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2" marL="1143000" indent="-228600">
              <a:spcBef>
                <a:spcPts val="799"/>
              </a:spcBef>
              <a:buClr>
                <a:srgbClr val="58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Third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3" marL="1600200" indent="-228600">
              <a:spcBef>
                <a:spcPts val="799"/>
              </a:spcBef>
              <a:buClr>
                <a:srgbClr val="5859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our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4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Fif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5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ix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lvl="6" marL="2057400" indent="-228600">
              <a:spcBef>
                <a:spcPts val="799"/>
              </a:spcBef>
              <a:buClr>
                <a:srgbClr val="5859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95b"/>
                </a:solidFill>
                <a:latin typeface="Open Sans"/>
              </a:rPr>
              <a:t>Seventh Outline Level</a:t>
            </a: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Obraz 8" descr="Logo - 3109 - 1 stron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595520"/>
          </a:xfrm>
          <a:prstGeom prst="rect">
            <a:avLst/>
          </a:prstGeom>
          <a:ln w="0">
            <a:noFill/>
          </a:ln>
        </p:spPr>
      </p:pic>
      <p:sp>
        <p:nvSpPr>
          <p:cNvPr id="532" name="AutoShape 5"/>
          <p:cNvSpPr/>
          <p:nvPr/>
        </p:nvSpPr>
        <p:spPr>
          <a:xfrm>
            <a:off x="155520" y="-433440"/>
            <a:ext cx="771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rostokąt 2"/>
          <p:cNvSpPr/>
          <p:nvPr/>
        </p:nvSpPr>
        <p:spPr>
          <a:xfrm>
            <a:off x="392040" y="6083280"/>
            <a:ext cx="64818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9d032a"/>
                </a:solidFill>
                <a:latin typeface="Arial"/>
                <a:ea typeface="Arial"/>
              </a:rPr>
              <a:t>Opracowani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9d032a"/>
                </a:solidFill>
                <a:latin typeface="Arial"/>
                <a:ea typeface="Arial"/>
              </a:rPr>
              <a:t>© Krajowe Biuro Wyborcz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ole tekstowe 10" descr=""/>
          <p:cNvPicPr/>
          <p:nvPr/>
        </p:nvPicPr>
        <p:blipFill>
          <a:blip r:embed="rId2"/>
          <a:stretch/>
        </p:blipFill>
        <p:spPr>
          <a:xfrm>
            <a:off x="231840" y="1274760"/>
            <a:ext cx="8845560" cy="2724120"/>
          </a:xfrm>
          <a:prstGeom prst="rect">
            <a:avLst/>
          </a:prstGeom>
          <a:ln w="0">
            <a:noFill/>
          </a:ln>
        </p:spPr>
      </p:pic>
      <p:sp>
        <p:nvSpPr>
          <p:cNvPr id="535" name="Łącznik prostoliniowy 5"/>
          <p:cNvSpPr/>
          <p:nvPr/>
        </p:nvSpPr>
        <p:spPr>
          <a:xfrm>
            <a:off x="360360" y="4005360"/>
            <a:ext cx="8423280" cy="0"/>
          </a:xfrm>
          <a:prstGeom prst="line">
            <a:avLst/>
          </a:prstGeom>
          <a:ln w="284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Obraz 12" descr=""/>
          <p:cNvPicPr/>
          <p:nvPr/>
        </p:nvPicPr>
        <p:blipFill>
          <a:blip r:embed="rId3"/>
          <a:stretch/>
        </p:blipFill>
        <p:spPr>
          <a:xfrm>
            <a:off x="3780000" y="1052640"/>
            <a:ext cx="1220760" cy="1211040"/>
          </a:xfrm>
          <a:prstGeom prst="rect">
            <a:avLst/>
          </a:prstGeom>
          <a:ln w="0">
            <a:noFill/>
          </a:ln>
        </p:spPr>
      </p:pic>
      <p:sp>
        <p:nvSpPr>
          <p:cNvPr id="537" name="Prostokąt 1"/>
          <p:cNvSpPr/>
          <p:nvPr/>
        </p:nvSpPr>
        <p:spPr>
          <a:xfrm>
            <a:off x="179280" y="4224240"/>
            <a:ext cx="87138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Arial Black"/>
                <a:ea typeface="Arial"/>
              </a:rPr>
              <a:t>SZKOLEN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Arial Black"/>
                <a:ea typeface="Arial"/>
              </a:rPr>
              <a:t>CZŁONKÓW OBWODOWYCH KOMISJI WYBORCZY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00000"/>
                </a:solidFill>
                <a:latin typeface="Arial Black"/>
                <a:ea typeface="Arial"/>
              </a:rPr>
              <a:t>   </a:t>
            </a:r>
            <a:r>
              <a:rPr b="1" lang="pl-PL" sz="2400" spc="-1" strike="noStrike">
                <a:solidFill>
                  <a:srgbClr val="c00000"/>
                </a:solidFill>
                <a:latin typeface="Arial Black"/>
                <a:ea typeface="Arial"/>
              </a:rPr>
              <a:t>Kwalifikacja ważności gło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rostokąt 1"/>
          <p:cNvSpPr/>
          <p:nvPr/>
        </p:nvSpPr>
        <p:spPr>
          <a:xfrm>
            <a:off x="900000" y="2276640"/>
            <a:ext cx="208764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ole tekstowe 5"/>
          <p:cNvSpPr/>
          <p:nvPr/>
        </p:nvSpPr>
        <p:spPr>
          <a:xfrm>
            <a:off x="4356000" y="2060640"/>
            <a:ext cx="36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b050"/>
                </a:solidFill>
                <a:latin typeface="Arial Black"/>
              </a:rPr>
              <a:t>GŁOS WAŻ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ole tekstowe 6"/>
          <p:cNvSpPr/>
          <p:nvPr/>
        </p:nvSpPr>
        <p:spPr>
          <a:xfrm>
            <a:off x="179280" y="4761000"/>
            <a:ext cx="84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b050"/>
                </a:solidFill>
                <a:latin typeface="Arial"/>
                <a:ea typeface="Arial"/>
              </a:rPr>
              <a:t>Co najmniej dwie linie przecinaj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b050"/>
                </a:solidFill>
                <a:latin typeface="Arial"/>
                <a:ea typeface="Arial"/>
              </a:rPr>
              <a:t>się w obrębie krat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smo odręczne 10" descr=""/>
          <p:cNvPicPr/>
          <p:nvPr/>
        </p:nvPicPr>
        <p:blipFill>
          <a:blip r:embed="rId1"/>
          <a:stretch/>
        </p:blipFill>
        <p:spPr>
          <a:xfrm>
            <a:off x="30240" y="1887480"/>
            <a:ext cx="2616120" cy="2482920"/>
          </a:xfrm>
          <a:prstGeom prst="rect">
            <a:avLst/>
          </a:prstGeom>
          <a:ln w="0">
            <a:noFill/>
          </a:ln>
        </p:spPr>
      </p:pic>
      <p:pic>
        <p:nvPicPr>
          <p:cNvPr id="592" name="Pismo odręczne 11" descr=""/>
          <p:cNvPicPr/>
          <p:nvPr/>
        </p:nvPicPr>
        <p:blipFill>
          <a:blip r:embed="rId2"/>
          <a:stretch/>
        </p:blipFill>
        <p:spPr>
          <a:xfrm>
            <a:off x="441360" y="2087640"/>
            <a:ext cx="2720880" cy="2182680"/>
          </a:xfrm>
          <a:prstGeom prst="rect">
            <a:avLst/>
          </a:prstGeom>
          <a:ln w="0">
            <a:noFill/>
          </a:ln>
        </p:spPr>
      </p:pic>
      <p:pic>
        <p:nvPicPr>
          <p:cNvPr id="593" name="Pismo odręczne 12" descr=""/>
          <p:cNvPicPr/>
          <p:nvPr/>
        </p:nvPicPr>
        <p:blipFill>
          <a:blip r:embed="rId3"/>
          <a:stretch/>
        </p:blipFill>
        <p:spPr>
          <a:xfrm>
            <a:off x="573120" y="2463840"/>
            <a:ext cx="2583000" cy="2116080"/>
          </a:xfrm>
          <a:prstGeom prst="rect">
            <a:avLst/>
          </a:prstGeom>
          <a:ln w="0">
            <a:noFill/>
          </a:ln>
        </p:spPr>
      </p:pic>
      <p:pic>
        <p:nvPicPr>
          <p:cNvPr id="594" name="Pismo odręczne 14" descr=""/>
          <p:cNvPicPr/>
          <p:nvPr/>
        </p:nvPicPr>
        <p:blipFill>
          <a:blip r:embed="rId4"/>
          <a:stretch/>
        </p:blipFill>
        <p:spPr>
          <a:xfrm>
            <a:off x="689040" y="1887480"/>
            <a:ext cx="1187280" cy="3562560"/>
          </a:xfrm>
          <a:prstGeom prst="rect">
            <a:avLst/>
          </a:prstGeom>
          <a:ln w="0">
            <a:noFill/>
          </a:ln>
        </p:spPr>
      </p:pic>
      <p:sp>
        <p:nvSpPr>
          <p:cNvPr id="595" name="pole tekstowe 2"/>
          <p:cNvSpPr/>
          <p:nvPr/>
        </p:nvSpPr>
        <p:spPr>
          <a:xfrm>
            <a:off x="1332000" y="47628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d032a"/>
                </a:solidFill>
                <a:latin typeface="Arial Black"/>
              </a:rPr>
              <a:t>CZY ODDANY GŁOS JEST WAŻN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" dur="1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1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rostokąt 1"/>
          <p:cNvSpPr/>
          <p:nvPr/>
        </p:nvSpPr>
        <p:spPr>
          <a:xfrm>
            <a:off x="900000" y="2276640"/>
            <a:ext cx="208764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ole tekstowe 5"/>
          <p:cNvSpPr/>
          <p:nvPr/>
        </p:nvSpPr>
        <p:spPr>
          <a:xfrm>
            <a:off x="4356000" y="2060640"/>
            <a:ext cx="36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3300"/>
                </a:solidFill>
                <a:latin typeface="Arial Black"/>
              </a:rPr>
              <a:t>GŁOS NIEWAŻ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ole tekstowe 6"/>
          <p:cNvSpPr/>
          <p:nvPr/>
        </p:nvSpPr>
        <p:spPr>
          <a:xfrm>
            <a:off x="179280" y="4761000"/>
            <a:ext cx="84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Dwie linie nie przecinają si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w obrębie krat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smo odręczne 9" descr=""/>
          <p:cNvPicPr/>
          <p:nvPr/>
        </p:nvPicPr>
        <p:blipFill>
          <a:blip r:embed="rId1"/>
          <a:stretch/>
        </p:blipFill>
        <p:spPr>
          <a:xfrm>
            <a:off x="1014480" y="1227240"/>
            <a:ext cx="3352680" cy="3220920"/>
          </a:xfrm>
          <a:prstGeom prst="rect">
            <a:avLst/>
          </a:prstGeom>
          <a:ln w="0">
            <a:noFill/>
          </a:ln>
        </p:spPr>
      </p:pic>
      <p:sp>
        <p:nvSpPr>
          <p:cNvPr id="600" name="pole tekstowe 7"/>
          <p:cNvSpPr/>
          <p:nvPr/>
        </p:nvSpPr>
        <p:spPr>
          <a:xfrm>
            <a:off x="144360" y="5587920"/>
            <a:ext cx="842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Znaki graficzne naniesione w obrębie krat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ole tekstowe 2"/>
          <p:cNvSpPr/>
          <p:nvPr/>
        </p:nvSpPr>
        <p:spPr>
          <a:xfrm>
            <a:off x="1332000" y="47628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d032a"/>
                </a:solidFill>
                <a:latin typeface="Arial Black"/>
              </a:rPr>
              <a:t>CZY ODDANY GŁOS JEST WAŻN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" dur="1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" dur="1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1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rostokąt 1"/>
          <p:cNvSpPr/>
          <p:nvPr/>
        </p:nvSpPr>
        <p:spPr>
          <a:xfrm>
            <a:off x="900000" y="2276640"/>
            <a:ext cx="208764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ole tekstowe 5"/>
          <p:cNvSpPr/>
          <p:nvPr/>
        </p:nvSpPr>
        <p:spPr>
          <a:xfrm>
            <a:off x="4356000" y="2060640"/>
            <a:ext cx="36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b050"/>
                </a:solidFill>
                <a:latin typeface="Arial Black"/>
              </a:rPr>
              <a:t>GŁOS WAŻ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ole tekstowe 6"/>
          <p:cNvSpPr/>
          <p:nvPr/>
        </p:nvSpPr>
        <p:spPr>
          <a:xfrm>
            <a:off x="179280" y="4761000"/>
            <a:ext cx="842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b050"/>
                </a:solidFill>
                <a:latin typeface="Arial"/>
                <a:ea typeface="Arial"/>
              </a:rPr>
              <a:t>Dwie linie przecinają się w obrębie krat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smo odręczne 9" descr=""/>
          <p:cNvPicPr/>
          <p:nvPr/>
        </p:nvPicPr>
        <p:blipFill>
          <a:blip r:embed="rId1"/>
          <a:stretch/>
        </p:blipFill>
        <p:spPr>
          <a:xfrm>
            <a:off x="841320" y="1550880"/>
            <a:ext cx="2819520" cy="3122640"/>
          </a:xfrm>
          <a:prstGeom prst="rect">
            <a:avLst/>
          </a:prstGeom>
          <a:ln w="0">
            <a:noFill/>
          </a:ln>
        </p:spPr>
      </p:pic>
      <p:pic>
        <p:nvPicPr>
          <p:cNvPr id="606" name="Pismo odręczne 11" descr=""/>
          <p:cNvPicPr/>
          <p:nvPr/>
        </p:nvPicPr>
        <p:blipFill>
          <a:blip r:embed="rId2"/>
          <a:stretch/>
        </p:blipFill>
        <p:spPr>
          <a:xfrm>
            <a:off x="2209680" y="1468440"/>
            <a:ext cx="1820880" cy="1941480"/>
          </a:xfrm>
          <a:prstGeom prst="rect">
            <a:avLst/>
          </a:prstGeom>
          <a:ln w="0">
            <a:noFill/>
          </a:ln>
        </p:spPr>
      </p:pic>
      <p:sp>
        <p:nvSpPr>
          <p:cNvPr id="607" name="pole tekstowe 2"/>
          <p:cNvSpPr/>
          <p:nvPr/>
        </p:nvSpPr>
        <p:spPr>
          <a:xfrm>
            <a:off x="1332000" y="47628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d032a"/>
                </a:solidFill>
                <a:latin typeface="Arial Black"/>
              </a:rPr>
              <a:t>CZY ODDANY GŁOS JEST WAŻN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1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1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rostokąt 1"/>
          <p:cNvSpPr/>
          <p:nvPr/>
        </p:nvSpPr>
        <p:spPr>
          <a:xfrm>
            <a:off x="900000" y="2276640"/>
            <a:ext cx="208764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ole tekstowe 5"/>
          <p:cNvSpPr/>
          <p:nvPr/>
        </p:nvSpPr>
        <p:spPr>
          <a:xfrm>
            <a:off x="4356000" y="2060640"/>
            <a:ext cx="36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3300"/>
                </a:solidFill>
                <a:latin typeface="Arial Black"/>
              </a:rPr>
              <a:t>GŁOS NIEWAŻ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ole tekstowe 6"/>
          <p:cNvSpPr/>
          <p:nvPr/>
        </p:nvSpPr>
        <p:spPr>
          <a:xfrm>
            <a:off x="179280" y="4348080"/>
            <a:ext cx="842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Brak linii przecinających si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w obrębie krat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Trzy linie są ze sobą stycz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Pismo odręczne 22" descr=""/>
          <p:cNvPicPr/>
          <p:nvPr/>
        </p:nvPicPr>
        <p:blipFill>
          <a:blip r:embed="rId1"/>
          <a:stretch/>
        </p:blipFill>
        <p:spPr>
          <a:xfrm>
            <a:off x="2419200" y="1909800"/>
            <a:ext cx="1258920" cy="874800"/>
          </a:xfrm>
          <a:prstGeom prst="rect">
            <a:avLst/>
          </a:prstGeom>
          <a:ln w="0">
            <a:noFill/>
          </a:ln>
        </p:spPr>
      </p:pic>
      <p:pic>
        <p:nvPicPr>
          <p:cNvPr id="612" name="Pismo odręczne 24" descr=""/>
          <p:cNvPicPr/>
          <p:nvPr/>
        </p:nvPicPr>
        <p:blipFill>
          <a:blip r:embed="rId2"/>
          <a:stretch/>
        </p:blipFill>
        <p:spPr>
          <a:xfrm>
            <a:off x="2457360" y="1693800"/>
            <a:ext cx="1435320" cy="1041480"/>
          </a:xfrm>
          <a:prstGeom prst="rect">
            <a:avLst/>
          </a:prstGeom>
          <a:ln w="0">
            <a:noFill/>
          </a:ln>
        </p:spPr>
      </p:pic>
      <p:sp>
        <p:nvSpPr>
          <p:cNvPr id="613" name="pole tekstowe 7"/>
          <p:cNvSpPr/>
          <p:nvPr/>
        </p:nvSpPr>
        <p:spPr>
          <a:xfrm>
            <a:off x="144360" y="5661000"/>
            <a:ext cx="842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Znak graficzny naniesiony w obrębie krat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ole tekstowe 2"/>
          <p:cNvSpPr/>
          <p:nvPr/>
        </p:nvSpPr>
        <p:spPr>
          <a:xfrm>
            <a:off x="1332000" y="47628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d032a"/>
                </a:solidFill>
                <a:latin typeface="Arial Black"/>
              </a:rPr>
              <a:t>CZY ODDANY GŁOS JEST WAŻN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" dur="1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1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6" dur="1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rostokąt 1"/>
          <p:cNvSpPr/>
          <p:nvPr/>
        </p:nvSpPr>
        <p:spPr>
          <a:xfrm>
            <a:off x="900000" y="2276640"/>
            <a:ext cx="208764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ole tekstowe 5"/>
          <p:cNvSpPr/>
          <p:nvPr/>
        </p:nvSpPr>
        <p:spPr>
          <a:xfrm>
            <a:off x="4356000" y="2060640"/>
            <a:ext cx="36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b050"/>
                </a:solidFill>
                <a:latin typeface="Arial Black"/>
              </a:rPr>
              <a:t>GŁOS WAŻ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ole tekstowe 6"/>
          <p:cNvSpPr/>
          <p:nvPr/>
        </p:nvSpPr>
        <p:spPr>
          <a:xfrm>
            <a:off x="179280" y="4761000"/>
            <a:ext cx="84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b050"/>
                </a:solidFill>
                <a:latin typeface="Arial"/>
                <a:ea typeface="Arial"/>
              </a:rPr>
              <a:t>Co najmniej dwie linie przecinają się w obrębie krat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smo odręczne 24" descr=""/>
          <p:cNvPicPr/>
          <p:nvPr/>
        </p:nvPicPr>
        <p:blipFill>
          <a:blip r:embed="rId1"/>
          <a:stretch/>
        </p:blipFill>
        <p:spPr>
          <a:xfrm>
            <a:off x="1278000" y="1476360"/>
            <a:ext cx="2897280" cy="1596960"/>
          </a:xfrm>
          <a:prstGeom prst="rect">
            <a:avLst/>
          </a:prstGeom>
          <a:ln w="0">
            <a:noFill/>
          </a:ln>
        </p:spPr>
      </p:pic>
      <p:pic>
        <p:nvPicPr>
          <p:cNvPr id="619" name="Pismo odręczne 28" descr=""/>
          <p:cNvPicPr/>
          <p:nvPr/>
        </p:nvPicPr>
        <p:blipFill>
          <a:blip r:embed="rId2"/>
          <a:stretch/>
        </p:blipFill>
        <p:spPr>
          <a:xfrm>
            <a:off x="768240" y="1587600"/>
            <a:ext cx="2614680" cy="2836800"/>
          </a:xfrm>
          <a:prstGeom prst="rect">
            <a:avLst/>
          </a:prstGeom>
          <a:ln w="0">
            <a:noFill/>
          </a:ln>
        </p:spPr>
      </p:pic>
      <p:pic>
        <p:nvPicPr>
          <p:cNvPr id="620" name="Pismo odręczne 30" descr=""/>
          <p:cNvPicPr/>
          <p:nvPr/>
        </p:nvPicPr>
        <p:blipFill>
          <a:blip r:embed="rId3"/>
          <a:stretch/>
        </p:blipFill>
        <p:spPr>
          <a:xfrm>
            <a:off x="1204920" y="1542960"/>
            <a:ext cx="2139840" cy="3003480"/>
          </a:xfrm>
          <a:prstGeom prst="rect">
            <a:avLst/>
          </a:prstGeom>
          <a:ln w="0">
            <a:noFill/>
          </a:ln>
        </p:spPr>
      </p:pic>
      <p:sp>
        <p:nvSpPr>
          <p:cNvPr id="621" name="pole tekstowe 2"/>
          <p:cNvSpPr/>
          <p:nvPr/>
        </p:nvSpPr>
        <p:spPr>
          <a:xfrm>
            <a:off x="1332000" y="47628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d032a"/>
                </a:solidFill>
                <a:latin typeface="Arial Black"/>
              </a:rPr>
              <a:t>CZY ODDANY GŁOS JEST WAŻN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1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1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rostokąt 1"/>
          <p:cNvSpPr/>
          <p:nvPr/>
        </p:nvSpPr>
        <p:spPr>
          <a:xfrm>
            <a:off x="900000" y="2276640"/>
            <a:ext cx="208764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ole tekstowe 5"/>
          <p:cNvSpPr/>
          <p:nvPr/>
        </p:nvSpPr>
        <p:spPr>
          <a:xfrm>
            <a:off x="4356000" y="2060640"/>
            <a:ext cx="36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3300"/>
                </a:solidFill>
                <a:latin typeface="Arial Black"/>
              </a:rPr>
              <a:t>GŁOS NIEWAŻ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ole tekstowe 6"/>
          <p:cNvSpPr/>
          <p:nvPr/>
        </p:nvSpPr>
        <p:spPr>
          <a:xfrm>
            <a:off x="179280" y="4761000"/>
            <a:ext cx="84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Brak linii przecinających si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w obrębie krat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smo odręczne 34" descr=""/>
          <p:cNvPicPr/>
          <p:nvPr/>
        </p:nvPicPr>
        <p:blipFill>
          <a:blip r:embed="rId1"/>
          <a:stretch/>
        </p:blipFill>
        <p:spPr>
          <a:xfrm>
            <a:off x="1322280" y="2335320"/>
            <a:ext cx="1208160" cy="344520"/>
          </a:xfrm>
          <a:prstGeom prst="rect">
            <a:avLst/>
          </a:prstGeom>
          <a:ln w="0">
            <a:noFill/>
          </a:ln>
        </p:spPr>
      </p:pic>
      <p:pic>
        <p:nvPicPr>
          <p:cNvPr id="626" name="Pismo odręczne 35" descr=""/>
          <p:cNvPicPr/>
          <p:nvPr/>
        </p:nvPicPr>
        <p:blipFill>
          <a:blip r:embed="rId2"/>
          <a:stretch/>
        </p:blipFill>
        <p:spPr>
          <a:xfrm>
            <a:off x="1333440" y="2602080"/>
            <a:ext cx="316080" cy="1118880"/>
          </a:xfrm>
          <a:prstGeom prst="rect">
            <a:avLst/>
          </a:prstGeom>
          <a:ln w="0">
            <a:noFill/>
          </a:ln>
        </p:spPr>
      </p:pic>
      <p:pic>
        <p:nvPicPr>
          <p:cNvPr id="627" name="Pismo odręczne 36" descr=""/>
          <p:cNvPicPr/>
          <p:nvPr/>
        </p:nvPicPr>
        <p:blipFill>
          <a:blip r:embed="rId3"/>
          <a:stretch/>
        </p:blipFill>
        <p:spPr>
          <a:xfrm>
            <a:off x="1616040" y="2935440"/>
            <a:ext cx="581040" cy="765000"/>
          </a:xfrm>
          <a:prstGeom prst="rect">
            <a:avLst/>
          </a:prstGeom>
          <a:ln w="0">
            <a:noFill/>
          </a:ln>
        </p:spPr>
      </p:pic>
      <p:pic>
        <p:nvPicPr>
          <p:cNvPr id="628" name="Pismo odręczne 40" descr=""/>
          <p:cNvPicPr/>
          <p:nvPr/>
        </p:nvPicPr>
        <p:blipFill>
          <a:blip r:embed="rId4"/>
          <a:stretch/>
        </p:blipFill>
        <p:spPr>
          <a:xfrm>
            <a:off x="2330280" y="3006720"/>
            <a:ext cx="498600" cy="631800"/>
          </a:xfrm>
          <a:prstGeom prst="rect">
            <a:avLst/>
          </a:prstGeom>
          <a:ln w="0">
            <a:noFill/>
          </a:ln>
        </p:spPr>
      </p:pic>
      <p:sp>
        <p:nvSpPr>
          <p:cNvPr id="629" name="pole tekstowe 9"/>
          <p:cNvSpPr/>
          <p:nvPr/>
        </p:nvSpPr>
        <p:spPr>
          <a:xfrm>
            <a:off x="144360" y="5587920"/>
            <a:ext cx="842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Znaki graficzne naniesione w obrębie krat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ole tekstowe 2"/>
          <p:cNvSpPr/>
          <p:nvPr/>
        </p:nvSpPr>
        <p:spPr>
          <a:xfrm>
            <a:off x="1332000" y="47628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d032a"/>
                </a:solidFill>
                <a:latin typeface="Arial Black"/>
              </a:rPr>
              <a:t>CZY ODDANY GŁOS JEST WAŻN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5" dur="1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1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5" dur="1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rostokąt 1"/>
          <p:cNvSpPr/>
          <p:nvPr/>
        </p:nvSpPr>
        <p:spPr>
          <a:xfrm>
            <a:off x="900000" y="2276640"/>
            <a:ext cx="208764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ole tekstowe 5"/>
          <p:cNvSpPr/>
          <p:nvPr/>
        </p:nvSpPr>
        <p:spPr>
          <a:xfrm>
            <a:off x="4356000" y="2060640"/>
            <a:ext cx="36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3300"/>
                </a:solidFill>
                <a:latin typeface="Arial Black"/>
              </a:rPr>
              <a:t>GŁOS NIEWAŻ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ole tekstowe 6"/>
          <p:cNvSpPr/>
          <p:nvPr/>
        </p:nvSpPr>
        <p:spPr>
          <a:xfrm>
            <a:off x="179280" y="4761000"/>
            <a:ext cx="84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Brak linii przecinających si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w obrębie krat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Pismo odręczne 4" descr=""/>
          <p:cNvPicPr/>
          <p:nvPr/>
        </p:nvPicPr>
        <p:blipFill>
          <a:blip r:embed="rId1"/>
          <a:stretch/>
        </p:blipFill>
        <p:spPr>
          <a:xfrm>
            <a:off x="1620720" y="2557440"/>
            <a:ext cx="871560" cy="882720"/>
          </a:xfrm>
          <a:prstGeom prst="rect">
            <a:avLst/>
          </a:prstGeom>
          <a:ln w="0">
            <a:noFill/>
          </a:ln>
        </p:spPr>
      </p:pic>
      <p:pic>
        <p:nvPicPr>
          <p:cNvPr id="635" name="Pismo odręczne 8" descr=""/>
          <p:cNvPicPr/>
          <p:nvPr/>
        </p:nvPicPr>
        <p:blipFill>
          <a:blip r:embed="rId2"/>
          <a:stretch/>
        </p:blipFill>
        <p:spPr>
          <a:xfrm>
            <a:off x="-1521000" y="2370240"/>
            <a:ext cx="38160" cy="38160"/>
          </a:xfrm>
          <a:prstGeom prst="rect">
            <a:avLst/>
          </a:prstGeom>
          <a:ln w="0">
            <a:noFill/>
          </a:ln>
        </p:spPr>
      </p:pic>
      <p:sp>
        <p:nvSpPr>
          <p:cNvPr id="636" name="pole tekstowe 7"/>
          <p:cNvSpPr/>
          <p:nvPr/>
        </p:nvSpPr>
        <p:spPr>
          <a:xfrm>
            <a:off x="144360" y="5587920"/>
            <a:ext cx="842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Znaki graficzne naniesione w obrębie krat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ole tekstowe 2"/>
          <p:cNvSpPr/>
          <p:nvPr/>
        </p:nvSpPr>
        <p:spPr>
          <a:xfrm>
            <a:off x="1332000" y="47628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d032a"/>
                </a:solidFill>
                <a:latin typeface="Arial Black"/>
              </a:rPr>
              <a:t>CZY ODDANY GŁOS JEST WAŻN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2" dur="1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7" dur="1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2" dur="1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rostokąt 1"/>
          <p:cNvSpPr/>
          <p:nvPr/>
        </p:nvSpPr>
        <p:spPr>
          <a:xfrm>
            <a:off x="900000" y="2276640"/>
            <a:ext cx="208764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ole tekstowe 5"/>
          <p:cNvSpPr/>
          <p:nvPr/>
        </p:nvSpPr>
        <p:spPr>
          <a:xfrm>
            <a:off x="4356000" y="2060640"/>
            <a:ext cx="36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3300"/>
                </a:solidFill>
                <a:latin typeface="Arial Black"/>
              </a:rPr>
              <a:t>GŁOS NIEWAŻ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ole tekstowe 6"/>
          <p:cNvSpPr/>
          <p:nvPr/>
        </p:nvSpPr>
        <p:spPr>
          <a:xfrm>
            <a:off x="179280" y="4761000"/>
            <a:ext cx="84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Brak linii przecinających si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w obrębie krat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Pismo odręczne 3" descr=""/>
          <p:cNvPicPr/>
          <p:nvPr/>
        </p:nvPicPr>
        <p:blipFill>
          <a:blip r:embed="rId1"/>
          <a:stretch/>
        </p:blipFill>
        <p:spPr>
          <a:xfrm>
            <a:off x="1936800" y="3132000"/>
            <a:ext cx="144360" cy="174600"/>
          </a:xfrm>
          <a:prstGeom prst="rect">
            <a:avLst/>
          </a:prstGeom>
          <a:ln w="0">
            <a:noFill/>
          </a:ln>
        </p:spPr>
      </p:pic>
      <p:sp>
        <p:nvSpPr>
          <p:cNvPr id="642" name="pole tekstowe 7"/>
          <p:cNvSpPr/>
          <p:nvPr/>
        </p:nvSpPr>
        <p:spPr>
          <a:xfrm>
            <a:off x="144360" y="5587920"/>
            <a:ext cx="842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Znaki graficzne naniesione w obrębie krat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ole tekstowe 2"/>
          <p:cNvSpPr/>
          <p:nvPr/>
        </p:nvSpPr>
        <p:spPr>
          <a:xfrm>
            <a:off x="1332000" y="47628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d032a"/>
                </a:solidFill>
                <a:latin typeface="Arial Black"/>
              </a:rPr>
              <a:t>CZY ODDANY GŁOS JEST WAŻN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9" dur="1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4" dur="1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9" dur="1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rostokąt 37"/>
          <p:cNvSpPr/>
          <p:nvPr/>
        </p:nvSpPr>
        <p:spPr>
          <a:xfrm>
            <a:off x="1763640" y="981000"/>
            <a:ext cx="4392720" cy="5761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Obraz 2" descr=""/>
          <p:cNvPicPr/>
          <p:nvPr/>
        </p:nvPicPr>
        <p:blipFill>
          <a:blip r:embed="rId1"/>
          <a:stretch/>
        </p:blipFill>
        <p:spPr>
          <a:xfrm>
            <a:off x="1908000" y="1011240"/>
            <a:ext cx="4032360" cy="5700600"/>
          </a:xfrm>
          <a:prstGeom prst="rect">
            <a:avLst/>
          </a:prstGeom>
          <a:ln w="0">
            <a:noFill/>
          </a:ln>
        </p:spPr>
      </p:pic>
      <p:sp>
        <p:nvSpPr>
          <p:cNvPr id="646" name="pole tekstowe 2"/>
          <p:cNvSpPr/>
          <p:nvPr/>
        </p:nvSpPr>
        <p:spPr>
          <a:xfrm>
            <a:off x="1547640" y="476280"/>
            <a:ext cx="61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d032a"/>
                </a:solidFill>
                <a:latin typeface="Arial Black"/>
              </a:rPr>
              <a:t>REFERENDUM OGÓLNOKRAJOW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ole tekstowe 17"/>
          <p:cNvSpPr/>
          <p:nvPr/>
        </p:nvSpPr>
        <p:spPr>
          <a:xfrm>
            <a:off x="4603680" y="2413080"/>
            <a:ext cx="41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 Black"/>
              </a:rPr>
              <a:t>KARTA DO GŁOSOW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ole tekstowe 2"/>
          <p:cNvSpPr/>
          <p:nvPr/>
        </p:nvSpPr>
        <p:spPr>
          <a:xfrm>
            <a:off x="1547640" y="476280"/>
            <a:ext cx="61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d032a"/>
                </a:solidFill>
                <a:latin typeface="Arial Black"/>
              </a:rPr>
              <a:t>REFERENDUM OGÓLNOKRAJOW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Obraz 5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3781440" cy="537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ole tekstowe 1"/>
          <p:cNvSpPr/>
          <p:nvPr/>
        </p:nvSpPr>
        <p:spPr>
          <a:xfrm>
            <a:off x="108000" y="1268280"/>
            <a:ext cx="88567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Art. 5 ust. 12 Kodeksu wyborcze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Ilekroć w kodeksie jest mowa 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 Black"/>
                <a:ea typeface="Arial"/>
              </a:rPr>
              <a:t>znaku „</a:t>
            </a:r>
            <a:r>
              <a:rPr b="1" lang="pl-PL" sz="4000" spc="-1" strike="noStrike">
                <a:solidFill>
                  <a:srgbClr val="ff0000"/>
                </a:solidFill>
                <a:latin typeface="Arial Black"/>
                <a:ea typeface="Arial"/>
              </a:rPr>
              <a:t>X</a:t>
            </a:r>
            <a:r>
              <a:rPr b="1" lang="pl-PL" sz="4000" spc="-1" strike="noStrike">
                <a:solidFill>
                  <a:srgbClr val="c00000"/>
                </a:solidFill>
                <a:latin typeface="Arial Black"/>
                <a:ea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ole tekstowe 2"/>
          <p:cNvSpPr/>
          <p:nvPr/>
        </p:nvSpPr>
        <p:spPr>
          <a:xfrm>
            <a:off x="1908000" y="476280"/>
            <a:ext cx="48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d032a"/>
                </a:solidFill>
                <a:latin typeface="Arial Black"/>
              </a:rPr>
              <a:t>DEFINICJA ZNAKU „X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rostokąt 1"/>
          <p:cNvSpPr/>
          <p:nvPr/>
        </p:nvSpPr>
        <p:spPr>
          <a:xfrm>
            <a:off x="250920" y="357336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00000"/>
                </a:solidFill>
                <a:latin typeface="Arial Black"/>
                <a:ea typeface="Arial"/>
              </a:rPr>
              <a:t>– </a:t>
            </a:r>
            <a:r>
              <a:rPr b="1" lang="pl-PL" sz="2800" spc="-1" strike="noStrike">
                <a:solidFill>
                  <a:srgbClr val="c00000"/>
                </a:solidFill>
                <a:latin typeface="Arial Black"/>
                <a:ea typeface="Arial"/>
              </a:rPr>
              <a:t>rozumie się przez to co najmniej dwie linie, które przecinają się w obrębie krat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rostokąt 5"/>
          <p:cNvSpPr/>
          <p:nvPr/>
        </p:nvSpPr>
        <p:spPr>
          <a:xfrm>
            <a:off x="220680" y="5229360"/>
            <a:ext cx="8497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Franklin Gothic Book"/>
              </a:rPr>
              <a:t>Należy zwrócić szczególną uwagę, że w referendum dopisanie na karcie do głosowania dodatkowych pytań lub wariantów rozwiązania albo poczynienie innych dopisków poza kratką nie wpływa na ważność głos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ole tekstowe 2"/>
          <p:cNvSpPr/>
          <p:nvPr/>
        </p:nvSpPr>
        <p:spPr>
          <a:xfrm>
            <a:off x="826920" y="507960"/>
            <a:ext cx="67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d032a"/>
                </a:solidFill>
                <a:latin typeface="Arial Black"/>
              </a:rPr>
              <a:t>KWALIFIKACJA WAŻNOŚCI GŁOSÓW - QUI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Picture 13" descr="j0233018"/>
          <p:cNvPicPr/>
          <p:nvPr/>
        </p:nvPicPr>
        <p:blipFill>
          <a:blip r:embed="rId1"/>
          <a:stretch/>
        </p:blipFill>
        <p:spPr>
          <a:xfrm>
            <a:off x="2700360" y="2565360"/>
            <a:ext cx="4032360" cy="2921040"/>
          </a:xfrm>
          <a:prstGeom prst="rect">
            <a:avLst/>
          </a:prstGeom>
          <a:ln w="0">
            <a:noFill/>
          </a:ln>
        </p:spPr>
      </p:pic>
      <p:sp>
        <p:nvSpPr>
          <p:cNvPr id="652" name="AutoShape 10"/>
          <p:cNvSpPr/>
          <p:nvPr/>
        </p:nvSpPr>
        <p:spPr>
          <a:xfrm>
            <a:off x="324000" y="2749680"/>
            <a:ext cx="3238200" cy="961920"/>
          </a:xfrm>
          <a:prstGeom prst="cloudCallout">
            <a:avLst>
              <a:gd name="adj1" fmla="val 51898"/>
              <a:gd name="adj2" fmla="val 94962"/>
            </a:avLst>
          </a:prstGeom>
          <a:solidFill>
            <a:srgbClr val="9d032a"/>
          </a:solidFill>
          <a:ln w="38160">
            <a:solidFill>
              <a:srgbClr val="bfbfbf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pl-PL" sz="2400" spc="-1" strike="noStrike">
                <a:solidFill>
                  <a:srgbClr val="ffffff"/>
                </a:solidFill>
                <a:latin typeface="Franklin Gothic Book"/>
              </a:rPr>
              <a:t>Głos nieważ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AutoShape 8"/>
          <p:cNvSpPr/>
          <p:nvPr/>
        </p:nvSpPr>
        <p:spPr>
          <a:xfrm>
            <a:off x="2124000" y="1413000"/>
            <a:ext cx="2519280" cy="1079280"/>
          </a:xfrm>
          <a:prstGeom prst="cloudCallout">
            <a:avLst>
              <a:gd name="adj1" fmla="val 59583"/>
              <a:gd name="adj2" fmla="val 110754"/>
            </a:avLst>
          </a:prstGeom>
          <a:solidFill>
            <a:srgbClr val="ffffff"/>
          </a:solidFill>
          <a:ln w="9360">
            <a:solidFill>
              <a:srgbClr val="9d03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9d032a"/>
                </a:solidFill>
                <a:latin typeface="Franklin Gothic Book"/>
              </a:rPr>
              <a:t>Głos </a:t>
            </a:r>
            <a:r>
              <a:rPr b="1" lang="pl-PL" sz="2400" spc="-1" strike="noStrike">
                <a:solidFill>
                  <a:srgbClr val="9d032a"/>
                </a:solidFill>
                <a:latin typeface="Franklin Gothic Book"/>
              </a:rPr>
              <a:t>nieważ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AutoShape 12"/>
          <p:cNvSpPr/>
          <p:nvPr/>
        </p:nvSpPr>
        <p:spPr>
          <a:xfrm>
            <a:off x="6300720" y="1628640"/>
            <a:ext cx="2600280" cy="928800"/>
          </a:xfrm>
          <a:prstGeom prst="cloudCallout">
            <a:avLst>
              <a:gd name="adj1" fmla="val -41550"/>
              <a:gd name="adj2" fmla="val 131060"/>
            </a:avLst>
          </a:prstGeom>
          <a:solidFill>
            <a:srgbClr val="bfbfbf"/>
          </a:solidFill>
          <a:ln w="38160">
            <a:solidFill>
              <a:srgbClr val="9d032a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Franklin Gothic Book"/>
              </a:rPr>
              <a:t>Głos waż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AutoShape 6"/>
          <p:cNvSpPr/>
          <p:nvPr/>
        </p:nvSpPr>
        <p:spPr>
          <a:xfrm>
            <a:off x="6499080" y="3135240"/>
            <a:ext cx="2448000" cy="1152720"/>
          </a:xfrm>
          <a:prstGeom prst="cloudCallout">
            <a:avLst>
              <a:gd name="adj1" fmla="val -84296"/>
              <a:gd name="adj2" fmla="val 102175"/>
            </a:avLst>
          </a:prstGeom>
          <a:solidFill>
            <a:srgbClr val="ffffff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Franklin Gothic Book"/>
              </a:rPr>
              <a:t>Głos waż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ole tekstowe 2"/>
          <p:cNvSpPr/>
          <p:nvPr/>
        </p:nvSpPr>
        <p:spPr>
          <a:xfrm>
            <a:off x="1547640" y="476280"/>
            <a:ext cx="61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d032a"/>
                </a:solidFill>
                <a:latin typeface="Arial Black"/>
              </a:rPr>
              <a:t>REFERENDUM OGÓLNOKRAJOW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Obraz 5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3781440" cy="537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58" name="pole tekstowe 4"/>
          <p:cNvSpPr/>
          <p:nvPr/>
        </p:nvSpPr>
        <p:spPr>
          <a:xfrm>
            <a:off x="4603680" y="1125360"/>
            <a:ext cx="36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b050"/>
                </a:solidFill>
                <a:latin typeface="Arial Black"/>
              </a:rPr>
              <a:t>GŁOS WAŻ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ole tekstowe 6"/>
          <p:cNvSpPr/>
          <p:nvPr/>
        </p:nvSpPr>
        <p:spPr>
          <a:xfrm>
            <a:off x="4357800" y="2319480"/>
            <a:ext cx="47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b050"/>
                </a:solidFill>
                <a:latin typeface="Arial"/>
                <a:ea typeface="Arial"/>
              </a:rPr>
              <a:t>Oddany na pytanie nr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Łącznik prosty 10"/>
          <p:cNvSpPr/>
          <p:nvPr/>
        </p:nvSpPr>
        <p:spPr>
          <a:xfrm flipV="1">
            <a:off x="2813040" y="3103560"/>
            <a:ext cx="181080" cy="146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Łącznik prosty 11"/>
          <p:cNvSpPr/>
          <p:nvPr/>
        </p:nvSpPr>
        <p:spPr>
          <a:xfrm>
            <a:off x="2843280" y="3141720"/>
            <a:ext cx="179280" cy="7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ole tekstowe 12"/>
          <p:cNvSpPr/>
          <p:nvPr/>
        </p:nvSpPr>
        <p:spPr>
          <a:xfrm>
            <a:off x="4343400" y="2762280"/>
            <a:ext cx="47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b050"/>
                </a:solidFill>
                <a:latin typeface="Arial"/>
                <a:ea typeface="Arial"/>
              </a:rPr>
              <a:t>Co najmniej dwie linie przecinają się w obręb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ole tekstowe 13"/>
          <p:cNvSpPr/>
          <p:nvPr/>
        </p:nvSpPr>
        <p:spPr>
          <a:xfrm>
            <a:off x="4603680" y="3860640"/>
            <a:ext cx="36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0000"/>
                </a:solidFill>
                <a:latin typeface="Arial Black"/>
              </a:rPr>
              <a:t>GŁOS NIEWAŻ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ole tekstowe 14"/>
          <p:cNvSpPr/>
          <p:nvPr/>
        </p:nvSpPr>
        <p:spPr>
          <a:xfrm>
            <a:off x="4321080" y="4921200"/>
            <a:ext cx="47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Arial"/>
                <a:ea typeface="Arial"/>
              </a:rPr>
              <a:t>Dotyczy pytania nr 1,3,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ole tekstowe 15"/>
          <p:cNvSpPr/>
          <p:nvPr/>
        </p:nvSpPr>
        <p:spPr>
          <a:xfrm>
            <a:off x="4248000" y="5300640"/>
            <a:ext cx="478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Arial"/>
                <a:ea typeface="Arial"/>
              </a:rPr>
              <a:t>Nie postawiono znaku ,,X”  w żadnej z kratek przy danym pytani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Obraz 2" descr=""/>
          <p:cNvPicPr/>
          <p:nvPr/>
        </p:nvPicPr>
        <p:blipFill>
          <a:blip r:embed="rId2"/>
          <a:stretch/>
        </p:blipFill>
        <p:spPr>
          <a:xfrm>
            <a:off x="836640" y="5905440"/>
            <a:ext cx="558720" cy="55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ole tekstowe 2"/>
          <p:cNvSpPr/>
          <p:nvPr/>
        </p:nvSpPr>
        <p:spPr>
          <a:xfrm>
            <a:off x="1547640" y="476280"/>
            <a:ext cx="61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d032a"/>
                </a:solidFill>
                <a:latin typeface="Arial Black"/>
              </a:rPr>
              <a:t>REFERENDUM OGÓLNOKRAJOW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Obraz 5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3781440" cy="537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69" name="Łącznik prosty 10"/>
          <p:cNvSpPr/>
          <p:nvPr/>
        </p:nvSpPr>
        <p:spPr>
          <a:xfrm flipV="1">
            <a:off x="2813040" y="3103560"/>
            <a:ext cx="181080" cy="146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Łącznik prosty 11"/>
          <p:cNvSpPr/>
          <p:nvPr/>
        </p:nvSpPr>
        <p:spPr>
          <a:xfrm>
            <a:off x="2843280" y="3141720"/>
            <a:ext cx="179280" cy="7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ole tekstowe 13"/>
          <p:cNvSpPr/>
          <p:nvPr/>
        </p:nvSpPr>
        <p:spPr>
          <a:xfrm>
            <a:off x="4643280" y="1700280"/>
            <a:ext cx="367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0000"/>
                </a:solidFill>
                <a:latin typeface="Arial Black"/>
              </a:rPr>
              <a:t>GŁOS NIEWAŻ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ole tekstowe 14"/>
          <p:cNvSpPr/>
          <p:nvPr/>
        </p:nvSpPr>
        <p:spPr>
          <a:xfrm>
            <a:off x="4321080" y="2924280"/>
            <a:ext cx="47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Arial"/>
                <a:ea typeface="Arial"/>
              </a:rPr>
              <a:t>Dotyczy pytania nr 1,2,3,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ole tekstowe 15"/>
          <p:cNvSpPr/>
          <p:nvPr/>
        </p:nvSpPr>
        <p:spPr>
          <a:xfrm>
            <a:off x="4321080" y="3556080"/>
            <a:ext cx="478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Arial"/>
                <a:ea typeface="Arial"/>
              </a:rPr>
              <a:t>Nie postawiono znaku ,,X”  w żadnej z kratek przy  pytaniu nr 1,3,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Łącznik prosty 16"/>
          <p:cNvSpPr/>
          <p:nvPr/>
        </p:nvSpPr>
        <p:spPr>
          <a:xfrm>
            <a:off x="1297080" y="3141720"/>
            <a:ext cx="179280" cy="7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Łącznik prosty 17"/>
          <p:cNvSpPr/>
          <p:nvPr/>
        </p:nvSpPr>
        <p:spPr>
          <a:xfrm flipV="1">
            <a:off x="1341360" y="3085920"/>
            <a:ext cx="181080" cy="14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ole tekstowe 18"/>
          <p:cNvSpPr/>
          <p:nvPr/>
        </p:nvSpPr>
        <p:spPr>
          <a:xfrm>
            <a:off x="4392720" y="4941720"/>
            <a:ext cx="478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Arial"/>
                <a:ea typeface="Arial"/>
              </a:rPr>
              <a:t>Postawiono znak ,,X”  </a:t>
            </a:r>
            <a:br>
              <a:rPr sz="2800"/>
            </a:br>
            <a:r>
              <a:rPr b="1" lang="pl-PL" sz="2800" spc="-1" strike="noStrike">
                <a:solidFill>
                  <a:srgbClr val="ff0000"/>
                </a:solidFill>
                <a:latin typeface="Arial"/>
                <a:ea typeface="Arial"/>
              </a:rPr>
              <a:t>w obu kratkach przy  pytaniu nr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Obraz 12" descr=""/>
          <p:cNvPicPr/>
          <p:nvPr/>
        </p:nvPicPr>
        <p:blipFill>
          <a:blip r:embed="rId2"/>
          <a:stretch/>
        </p:blipFill>
        <p:spPr>
          <a:xfrm>
            <a:off x="836640" y="5905440"/>
            <a:ext cx="558720" cy="55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ole tekstowe 2"/>
          <p:cNvSpPr/>
          <p:nvPr/>
        </p:nvSpPr>
        <p:spPr>
          <a:xfrm>
            <a:off x="1547640" y="476280"/>
            <a:ext cx="61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d032a"/>
                </a:solidFill>
                <a:latin typeface="Arial Black"/>
              </a:rPr>
              <a:t>REFERENDUM OGÓLNOKRAJOW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Obraz 5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3781440" cy="537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80" name="Łącznik prosty 10"/>
          <p:cNvSpPr/>
          <p:nvPr/>
        </p:nvSpPr>
        <p:spPr>
          <a:xfrm flipV="1">
            <a:off x="841320" y="1352520"/>
            <a:ext cx="181080" cy="146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Łącznik prosty 11"/>
          <p:cNvSpPr/>
          <p:nvPr/>
        </p:nvSpPr>
        <p:spPr>
          <a:xfrm>
            <a:off x="858960" y="1389240"/>
            <a:ext cx="179280" cy="7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ole tekstowe 9"/>
          <p:cNvSpPr/>
          <p:nvPr/>
        </p:nvSpPr>
        <p:spPr>
          <a:xfrm>
            <a:off x="4754520" y="2063880"/>
            <a:ext cx="36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0000"/>
                </a:solidFill>
                <a:latin typeface="Arial Black"/>
              </a:rPr>
              <a:t>GŁOS NIEWAŻ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ole tekstowe 12"/>
          <p:cNvSpPr/>
          <p:nvPr/>
        </p:nvSpPr>
        <p:spPr>
          <a:xfrm>
            <a:off x="4321080" y="3208320"/>
            <a:ext cx="47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Arial"/>
                <a:ea typeface="Arial"/>
              </a:rPr>
              <a:t>Dotyczy pytania nr 1,2,3,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ole tekstowe 13"/>
          <p:cNvSpPr/>
          <p:nvPr/>
        </p:nvSpPr>
        <p:spPr>
          <a:xfrm>
            <a:off x="4356000" y="3843360"/>
            <a:ext cx="478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Arial"/>
                <a:ea typeface="Arial"/>
              </a:rPr>
              <a:t>Znak ,,X” postawiony poza przeznaczoną na to kratką, w zakresie danego pytan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5" name="Obraz 8" descr=""/>
          <p:cNvPicPr/>
          <p:nvPr/>
        </p:nvPicPr>
        <p:blipFill>
          <a:blip r:embed="rId2"/>
          <a:stretch/>
        </p:blipFill>
        <p:spPr>
          <a:xfrm>
            <a:off x="836640" y="5905440"/>
            <a:ext cx="558720" cy="55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ole tekstowe 2"/>
          <p:cNvSpPr/>
          <p:nvPr/>
        </p:nvSpPr>
        <p:spPr>
          <a:xfrm>
            <a:off x="1547640" y="476280"/>
            <a:ext cx="61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d032a"/>
                </a:solidFill>
                <a:latin typeface="Arial Black"/>
              </a:rPr>
              <a:t>REFERENDUM OGÓLNOKRAJOW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Obraz 5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3781440" cy="537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88" name="pole tekstowe 9"/>
          <p:cNvSpPr/>
          <p:nvPr/>
        </p:nvSpPr>
        <p:spPr>
          <a:xfrm>
            <a:off x="4754520" y="2063880"/>
            <a:ext cx="36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0000"/>
                </a:solidFill>
                <a:latin typeface="Arial Black"/>
              </a:rPr>
              <a:t>GŁOS NIEWAŻ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ole tekstowe 12"/>
          <p:cNvSpPr/>
          <p:nvPr/>
        </p:nvSpPr>
        <p:spPr>
          <a:xfrm>
            <a:off x="4321080" y="3208320"/>
            <a:ext cx="47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Arial"/>
                <a:ea typeface="Arial"/>
              </a:rPr>
              <a:t>Dotyczy pytania nr 1,2,3,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ole tekstowe 13"/>
          <p:cNvSpPr/>
          <p:nvPr/>
        </p:nvSpPr>
        <p:spPr>
          <a:xfrm>
            <a:off x="4356000" y="3844800"/>
            <a:ext cx="478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Arial"/>
                <a:ea typeface="Arial"/>
              </a:rPr>
              <a:t>Nie postawiono znaku ,,X” w żadnej z kratek</a:t>
            </a:r>
            <a:br>
              <a:rPr sz="2800"/>
            </a:br>
            <a:r>
              <a:rPr b="1" lang="pl-PL" sz="2800" spc="-1" strike="noStrike">
                <a:solidFill>
                  <a:srgbClr val="ff0000"/>
                </a:solidFill>
                <a:latin typeface="Arial"/>
                <a:ea typeface="Arial"/>
              </a:rPr>
              <a:t>przy danym pytani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Obraz 6" descr=""/>
          <p:cNvPicPr/>
          <p:nvPr/>
        </p:nvPicPr>
        <p:blipFill>
          <a:blip r:embed="rId2"/>
          <a:stretch/>
        </p:blipFill>
        <p:spPr>
          <a:xfrm>
            <a:off x="836640" y="5905440"/>
            <a:ext cx="558720" cy="55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ole tekstowe 2"/>
          <p:cNvSpPr/>
          <p:nvPr/>
        </p:nvSpPr>
        <p:spPr>
          <a:xfrm>
            <a:off x="1547640" y="476280"/>
            <a:ext cx="61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d032a"/>
                </a:solidFill>
                <a:latin typeface="Arial Black"/>
              </a:rPr>
              <a:t>REFERENDUM OGÓLNOKRAJOW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Obraz 5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3781440" cy="537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94" name="pole tekstowe 9"/>
          <p:cNvSpPr/>
          <p:nvPr/>
        </p:nvSpPr>
        <p:spPr>
          <a:xfrm>
            <a:off x="4754520" y="1268280"/>
            <a:ext cx="36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0000"/>
                </a:solidFill>
                <a:latin typeface="Arial Black"/>
              </a:rPr>
              <a:t>GŁOS NIEWAŻ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ole tekstowe 12"/>
          <p:cNvSpPr/>
          <p:nvPr/>
        </p:nvSpPr>
        <p:spPr>
          <a:xfrm>
            <a:off x="4321080" y="2349360"/>
            <a:ext cx="47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Arial"/>
                <a:ea typeface="Arial"/>
              </a:rPr>
              <a:t>Dotyczy pytania nr 1,2,3,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ole tekstowe 13"/>
          <p:cNvSpPr/>
          <p:nvPr/>
        </p:nvSpPr>
        <p:spPr>
          <a:xfrm>
            <a:off x="4356000" y="3052800"/>
            <a:ext cx="478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Arial"/>
                <a:ea typeface="Arial"/>
              </a:rPr>
              <a:t>Nie postawiono znaku ,,X” w żadnej z kratek</a:t>
            </a:r>
            <a:br>
              <a:rPr sz="2800"/>
            </a:br>
            <a:r>
              <a:rPr b="1" lang="pl-PL" sz="2800" spc="-1" strike="noStrike">
                <a:solidFill>
                  <a:srgbClr val="ff0000"/>
                </a:solidFill>
                <a:latin typeface="Arial"/>
                <a:ea typeface="Arial"/>
              </a:rPr>
              <a:t>przy pytaniu nr 1,2,3,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ole tekstowe 14"/>
          <p:cNvSpPr/>
          <p:nvPr/>
        </p:nvSpPr>
        <p:spPr>
          <a:xfrm>
            <a:off x="4433760" y="4581360"/>
            <a:ext cx="478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Poczynienie innych dopisków poza kratką </a:t>
            </a: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nie wpływa na ważność głos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Dowolny kształt: kształt 5"/>
          <p:cNvSpPr/>
          <p:nvPr/>
        </p:nvSpPr>
        <p:spPr>
          <a:xfrm>
            <a:off x="1189080" y="2228760"/>
            <a:ext cx="717480" cy="287280"/>
          </a:xfrm>
          <a:custGeom>
            <a:avLst/>
            <a:gdLst/>
            <a:ahLst/>
            <a:rect l="l" t="t" r="r" b="b"/>
            <a:pathLst>
              <a:path w="339062" h="408369">
                <a:moveTo>
                  <a:pt x="179614" y="27369"/>
                </a:moveTo>
                <a:cubicBezTo>
                  <a:pt x="118511" y="20580"/>
                  <a:pt x="87158" y="14491"/>
                  <a:pt x="16329" y="27369"/>
                </a:cubicBezTo>
                <a:cubicBezTo>
                  <a:pt x="10684" y="28395"/>
                  <a:pt x="12901" y="38326"/>
                  <a:pt x="10886" y="43698"/>
                </a:cubicBezTo>
                <a:cubicBezTo>
                  <a:pt x="7455" y="52846"/>
                  <a:pt x="3629" y="61841"/>
                  <a:pt x="0" y="70912"/>
                </a:cubicBezTo>
                <a:cubicBezTo>
                  <a:pt x="1814" y="103569"/>
                  <a:pt x="1213" y="136450"/>
                  <a:pt x="5443" y="168883"/>
                </a:cubicBezTo>
                <a:cubicBezTo>
                  <a:pt x="6707" y="178571"/>
                  <a:pt x="13239" y="186829"/>
                  <a:pt x="16329" y="196098"/>
                </a:cubicBezTo>
                <a:cubicBezTo>
                  <a:pt x="26724" y="227285"/>
                  <a:pt x="15618" y="211006"/>
                  <a:pt x="32657" y="245083"/>
                </a:cubicBezTo>
                <a:cubicBezTo>
                  <a:pt x="35583" y="250934"/>
                  <a:pt x="40886" y="255434"/>
                  <a:pt x="43543" y="261412"/>
                </a:cubicBezTo>
                <a:cubicBezTo>
                  <a:pt x="48203" y="271898"/>
                  <a:pt x="48857" y="284038"/>
                  <a:pt x="54429" y="294069"/>
                </a:cubicBezTo>
                <a:cubicBezTo>
                  <a:pt x="58167" y="300798"/>
                  <a:pt x="66283" y="304134"/>
                  <a:pt x="70757" y="310398"/>
                </a:cubicBezTo>
                <a:cubicBezTo>
                  <a:pt x="75473" y="317000"/>
                  <a:pt x="76505" y="325889"/>
                  <a:pt x="81643" y="332169"/>
                </a:cubicBezTo>
                <a:cubicBezTo>
                  <a:pt x="93016" y="346070"/>
                  <a:pt x="107043" y="357569"/>
                  <a:pt x="119743" y="370269"/>
                </a:cubicBezTo>
                <a:cubicBezTo>
                  <a:pt x="135986" y="386512"/>
                  <a:pt x="135323" y="389294"/>
                  <a:pt x="157843" y="397483"/>
                </a:cubicBezTo>
                <a:cubicBezTo>
                  <a:pt x="170256" y="401997"/>
                  <a:pt x="183243" y="404740"/>
                  <a:pt x="195943" y="408369"/>
                </a:cubicBezTo>
                <a:cubicBezTo>
                  <a:pt x="221343" y="406555"/>
                  <a:pt x="247782" y="410340"/>
                  <a:pt x="272143" y="402926"/>
                </a:cubicBezTo>
                <a:cubicBezTo>
                  <a:pt x="290917" y="397212"/>
                  <a:pt x="321129" y="370269"/>
                  <a:pt x="321129" y="370269"/>
                </a:cubicBezTo>
                <a:cubicBezTo>
                  <a:pt x="322943" y="364826"/>
                  <a:pt x="325369" y="359550"/>
                  <a:pt x="326571" y="353940"/>
                </a:cubicBezTo>
                <a:cubicBezTo>
                  <a:pt x="342368" y="280218"/>
                  <a:pt x="342018" y="269808"/>
                  <a:pt x="332014" y="179769"/>
                </a:cubicBezTo>
                <a:cubicBezTo>
                  <a:pt x="324646" y="113454"/>
                  <a:pt x="331253" y="108360"/>
                  <a:pt x="293914" y="76355"/>
                </a:cubicBezTo>
                <a:cubicBezTo>
                  <a:pt x="288947" y="72098"/>
                  <a:pt x="283598" y="68046"/>
                  <a:pt x="277586" y="65469"/>
                </a:cubicBezTo>
                <a:cubicBezTo>
                  <a:pt x="270710" y="62522"/>
                  <a:pt x="263071" y="61840"/>
                  <a:pt x="255814" y="60026"/>
                </a:cubicBezTo>
                <a:cubicBezTo>
                  <a:pt x="252186" y="52769"/>
                  <a:pt x="250123" y="44488"/>
                  <a:pt x="244929" y="38255"/>
                </a:cubicBezTo>
                <a:cubicBezTo>
                  <a:pt x="235038" y="26385"/>
                  <a:pt x="220468" y="25336"/>
                  <a:pt x="206829" y="21926"/>
                </a:cubicBezTo>
                <a:cubicBezTo>
                  <a:pt x="194470" y="13686"/>
                  <a:pt x="178504" y="1423"/>
                  <a:pt x="163286" y="155"/>
                </a:cubicBezTo>
                <a:cubicBezTo>
                  <a:pt x="150501" y="-910"/>
                  <a:pt x="137886" y="3784"/>
                  <a:pt x="125186" y="5598"/>
                </a:cubicBezTo>
                <a:cubicBezTo>
                  <a:pt x="113975" y="67254"/>
                  <a:pt x="114300" y="45185"/>
                  <a:pt x="114300" y="70912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Dowolny kształt: kształt 5"/>
          <p:cNvSpPr/>
          <p:nvPr/>
        </p:nvSpPr>
        <p:spPr>
          <a:xfrm>
            <a:off x="2627280" y="2209680"/>
            <a:ext cx="719280" cy="287280"/>
          </a:xfrm>
          <a:custGeom>
            <a:avLst/>
            <a:gdLst/>
            <a:ahLst/>
            <a:rect l="l" t="t" r="r" b="b"/>
            <a:pathLst>
              <a:path w="339062" h="408369">
                <a:moveTo>
                  <a:pt x="179614" y="27369"/>
                </a:moveTo>
                <a:cubicBezTo>
                  <a:pt x="118511" y="20580"/>
                  <a:pt x="87158" y="14491"/>
                  <a:pt x="16329" y="27369"/>
                </a:cubicBezTo>
                <a:cubicBezTo>
                  <a:pt x="10684" y="28395"/>
                  <a:pt x="12901" y="38326"/>
                  <a:pt x="10886" y="43698"/>
                </a:cubicBezTo>
                <a:cubicBezTo>
                  <a:pt x="7455" y="52846"/>
                  <a:pt x="3629" y="61841"/>
                  <a:pt x="0" y="70912"/>
                </a:cubicBezTo>
                <a:cubicBezTo>
                  <a:pt x="1814" y="103569"/>
                  <a:pt x="1213" y="136450"/>
                  <a:pt x="5443" y="168883"/>
                </a:cubicBezTo>
                <a:cubicBezTo>
                  <a:pt x="6707" y="178571"/>
                  <a:pt x="13239" y="186829"/>
                  <a:pt x="16329" y="196098"/>
                </a:cubicBezTo>
                <a:cubicBezTo>
                  <a:pt x="26724" y="227285"/>
                  <a:pt x="15618" y="211006"/>
                  <a:pt x="32657" y="245083"/>
                </a:cubicBezTo>
                <a:cubicBezTo>
                  <a:pt x="35583" y="250934"/>
                  <a:pt x="40886" y="255434"/>
                  <a:pt x="43543" y="261412"/>
                </a:cubicBezTo>
                <a:cubicBezTo>
                  <a:pt x="48203" y="271898"/>
                  <a:pt x="48857" y="284038"/>
                  <a:pt x="54429" y="294069"/>
                </a:cubicBezTo>
                <a:cubicBezTo>
                  <a:pt x="58167" y="300798"/>
                  <a:pt x="66283" y="304134"/>
                  <a:pt x="70757" y="310398"/>
                </a:cubicBezTo>
                <a:cubicBezTo>
                  <a:pt x="75473" y="317000"/>
                  <a:pt x="76505" y="325889"/>
                  <a:pt x="81643" y="332169"/>
                </a:cubicBezTo>
                <a:cubicBezTo>
                  <a:pt x="93016" y="346070"/>
                  <a:pt x="107043" y="357569"/>
                  <a:pt x="119743" y="370269"/>
                </a:cubicBezTo>
                <a:cubicBezTo>
                  <a:pt x="135986" y="386512"/>
                  <a:pt x="135323" y="389294"/>
                  <a:pt x="157843" y="397483"/>
                </a:cubicBezTo>
                <a:cubicBezTo>
                  <a:pt x="170256" y="401997"/>
                  <a:pt x="183243" y="404740"/>
                  <a:pt x="195943" y="408369"/>
                </a:cubicBezTo>
                <a:cubicBezTo>
                  <a:pt x="221343" y="406555"/>
                  <a:pt x="247782" y="410340"/>
                  <a:pt x="272143" y="402926"/>
                </a:cubicBezTo>
                <a:cubicBezTo>
                  <a:pt x="290917" y="397212"/>
                  <a:pt x="321129" y="370269"/>
                  <a:pt x="321129" y="370269"/>
                </a:cubicBezTo>
                <a:cubicBezTo>
                  <a:pt x="322943" y="364826"/>
                  <a:pt x="325369" y="359550"/>
                  <a:pt x="326571" y="353940"/>
                </a:cubicBezTo>
                <a:cubicBezTo>
                  <a:pt x="342368" y="280218"/>
                  <a:pt x="342018" y="269808"/>
                  <a:pt x="332014" y="179769"/>
                </a:cubicBezTo>
                <a:cubicBezTo>
                  <a:pt x="324646" y="113454"/>
                  <a:pt x="331253" y="108360"/>
                  <a:pt x="293914" y="76355"/>
                </a:cubicBezTo>
                <a:cubicBezTo>
                  <a:pt x="288947" y="72098"/>
                  <a:pt x="283598" y="68046"/>
                  <a:pt x="277586" y="65469"/>
                </a:cubicBezTo>
                <a:cubicBezTo>
                  <a:pt x="270710" y="62522"/>
                  <a:pt x="263071" y="61840"/>
                  <a:pt x="255814" y="60026"/>
                </a:cubicBezTo>
                <a:cubicBezTo>
                  <a:pt x="252186" y="52769"/>
                  <a:pt x="250123" y="44488"/>
                  <a:pt x="244929" y="38255"/>
                </a:cubicBezTo>
                <a:cubicBezTo>
                  <a:pt x="235038" y="26385"/>
                  <a:pt x="220468" y="25336"/>
                  <a:pt x="206829" y="21926"/>
                </a:cubicBezTo>
                <a:cubicBezTo>
                  <a:pt x="194470" y="13686"/>
                  <a:pt x="178504" y="1423"/>
                  <a:pt x="163286" y="155"/>
                </a:cubicBezTo>
                <a:cubicBezTo>
                  <a:pt x="150501" y="-910"/>
                  <a:pt x="137886" y="3784"/>
                  <a:pt x="125186" y="5598"/>
                </a:cubicBezTo>
                <a:cubicBezTo>
                  <a:pt x="113975" y="67254"/>
                  <a:pt x="114300" y="45185"/>
                  <a:pt x="114300" y="70912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Dowolny kształt: kształt 5"/>
          <p:cNvSpPr/>
          <p:nvPr/>
        </p:nvSpPr>
        <p:spPr>
          <a:xfrm>
            <a:off x="1116000" y="3819600"/>
            <a:ext cx="719280" cy="287280"/>
          </a:xfrm>
          <a:custGeom>
            <a:avLst/>
            <a:gdLst/>
            <a:ahLst/>
            <a:rect l="l" t="t" r="r" b="b"/>
            <a:pathLst>
              <a:path w="339062" h="408369">
                <a:moveTo>
                  <a:pt x="179614" y="27369"/>
                </a:moveTo>
                <a:cubicBezTo>
                  <a:pt x="118511" y="20580"/>
                  <a:pt x="87158" y="14491"/>
                  <a:pt x="16329" y="27369"/>
                </a:cubicBezTo>
                <a:cubicBezTo>
                  <a:pt x="10684" y="28395"/>
                  <a:pt x="12901" y="38326"/>
                  <a:pt x="10886" y="43698"/>
                </a:cubicBezTo>
                <a:cubicBezTo>
                  <a:pt x="7455" y="52846"/>
                  <a:pt x="3629" y="61841"/>
                  <a:pt x="0" y="70912"/>
                </a:cubicBezTo>
                <a:cubicBezTo>
                  <a:pt x="1814" y="103569"/>
                  <a:pt x="1213" y="136450"/>
                  <a:pt x="5443" y="168883"/>
                </a:cubicBezTo>
                <a:cubicBezTo>
                  <a:pt x="6707" y="178571"/>
                  <a:pt x="13239" y="186829"/>
                  <a:pt x="16329" y="196098"/>
                </a:cubicBezTo>
                <a:cubicBezTo>
                  <a:pt x="26724" y="227285"/>
                  <a:pt x="15618" y="211006"/>
                  <a:pt x="32657" y="245083"/>
                </a:cubicBezTo>
                <a:cubicBezTo>
                  <a:pt x="35583" y="250934"/>
                  <a:pt x="40886" y="255434"/>
                  <a:pt x="43543" y="261412"/>
                </a:cubicBezTo>
                <a:cubicBezTo>
                  <a:pt x="48203" y="271898"/>
                  <a:pt x="48857" y="284038"/>
                  <a:pt x="54429" y="294069"/>
                </a:cubicBezTo>
                <a:cubicBezTo>
                  <a:pt x="58167" y="300798"/>
                  <a:pt x="66283" y="304134"/>
                  <a:pt x="70757" y="310398"/>
                </a:cubicBezTo>
                <a:cubicBezTo>
                  <a:pt x="75473" y="317000"/>
                  <a:pt x="76505" y="325889"/>
                  <a:pt x="81643" y="332169"/>
                </a:cubicBezTo>
                <a:cubicBezTo>
                  <a:pt x="93016" y="346070"/>
                  <a:pt x="107043" y="357569"/>
                  <a:pt x="119743" y="370269"/>
                </a:cubicBezTo>
                <a:cubicBezTo>
                  <a:pt x="135986" y="386512"/>
                  <a:pt x="135323" y="389294"/>
                  <a:pt x="157843" y="397483"/>
                </a:cubicBezTo>
                <a:cubicBezTo>
                  <a:pt x="170256" y="401997"/>
                  <a:pt x="183243" y="404740"/>
                  <a:pt x="195943" y="408369"/>
                </a:cubicBezTo>
                <a:cubicBezTo>
                  <a:pt x="221343" y="406555"/>
                  <a:pt x="247782" y="410340"/>
                  <a:pt x="272143" y="402926"/>
                </a:cubicBezTo>
                <a:cubicBezTo>
                  <a:pt x="290917" y="397212"/>
                  <a:pt x="321129" y="370269"/>
                  <a:pt x="321129" y="370269"/>
                </a:cubicBezTo>
                <a:cubicBezTo>
                  <a:pt x="322943" y="364826"/>
                  <a:pt x="325369" y="359550"/>
                  <a:pt x="326571" y="353940"/>
                </a:cubicBezTo>
                <a:cubicBezTo>
                  <a:pt x="342368" y="280218"/>
                  <a:pt x="342018" y="269808"/>
                  <a:pt x="332014" y="179769"/>
                </a:cubicBezTo>
                <a:cubicBezTo>
                  <a:pt x="324646" y="113454"/>
                  <a:pt x="331253" y="108360"/>
                  <a:pt x="293914" y="76355"/>
                </a:cubicBezTo>
                <a:cubicBezTo>
                  <a:pt x="288947" y="72098"/>
                  <a:pt x="283598" y="68046"/>
                  <a:pt x="277586" y="65469"/>
                </a:cubicBezTo>
                <a:cubicBezTo>
                  <a:pt x="270710" y="62522"/>
                  <a:pt x="263071" y="61840"/>
                  <a:pt x="255814" y="60026"/>
                </a:cubicBezTo>
                <a:cubicBezTo>
                  <a:pt x="252186" y="52769"/>
                  <a:pt x="250123" y="44488"/>
                  <a:pt x="244929" y="38255"/>
                </a:cubicBezTo>
                <a:cubicBezTo>
                  <a:pt x="235038" y="26385"/>
                  <a:pt x="220468" y="25336"/>
                  <a:pt x="206829" y="21926"/>
                </a:cubicBezTo>
                <a:cubicBezTo>
                  <a:pt x="194470" y="13686"/>
                  <a:pt x="178504" y="1423"/>
                  <a:pt x="163286" y="155"/>
                </a:cubicBezTo>
                <a:cubicBezTo>
                  <a:pt x="150501" y="-910"/>
                  <a:pt x="137886" y="3784"/>
                  <a:pt x="125186" y="5598"/>
                </a:cubicBezTo>
                <a:cubicBezTo>
                  <a:pt x="113975" y="67254"/>
                  <a:pt x="114300" y="45185"/>
                  <a:pt x="114300" y="70912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Dowolny kształt: kształt 5"/>
          <p:cNvSpPr/>
          <p:nvPr/>
        </p:nvSpPr>
        <p:spPr>
          <a:xfrm>
            <a:off x="2631960" y="3833640"/>
            <a:ext cx="719280" cy="287640"/>
          </a:xfrm>
          <a:custGeom>
            <a:avLst/>
            <a:gdLst/>
            <a:ahLst/>
            <a:rect l="l" t="t" r="r" b="b"/>
            <a:pathLst>
              <a:path w="339062" h="408369">
                <a:moveTo>
                  <a:pt x="179614" y="27369"/>
                </a:moveTo>
                <a:cubicBezTo>
                  <a:pt x="118511" y="20580"/>
                  <a:pt x="87158" y="14491"/>
                  <a:pt x="16329" y="27369"/>
                </a:cubicBezTo>
                <a:cubicBezTo>
                  <a:pt x="10684" y="28395"/>
                  <a:pt x="12901" y="38326"/>
                  <a:pt x="10886" y="43698"/>
                </a:cubicBezTo>
                <a:cubicBezTo>
                  <a:pt x="7455" y="52846"/>
                  <a:pt x="3629" y="61841"/>
                  <a:pt x="0" y="70912"/>
                </a:cubicBezTo>
                <a:cubicBezTo>
                  <a:pt x="1814" y="103569"/>
                  <a:pt x="1213" y="136450"/>
                  <a:pt x="5443" y="168883"/>
                </a:cubicBezTo>
                <a:cubicBezTo>
                  <a:pt x="6707" y="178571"/>
                  <a:pt x="13239" y="186829"/>
                  <a:pt x="16329" y="196098"/>
                </a:cubicBezTo>
                <a:cubicBezTo>
                  <a:pt x="26724" y="227285"/>
                  <a:pt x="15618" y="211006"/>
                  <a:pt x="32657" y="245083"/>
                </a:cubicBezTo>
                <a:cubicBezTo>
                  <a:pt x="35583" y="250934"/>
                  <a:pt x="40886" y="255434"/>
                  <a:pt x="43543" y="261412"/>
                </a:cubicBezTo>
                <a:cubicBezTo>
                  <a:pt x="48203" y="271898"/>
                  <a:pt x="48857" y="284038"/>
                  <a:pt x="54429" y="294069"/>
                </a:cubicBezTo>
                <a:cubicBezTo>
                  <a:pt x="58167" y="300798"/>
                  <a:pt x="66283" y="304134"/>
                  <a:pt x="70757" y="310398"/>
                </a:cubicBezTo>
                <a:cubicBezTo>
                  <a:pt x="75473" y="317000"/>
                  <a:pt x="76505" y="325889"/>
                  <a:pt x="81643" y="332169"/>
                </a:cubicBezTo>
                <a:cubicBezTo>
                  <a:pt x="93016" y="346070"/>
                  <a:pt x="107043" y="357569"/>
                  <a:pt x="119743" y="370269"/>
                </a:cubicBezTo>
                <a:cubicBezTo>
                  <a:pt x="135986" y="386512"/>
                  <a:pt x="135323" y="389294"/>
                  <a:pt x="157843" y="397483"/>
                </a:cubicBezTo>
                <a:cubicBezTo>
                  <a:pt x="170256" y="401997"/>
                  <a:pt x="183243" y="404740"/>
                  <a:pt x="195943" y="408369"/>
                </a:cubicBezTo>
                <a:cubicBezTo>
                  <a:pt x="221343" y="406555"/>
                  <a:pt x="247782" y="410340"/>
                  <a:pt x="272143" y="402926"/>
                </a:cubicBezTo>
                <a:cubicBezTo>
                  <a:pt x="290917" y="397212"/>
                  <a:pt x="321129" y="370269"/>
                  <a:pt x="321129" y="370269"/>
                </a:cubicBezTo>
                <a:cubicBezTo>
                  <a:pt x="322943" y="364826"/>
                  <a:pt x="325369" y="359550"/>
                  <a:pt x="326571" y="353940"/>
                </a:cubicBezTo>
                <a:cubicBezTo>
                  <a:pt x="342368" y="280218"/>
                  <a:pt x="342018" y="269808"/>
                  <a:pt x="332014" y="179769"/>
                </a:cubicBezTo>
                <a:cubicBezTo>
                  <a:pt x="324646" y="113454"/>
                  <a:pt x="331253" y="108360"/>
                  <a:pt x="293914" y="76355"/>
                </a:cubicBezTo>
                <a:cubicBezTo>
                  <a:pt x="288947" y="72098"/>
                  <a:pt x="283598" y="68046"/>
                  <a:pt x="277586" y="65469"/>
                </a:cubicBezTo>
                <a:cubicBezTo>
                  <a:pt x="270710" y="62522"/>
                  <a:pt x="263071" y="61840"/>
                  <a:pt x="255814" y="60026"/>
                </a:cubicBezTo>
                <a:cubicBezTo>
                  <a:pt x="252186" y="52769"/>
                  <a:pt x="250123" y="44488"/>
                  <a:pt x="244929" y="38255"/>
                </a:cubicBezTo>
                <a:cubicBezTo>
                  <a:pt x="235038" y="26385"/>
                  <a:pt x="220468" y="25336"/>
                  <a:pt x="206829" y="21926"/>
                </a:cubicBezTo>
                <a:cubicBezTo>
                  <a:pt x="194470" y="13686"/>
                  <a:pt x="178504" y="1423"/>
                  <a:pt x="163286" y="155"/>
                </a:cubicBezTo>
                <a:cubicBezTo>
                  <a:pt x="150501" y="-910"/>
                  <a:pt x="137886" y="3784"/>
                  <a:pt x="125186" y="5598"/>
                </a:cubicBezTo>
                <a:cubicBezTo>
                  <a:pt x="113975" y="67254"/>
                  <a:pt x="114300" y="45185"/>
                  <a:pt x="114300" y="70912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Obraz 16" descr=""/>
          <p:cNvPicPr/>
          <p:nvPr/>
        </p:nvPicPr>
        <p:blipFill>
          <a:blip r:embed="rId2"/>
          <a:stretch/>
        </p:blipFill>
        <p:spPr>
          <a:xfrm>
            <a:off x="836640" y="5905440"/>
            <a:ext cx="558720" cy="55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ole tekstowe 1"/>
          <p:cNvSpPr/>
          <p:nvPr/>
        </p:nvSpPr>
        <p:spPr>
          <a:xfrm>
            <a:off x="108000" y="1268280"/>
            <a:ext cx="88567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Art. 5 ust. 12 Kodeksu wyborcze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Ilekroć w kodeksie jest mowa 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 Black"/>
                <a:ea typeface="Arial"/>
              </a:rPr>
              <a:t>znaku „</a:t>
            </a:r>
            <a:r>
              <a:rPr b="1" lang="pl-PL" sz="4000" spc="-1" strike="noStrike">
                <a:solidFill>
                  <a:srgbClr val="ff0000"/>
                </a:solidFill>
                <a:latin typeface="Arial Black"/>
                <a:ea typeface="Arial"/>
              </a:rPr>
              <a:t>X</a:t>
            </a:r>
            <a:r>
              <a:rPr b="1" lang="pl-PL" sz="4000" spc="-1" strike="noStrike">
                <a:solidFill>
                  <a:srgbClr val="c00000"/>
                </a:solidFill>
                <a:latin typeface="Arial Black"/>
                <a:ea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ole tekstowe 2"/>
          <p:cNvSpPr/>
          <p:nvPr/>
        </p:nvSpPr>
        <p:spPr>
          <a:xfrm>
            <a:off x="1908000" y="476280"/>
            <a:ext cx="48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d032a"/>
                </a:solidFill>
                <a:latin typeface="Arial Black"/>
              </a:rPr>
              <a:t>DEFINICJA ZNAKU „X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rostokąt 1"/>
          <p:cNvSpPr/>
          <p:nvPr/>
        </p:nvSpPr>
        <p:spPr>
          <a:xfrm>
            <a:off x="250920" y="357336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00000"/>
                </a:solidFill>
                <a:latin typeface="Arial Black"/>
                <a:ea typeface="Arial"/>
              </a:rPr>
              <a:t>– </a:t>
            </a:r>
            <a:r>
              <a:rPr b="1" lang="pl-PL" sz="2800" spc="-1" strike="noStrike">
                <a:solidFill>
                  <a:srgbClr val="c00000"/>
                </a:solidFill>
                <a:latin typeface="Arial Black"/>
                <a:ea typeface="Arial"/>
              </a:rPr>
              <a:t>rozumie się przez to co najmniej dwie linie, które przecinają się w obrębie krat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rostokąt 5"/>
          <p:cNvSpPr/>
          <p:nvPr/>
        </p:nvSpPr>
        <p:spPr>
          <a:xfrm>
            <a:off x="220680" y="5229360"/>
            <a:ext cx="8497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Franklin Gothic Book"/>
              </a:rPr>
              <a:t>Należy zwrócić szczególną uwagę, że w referendum dopisanie na karcie do głosowania dodatkowych pytań lub wariantów rozwiązania albo poczynienie innych dopisków poza kratką nie wpływa na ważność głos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ole tekstowe 1"/>
          <p:cNvSpPr/>
          <p:nvPr/>
        </p:nvSpPr>
        <p:spPr>
          <a:xfrm>
            <a:off x="179280" y="1541520"/>
            <a:ext cx="806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Do stwierdzenia, czy głos oddany na karcie </a:t>
            </a: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do głosowania jest </a:t>
            </a:r>
            <a:r>
              <a:rPr b="1" lang="pl-PL" sz="2800" spc="-1" strike="noStrike">
                <a:solidFill>
                  <a:srgbClr val="00b050"/>
                </a:solidFill>
                <a:latin typeface="Arial"/>
                <a:ea typeface="Arial"/>
              </a:rPr>
              <a:t>głosem ważnym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, czy też </a:t>
            </a:r>
            <a:r>
              <a:rPr b="1" lang="pl-PL" sz="2800" spc="-1" strike="noStrike">
                <a:solidFill>
                  <a:srgbClr val="ff0000"/>
                </a:solidFill>
                <a:latin typeface="Arial"/>
                <a:ea typeface="Arial"/>
              </a:rPr>
              <a:t>głosem nieważnym</a:t>
            </a:r>
            <a:r>
              <a:rPr b="1" lang="pl-PL" sz="2800" spc="-1" strike="noStrike">
                <a:solidFill>
                  <a:srgbClr val="000000"/>
                </a:solidFill>
                <a:latin typeface="Arial Black"/>
                <a:ea typeface="Arial"/>
              </a:rPr>
              <a:t>, </a:t>
            </a:r>
            <a:r>
              <a:rPr b="1" lang="pl-PL" sz="2800" spc="-1" strike="noStrike" u="sng">
                <a:solidFill>
                  <a:srgbClr val="000000"/>
                </a:solidFill>
                <a:uFillTx/>
                <a:latin typeface="Arial Black"/>
                <a:ea typeface="Arial"/>
              </a:rPr>
              <a:t>uprawniona</a:t>
            </a:r>
            <a:r>
              <a:rPr b="1" lang="pl-PL" sz="2800" spc="-1" strike="noStrike">
                <a:solidFill>
                  <a:srgbClr val="000000"/>
                </a:solidFill>
                <a:latin typeface="Arial Black"/>
                <a:ea typeface="Arial"/>
              </a:rPr>
              <a:t> jest tylko obwodowa komisja wyborc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ole tekstowe 2"/>
          <p:cNvSpPr/>
          <p:nvPr/>
        </p:nvSpPr>
        <p:spPr>
          <a:xfrm>
            <a:off x="1908000" y="47628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90181b"/>
                </a:solidFill>
                <a:latin typeface="Arial Black"/>
              </a:rPr>
              <a:t>DEFINICJA ZNAKU „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Obraz 2" descr="Gratis vektorgrafik: Telefon, Mobiltelefon, Ikke, Opkald ..."/>
          <p:cNvPicPr/>
          <p:nvPr/>
        </p:nvPicPr>
        <p:blipFill>
          <a:blip r:embed="rId1"/>
          <a:stretch/>
        </p:blipFill>
        <p:spPr>
          <a:xfrm>
            <a:off x="5580000" y="5445000"/>
            <a:ext cx="1513080" cy="1297080"/>
          </a:xfrm>
          <a:prstGeom prst="rect">
            <a:avLst/>
          </a:prstGeom>
          <a:ln w="0">
            <a:noFill/>
          </a:ln>
        </p:spPr>
      </p:pic>
      <p:sp>
        <p:nvSpPr>
          <p:cNvPr id="710" name="Prostokąt 1"/>
          <p:cNvSpPr/>
          <p:nvPr/>
        </p:nvSpPr>
        <p:spPr>
          <a:xfrm>
            <a:off x="324000" y="3824280"/>
            <a:ext cx="79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0181b"/>
                </a:solidFill>
                <a:latin typeface="Arial Black"/>
                <a:ea typeface="Arial"/>
              </a:rPr>
              <a:t>Nie ma możliwości występowania z pytaniami </a:t>
            </a:r>
            <a:br>
              <a:rPr sz="2400"/>
            </a:br>
            <a:r>
              <a:rPr b="1" lang="pl-PL" sz="2400" spc="-1" strike="noStrike">
                <a:solidFill>
                  <a:srgbClr val="90181b"/>
                </a:solidFill>
                <a:latin typeface="Arial Black"/>
                <a:ea typeface="Arial"/>
              </a:rPr>
              <a:t>w tym zakresie do innych podmiotów, w tym do Państwowej Komisji Wyborczej, komisarza wyborczego, urzędnika wyborczego, czy delegatury KB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/>
          </p:nvPr>
        </p:nvSpPr>
        <p:spPr>
          <a:xfrm>
            <a:off x="34560" y="34920"/>
            <a:ext cx="9148680" cy="6858000"/>
          </a:xfrm>
          <a:prstGeom prst="rect">
            <a:avLst/>
          </a:prstGeom>
          <a:noFill/>
          <a:ln w="0">
            <a:noFill/>
          </a:ln>
        </p:spPr>
        <p:txBody>
          <a:bodyPr lIns="540000" rIns="540000" tIns="540000" bIns="54000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95b"/>
              </a:solidFill>
              <a:latin typeface="Open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8595b"/>
              </a:solidFill>
              <a:latin typeface="Open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8595b"/>
              </a:solidFill>
              <a:latin typeface="Open Sans"/>
            </a:endParaRPr>
          </a:p>
        </p:txBody>
      </p:sp>
      <p:sp>
        <p:nvSpPr>
          <p:cNvPr id="712" name="pole tekstowe 2"/>
          <p:cNvSpPr/>
          <p:nvPr/>
        </p:nvSpPr>
        <p:spPr>
          <a:xfrm>
            <a:off x="3564000" y="620640"/>
            <a:ext cx="5329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ff"/>
                </a:solidFill>
                <a:latin typeface="Arial"/>
              </a:rPr>
              <a:t>Dziękujemy Państwu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ff"/>
                </a:solidFill>
                <a:latin typeface="Arial"/>
              </a:rPr>
              <a:t>za uwag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rostokąt 1"/>
          <p:cNvSpPr/>
          <p:nvPr/>
        </p:nvSpPr>
        <p:spPr>
          <a:xfrm>
            <a:off x="7920" y="1484280"/>
            <a:ext cx="7848720" cy="46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00000"/>
                </a:solidFill>
                <a:latin typeface="Franklin Gothic Book"/>
              </a:rPr>
              <a:t>Ustalając, czy głos w zakresie danego pytania jest ważny czy nieważny, OKW stosuje poniższe reguł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3333ff"/>
              </a:buClr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33ff"/>
                </a:solidFill>
                <a:latin typeface="Franklin Gothic Book"/>
              </a:rPr>
              <a:t>znakiem „X” postawionym w kratce są co najmniej dwie linie, które przecinają się w obrębie kratk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c00000"/>
                </a:solidFill>
                <a:uFillTx/>
                <a:latin typeface="Franklin Gothic Book"/>
              </a:rPr>
              <a:t>Ustalenie</a:t>
            </a:r>
            <a:r>
              <a:rPr b="1" lang="pl-PL" sz="2000" spc="-1" strike="noStrike">
                <a:solidFill>
                  <a:srgbClr val="000000"/>
                </a:solidFill>
                <a:latin typeface="Franklin Gothic Book"/>
              </a:rPr>
              <a:t>, </a:t>
            </a:r>
            <a:r>
              <a:rPr b="1" lang="pl-PL" sz="2000" spc="-1" strike="noStrike" u="sng">
                <a:solidFill>
                  <a:srgbClr val="000000"/>
                </a:solidFill>
                <a:uFillTx/>
                <a:latin typeface="Franklin Gothic Book"/>
              </a:rPr>
              <a:t>czy postawiony znak jest znakiem „X” oraz, czy postawiony jest on w kratce, czy poza nią</a:t>
            </a:r>
            <a:r>
              <a:rPr b="1" lang="pl-PL" sz="2000" spc="-1" strike="noStrike">
                <a:solidFill>
                  <a:srgbClr val="000000"/>
                </a:solidFill>
                <a:latin typeface="Franklin Gothic Book"/>
              </a:rPr>
              <a:t>, </a:t>
            </a:r>
            <a:r>
              <a:rPr b="1" lang="pl-PL" sz="2000" spc="-1" strike="noStrike" u="sng">
                <a:solidFill>
                  <a:srgbClr val="c00000"/>
                </a:solidFill>
                <a:uFillTx/>
                <a:latin typeface="Franklin Gothic Book"/>
              </a:rPr>
              <a:t>należy</a:t>
            </a:r>
            <a:r>
              <a:rPr b="1" lang="pl-PL" sz="2000" spc="-1" strike="noStrike" u="sng">
                <a:solidFill>
                  <a:srgbClr val="cc0066"/>
                </a:solidFill>
                <a:uFillTx/>
                <a:latin typeface="Franklin Gothic Book"/>
              </a:rPr>
              <a:t> </a:t>
            </a:r>
            <a:r>
              <a:rPr b="1" lang="pl-PL" sz="2000" spc="-1" strike="noStrike" u="sng">
                <a:solidFill>
                  <a:srgbClr val="c00000"/>
                </a:solidFill>
                <a:uFillTx/>
                <a:latin typeface="Franklin Gothic Book"/>
              </a:rPr>
              <a:t>do  OKW </a:t>
            </a:r>
            <a:r>
              <a:rPr b="1" lang="pl-PL" sz="2000" spc="-1" strike="noStrike">
                <a:solidFill>
                  <a:srgbClr val="000000"/>
                </a:solidFill>
                <a:latin typeface="Franklin Gothic Book"/>
              </a:rPr>
              <a:t>(w razie  wątpliwości komisja rozstrzyga w głosowaniu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Franklin Gothic Book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Franklin Gothic Book"/>
              </a:rPr>
              <a:t>wszelkie znaki, wykreślenia, przekreślenia, w tym również i znak „X” postawiony przez głosującego </a:t>
            </a:r>
            <a:r>
              <a:rPr b="1" lang="pl-PL" sz="2000" spc="-1" strike="noStrike" u="sng">
                <a:solidFill>
                  <a:srgbClr val="000000"/>
                </a:solidFill>
                <a:uFillTx/>
                <a:latin typeface="Franklin Gothic Book"/>
              </a:rPr>
              <a:t>poza przeznaczoną na to kratką</a:t>
            </a:r>
            <a:r>
              <a:rPr b="1" lang="pl-PL" sz="2000" spc="-1" strike="noStrike">
                <a:solidFill>
                  <a:srgbClr val="000000"/>
                </a:solidFill>
                <a:latin typeface="Franklin Gothic Book"/>
              </a:rPr>
              <a:t>, traktuje się jako dopiski, które nie wpływają na ważność głos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Franklin Gothic Book"/>
              </a:rPr>
              <a:t>dopisanie na karcie do głosowania dodatkowych pytań lub wariantów rozwiązania albo poczynienie innych dopisków poza kratką nie wpływa na ważność głos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rostokąt 4"/>
          <p:cNvSpPr/>
          <p:nvPr/>
        </p:nvSpPr>
        <p:spPr>
          <a:xfrm>
            <a:off x="8317080" y="4149720"/>
            <a:ext cx="431640" cy="466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rostokąt 5"/>
          <p:cNvSpPr/>
          <p:nvPr/>
        </p:nvSpPr>
        <p:spPr>
          <a:xfrm>
            <a:off x="8299440" y="3070080"/>
            <a:ext cx="431640" cy="503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Mnożenie 6"/>
          <p:cNvSpPr/>
          <p:nvPr/>
        </p:nvSpPr>
        <p:spPr>
          <a:xfrm>
            <a:off x="8407440" y="3017880"/>
            <a:ext cx="612720" cy="482400"/>
          </a:xfrm>
          <a:custGeom>
            <a:avLst/>
            <a:gdLst/>
            <a:ahLst/>
            <a:rect l="l" t="t" r="r" b="b"/>
            <a:pathLst>
              <a:path w="612775" h="482600">
                <a:moveTo>
                  <a:pt x="112059" y="160495"/>
                </a:moveTo>
                <a:lnTo>
                  <a:pt x="182288" y="71322"/>
                </a:lnTo>
                <a:lnTo>
                  <a:pt x="306388" y="169058"/>
                </a:lnTo>
                <a:lnTo>
                  <a:pt x="430487" y="71322"/>
                </a:lnTo>
                <a:lnTo>
                  <a:pt x="500716" y="160495"/>
                </a:lnTo>
                <a:lnTo>
                  <a:pt x="398115" y="241300"/>
                </a:lnTo>
                <a:lnTo>
                  <a:pt x="500716" y="322105"/>
                </a:lnTo>
                <a:lnTo>
                  <a:pt x="430487" y="411278"/>
                </a:lnTo>
                <a:lnTo>
                  <a:pt x="306388" y="313542"/>
                </a:lnTo>
                <a:lnTo>
                  <a:pt x="182288" y="411278"/>
                </a:lnTo>
                <a:lnTo>
                  <a:pt x="112059" y="322105"/>
                </a:lnTo>
                <a:lnTo>
                  <a:pt x="214660" y="241300"/>
                </a:lnTo>
                <a:lnTo>
                  <a:pt x="112059" y="160495"/>
                </a:lnTo>
                <a:close/>
              </a:path>
            </a:pathLst>
          </a:custGeom>
          <a:solidFill>
            <a:srgbClr val="00206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Mnożenie 8"/>
          <p:cNvSpPr/>
          <p:nvPr/>
        </p:nvSpPr>
        <p:spPr>
          <a:xfrm>
            <a:off x="8353440" y="3494160"/>
            <a:ext cx="395280" cy="798480"/>
          </a:xfrm>
          <a:custGeom>
            <a:avLst/>
            <a:gdLst/>
            <a:ahLst/>
            <a:rect l="l" t="t" r="r" b="b"/>
            <a:pathLst>
              <a:path w="395288" h="798512">
                <a:moveTo>
                  <a:pt x="53278" y="212406"/>
                </a:moveTo>
                <a:lnTo>
                  <a:pt x="136599" y="171159"/>
                </a:lnTo>
                <a:lnTo>
                  <a:pt x="197644" y="294475"/>
                </a:lnTo>
                <a:lnTo>
                  <a:pt x="258689" y="171159"/>
                </a:lnTo>
                <a:lnTo>
                  <a:pt x="342010" y="212406"/>
                </a:lnTo>
                <a:lnTo>
                  <a:pt x="249514" y="399256"/>
                </a:lnTo>
                <a:lnTo>
                  <a:pt x="342010" y="586106"/>
                </a:lnTo>
                <a:lnTo>
                  <a:pt x="258689" y="627353"/>
                </a:lnTo>
                <a:lnTo>
                  <a:pt x="197644" y="504037"/>
                </a:lnTo>
                <a:lnTo>
                  <a:pt x="136599" y="627353"/>
                </a:lnTo>
                <a:lnTo>
                  <a:pt x="53278" y="586106"/>
                </a:lnTo>
                <a:lnTo>
                  <a:pt x="145774" y="399256"/>
                </a:lnTo>
                <a:lnTo>
                  <a:pt x="53278" y="212406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Nie równa się 12"/>
          <p:cNvSpPr/>
          <p:nvPr/>
        </p:nvSpPr>
        <p:spPr>
          <a:xfrm>
            <a:off x="8286840" y="2355840"/>
            <a:ext cx="461880" cy="352440"/>
          </a:xfrm>
          <a:custGeom>
            <a:avLst/>
            <a:gdLst/>
            <a:ahLst/>
            <a:rect l="l" t="t" r="r" b="b"/>
            <a:pathLst>
              <a:path w="461963" h="352425">
                <a:moveTo>
                  <a:pt x="61233" y="72600"/>
                </a:moveTo>
                <a:lnTo>
                  <a:pt x="224588" y="72600"/>
                </a:lnTo>
                <a:lnTo>
                  <a:pt x="251013" y="0"/>
                </a:lnTo>
                <a:lnTo>
                  <a:pt x="328904" y="28350"/>
                </a:lnTo>
                <a:lnTo>
                  <a:pt x="312799" y="72600"/>
                </a:lnTo>
                <a:lnTo>
                  <a:pt x="400730" y="72600"/>
                </a:lnTo>
                <a:lnTo>
                  <a:pt x="400730" y="155490"/>
                </a:lnTo>
                <a:lnTo>
                  <a:pt x="282629" y="155490"/>
                </a:lnTo>
                <a:lnTo>
                  <a:pt x="267544" y="196935"/>
                </a:lnTo>
                <a:lnTo>
                  <a:pt x="400730" y="196935"/>
                </a:lnTo>
                <a:lnTo>
                  <a:pt x="400730" y="279825"/>
                </a:lnTo>
                <a:lnTo>
                  <a:pt x="237375" y="279825"/>
                </a:lnTo>
                <a:lnTo>
                  <a:pt x="210950" y="352425"/>
                </a:lnTo>
                <a:lnTo>
                  <a:pt x="133059" y="324075"/>
                </a:lnTo>
                <a:lnTo>
                  <a:pt x="149164" y="279825"/>
                </a:lnTo>
                <a:lnTo>
                  <a:pt x="61233" y="279825"/>
                </a:lnTo>
                <a:lnTo>
                  <a:pt x="61233" y="196935"/>
                </a:lnTo>
                <a:lnTo>
                  <a:pt x="179334" y="196935"/>
                </a:lnTo>
                <a:lnTo>
                  <a:pt x="194419" y="155490"/>
                </a:lnTo>
                <a:lnTo>
                  <a:pt x="61233" y="155490"/>
                </a:lnTo>
                <a:lnTo>
                  <a:pt x="61233" y="72600"/>
                </a:lnTo>
                <a:close/>
              </a:path>
            </a:pathLst>
          </a:custGeom>
          <a:solidFill>
            <a:srgbClr val="0070c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Minus 13"/>
          <p:cNvSpPr/>
          <p:nvPr/>
        </p:nvSpPr>
        <p:spPr>
          <a:xfrm rot="19142400">
            <a:off x="8461440" y="4470120"/>
            <a:ext cx="718920" cy="431640"/>
          </a:xfrm>
          <a:custGeom>
            <a:avLst/>
            <a:gdLst/>
            <a:ahLst/>
            <a:rect l="l" t="t" r="r" b="b"/>
            <a:pathLst>
              <a:path w="719138" h="431800">
                <a:moveTo>
                  <a:pt x="95322" y="165120"/>
                </a:moveTo>
                <a:lnTo>
                  <a:pt x="623816" y="165120"/>
                </a:lnTo>
                <a:lnTo>
                  <a:pt x="623816" y="266680"/>
                </a:lnTo>
                <a:lnTo>
                  <a:pt x="95322" y="266680"/>
                </a:lnTo>
                <a:lnTo>
                  <a:pt x="95322" y="16512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rostokąt 19"/>
          <p:cNvSpPr/>
          <p:nvPr/>
        </p:nvSpPr>
        <p:spPr>
          <a:xfrm>
            <a:off x="8317080" y="2278080"/>
            <a:ext cx="431640" cy="503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rostokąt 3"/>
          <p:cNvSpPr/>
          <p:nvPr/>
        </p:nvSpPr>
        <p:spPr>
          <a:xfrm>
            <a:off x="179280" y="44784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9d032a"/>
                </a:solidFill>
                <a:latin typeface="Arial Black"/>
              </a:rPr>
              <a:t>KWALIFIKACJA WAŻNOŚCI GŁO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rostokąt 1"/>
          <p:cNvSpPr/>
          <p:nvPr/>
        </p:nvSpPr>
        <p:spPr>
          <a:xfrm>
            <a:off x="900000" y="2276640"/>
            <a:ext cx="208764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ole tekstowe 2"/>
          <p:cNvSpPr/>
          <p:nvPr/>
        </p:nvSpPr>
        <p:spPr>
          <a:xfrm>
            <a:off x="1332000" y="47628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d032a"/>
                </a:solidFill>
                <a:latin typeface="Arial Black"/>
              </a:rPr>
              <a:t>CZY ODDANY GŁOS JEST WAŻN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ole tekstowe 5"/>
          <p:cNvSpPr/>
          <p:nvPr/>
        </p:nvSpPr>
        <p:spPr>
          <a:xfrm>
            <a:off x="4356000" y="2060640"/>
            <a:ext cx="36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b050"/>
                </a:solidFill>
                <a:latin typeface="Arial Black"/>
              </a:rPr>
              <a:t>GŁOS WAŻ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ole tekstowe 6"/>
          <p:cNvSpPr/>
          <p:nvPr/>
        </p:nvSpPr>
        <p:spPr>
          <a:xfrm>
            <a:off x="179280" y="4761000"/>
            <a:ext cx="84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b050"/>
                </a:solidFill>
                <a:latin typeface="Arial"/>
                <a:ea typeface="Arial"/>
              </a:rPr>
              <a:t>Dwie linie przecinają si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b050"/>
                </a:solidFill>
                <a:latin typeface="Arial"/>
                <a:ea typeface="Arial"/>
              </a:rPr>
              <a:t>w obrębie krat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smo odręczne 8" descr=""/>
          <p:cNvPicPr/>
          <p:nvPr/>
        </p:nvPicPr>
        <p:blipFill>
          <a:blip r:embed="rId1"/>
          <a:stretch/>
        </p:blipFill>
        <p:spPr>
          <a:xfrm>
            <a:off x="828720" y="1438200"/>
            <a:ext cx="2582640" cy="3137040"/>
          </a:xfrm>
          <a:prstGeom prst="rect">
            <a:avLst/>
          </a:prstGeom>
          <a:ln w="0">
            <a:noFill/>
          </a:ln>
        </p:spPr>
      </p:pic>
      <p:pic>
        <p:nvPicPr>
          <p:cNvPr id="556" name="Pismo odręczne 10" descr=""/>
          <p:cNvPicPr/>
          <p:nvPr/>
        </p:nvPicPr>
        <p:blipFill>
          <a:blip r:embed="rId2"/>
          <a:stretch/>
        </p:blipFill>
        <p:spPr>
          <a:xfrm>
            <a:off x="619200" y="1498680"/>
            <a:ext cx="316368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1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1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rostokąt 1"/>
          <p:cNvSpPr/>
          <p:nvPr/>
        </p:nvSpPr>
        <p:spPr>
          <a:xfrm>
            <a:off x="900000" y="2276640"/>
            <a:ext cx="208764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Łącznik prosty 3"/>
          <p:cNvSpPr/>
          <p:nvPr/>
        </p:nvSpPr>
        <p:spPr>
          <a:xfrm>
            <a:off x="1943280" y="1844640"/>
            <a:ext cx="1908000" cy="2332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Łącznik prosty 4"/>
          <p:cNvSpPr/>
          <p:nvPr/>
        </p:nvSpPr>
        <p:spPr>
          <a:xfrm flipH="1">
            <a:off x="2410920" y="2448000"/>
            <a:ext cx="2197080" cy="1800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ole tekstowe 5"/>
          <p:cNvSpPr/>
          <p:nvPr/>
        </p:nvSpPr>
        <p:spPr>
          <a:xfrm>
            <a:off x="4356000" y="2060640"/>
            <a:ext cx="36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3300"/>
                </a:solidFill>
                <a:latin typeface="Arial Black"/>
              </a:rPr>
              <a:t>GŁOS NIEWAŻ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ole tekstowe 6"/>
          <p:cNvSpPr/>
          <p:nvPr/>
        </p:nvSpPr>
        <p:spPr>
          <a:xfrm>
            <a:off x="142920" y="472428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Dwie linie nie przecinają si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w obrębie krat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ole tekstowe 7"/>
          <p:cNvSpPr/>
          <p:nvPr/>
        </p:nvSpPr>
        <p:spPr>
          <a:xfrm>
            <a:off x="144360" y="5587920"/>
            <a:ext cx="842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Znaki graficzne naniesione w obrębie krat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ole tekstowe 2"/>
          <p:cNvSpPr/>
          <p:nvPr/>
        </p:nvSpPr>
        <p:spPr>
          <a:xfrm>
            <a:off x="1332000" y="47628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d032a"/>
                </a:solidFill>
                <a:latin typeface="Arial Black"/>
              </a:rPr>
              <a:t>CZY ODDANY GŁOS JEST WAŻN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1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1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1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rostokąt 1"/>
          <p:cNvSpPr/>
          <p:nvPr/>
        </p:nvSpPr>
        <p:spPr>
          <a:xfrm>
            <a:off x="900000" y="2276640"/>
            <a:ext cx="208764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ole tekstowe 5"/>
          <p:cNvSpPr/>
          <p:nvPr/>
        </p:nvSpPr>
        <p:spPr>
          <a:xfrm>
            <a:off x="4356000" y="2060640"/>
            <a:ext cx="36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3300"/>
                </a:solidFill>
                <a:latin typeface="Arial Black"/>
              </a:rPr>
              <a:t>GŁOS NIEWAŻ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ole tekstowe 6"/>
          <p:cNvSpPr/>
          <p:nvPr/>
        </p:nvSpPr>
        <p:spPr>
          <a:xfrm>
            <a:off x="179280" y="4761000"/>
            <a:ext cx="84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Dwie linie nie przecinają si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w obrębie krat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smo odręczne 13" descr=""/>
          <p:cNvPicPr/>
          <p:nvPr/>
        </p:nvPicPr>
        <p:blipFill>
          <a:blip r:embed="rId1"/>
          <a:stretch/>
        </p:blipFill>
        <p:spPr>
          <a:xfrm>
            <a:off x="476280" y="1428840"/>
            <a:ext cx="3497400" cy="2476440"/>
          </a:xfrm>
          <a:prstGeom prst="rect">
            <a:avLst/>
          </a:prstGeom>
          <a:ln w="0">
            <a:noFill/>
          </a:ln>
        </p:spPr>
      </p:pic>
      <p:sp>
        <p:nvSpPr>
          <p:cNvPr id="568" name="pole tekstowe 7"/>
          <p:cNvSpPr/>
          <p:nvPr/>
        </p:nvSpPr>
        <p:spPr>
          <a:xfrm>
            <a:off x="144360" y="5587920"/>
            <a:ext cx="842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Znaki graficzne naniesione w obrębie krat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ole tekstowe 2"/>
          <p:cNvSpPr/>
          <p:nvPr/>
        </p:nvSpPr>
        <p:spPr>
          <a:xfrm>
            <a:off x="1332000" y="47628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d032a"/>
                </a:solidFill>
                <a:latin typeface="Arial Black"/>
              </a:rPr>
              <a:t>CZY ODDANY GŁOS JEST WAŻN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1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1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1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rostokąt 1"/>
          <p:cNvSpPr/>
          <p:nvPr/>
        </p:nvSpPr>
        <p:spPr>
          <a:xfrm>
            <a:off x="900000" y="2276640"/>
            <a:ext cx="208764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Łącznik prosty 3"/>
          <p:cNvSpPr/>
          <p:nvPr/>
        </p:nvSpPr>
        <p:spPr>
          <a:xfrm>
            <a:off x="539640" y="1395360"/>
            <a:ext cx="3384720" cy="2879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Łącznik prosty 4"/>
          <p:cNvSpPr/>
          <p:nvPr/>
        </p:nvSpPr>
        <p:spPr>
          <a:xfrm flipH="1">
            <a:off x="1258920" y="1908000"/>
            <a:ext cx="3673440" cy="2953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ole tekstowe 5"/>
          <p:cNvSpPr/>
          <p:nvPr/>
        </p:nvSpPr>
        <p:spPr>
          <a:xfrm>
            <a:off x="4356000" y="2060640"/>
            <a:ext cx="36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b050"/>
                </a:solidFill>
                <a:latin typeface="Arial Black"/>
              </a:rPr>
              <a:t>GŁOS WAŻ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ole tekstowe 6"/>
          <p:cNvSpPr/>
          <p:nvPr/>
        </p:nvSpPr>
        <p:spPr>
          <a:xfrm>
            <a:off x="179280" y="4761000"/>
            <a:ext cx="842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b050"/>
                </a:solidFill>
                <a:latin typeface="Arial"/>
                <a:ea typeface="Arial"/>
              </a:rPr>
              <a:t>Dwie linie przecinają się w obrębie krat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b050"/>
                </a:solidFill>
                <a:latin typeface="Arial"/>
                <a:ea typeface="Arial"/>
              </a:rPr>
              <a:t>Obramowanie kratki należy uznać za część krat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ole tekstowe 2"/>
          <p:cNvSpPr/>
          <p:nvPr/>
        </p:nvSpPr>
        <p:spPr>
          <a:xfrm>
            <a:off x="1332000" y="47628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d032a"/>
                </a:solidFill>
                <a:latin typeface="Arial Black"/>
              </a:rPr>
              <a:t>CZY ODDANY GŁOS JEST WAŻN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1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1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rostokąt 1"/>
          <p:cNvSpPr/>
          <p:nvPr/>
        </p:nvSpPr>
        <p:spPr>
          <a:xfrm>
            <a:off x="900000" y="2276640"/>
            <a:ext cx="208764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ole tekstowe 5"/>
          <p:cNvSpPr/>
          <p:nvPr/>
        </p:nvSpPr>
        <p:spPr>
          <a:xfrm>
            <a:off x="4356000" y="2060640"/>
            <a:ext cx="36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b050"/>
                </a:solidFill>
                <a:latin typeface="Arial Black"/>
              </a:rPr>
              <a:t>GŁOS WAŻ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ole tekstowe 6"/>
          <p:cNvSpPr/>
          <p:nvPr/>
        </p:nvSpPr>
        <p:spPr>
          <a:xfrm>
            <a:off x="108000" y="4761000"/>
            <a:ext cx="885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b050"/>
                </a:solidFill>
                <a:latin typeface="Arial"/>
                <a:ea typeface="Arial"/>
              </a:rPr>
              <a:t>Co najmniej dwie linie przecinają si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b050"/>
                </a:solidFill>
                <a:latin typeface="Arial"/>
                <a:ea typeface="Arial"/>
              </a:rPr>
              <a:t>w obrębie kratki. Dodatkowa jaśniejsza linia może być efektem „nierozpisanego” długopis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Łącznik prosty 7" descr=""/>
          <p:cNvPicPr/>
          <p:nvPr/>
        </p:nvPicPr>
        <p:blipFill>
          <a:blip r:embed="rId1"/>
          <a:stretch/>
        </p:blipFill>
        <p:spPr>
          <a:xfrm>
            <a:off x="450720" y="1895400"/>
            <a:ext cx="3078360" cy="2719440"/>
          </a:xfrm>
          <a:prstGeom prst="rect">
            <a:avLst/>
          </a:prstGeom>
          <a:ln w="0">
            <a:noFill/>
          </a:ln>
        </p:spPr>
      </p:pic>
      <p:pic>
        <p:nvPicPr>
          <p:cNvPr id="580" name="Pismo odręczne 14" descr=""/>
          <p:cNvPicPr/>
          <p:nvPr/>
        </p:nvPicPr>
        <p:blipFill>
          <a:blip r:embed="rId2"/>
          <a:stretch/>
        </p:blipFill>
        <p:spPr>
          <a:xfrm>
            <a:off x="623880" y="1760400"/>
            <a:ext cx="3530520" cy="3057840"/>
          </a:xfrm>
          <a:prstGeom prst="rect">
            <a:avLst/>
          </a:prstGeom>
          <a:ln w="0">
            <a:noFill/>
          </a:ln>
        </p:spPr>
      </p:pic>
      <p:pic>
        <p:nvPicPr>
          <p:cNvPr id="581" name="Pismo odręczne 16" descr=""/>
          <p:cNvPicPr/>
          <p:nvPr/>
        </p:nvPicPr>
        <p:blipFill>
          <a:blip r:embed="rId3"/>
          <a:stretch/>
        </p:blipFill>
        <p:spPr>
          <a:xfrm>
            <a:off x="928800" y="1498680"/>
            <a:ext cx="2260440" cy="3247920"/>
          </a:xfrm>
          <a:prstGeom prst="rect">
            <a:avLst/>
          </a:prstGeom>
          <a:ln w="0">
            <a:noFill/>
          </a:ln>
        </p:spPr>
      </p:pic>
      <p:sp>
        <p:nvSpPr>
          <p:cNvPr id="582" name="pole tekstowe 2"/>
          <p:cNvSpPr/>
          <p:nvPr/>
        </p:nvSpPr>
        <p:spPr>
          <a:xfrm>
            <a:off x="1332000" y="47628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d032a"/>
                </a:solidFill>
                <a:latin typeface="Arial Black"/>
              </a:rPr>
              <a:t>CZY ODDANY GŁOS JEST WAŻN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1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1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rostokąt 1"/>
          <p:cNvSpPr/>
          <p:nvPr/>
        </p:nvSpPr>
        <p:spPr>
          <a:xfrm>
            <a:off x="900000" y="2276640"/>
            <a:ext cx="2087640" cy="172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ole tekstowe 5"/>
          <p:cNvSpPr/>
          <p:nvPr/>
        </p:nvSpPr>
        <p:spPr>
          <a:xfrm>
            <a:off x="4356000" y="2060640"/>
            <a:ext cx="36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3300"/>
                </a:solidFill>
                <a:latin typeface="Arial Black"/>
              </a:rPr>
              <a:t>GŁOS NIEWAŻ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ole tekstowe 6"/>
          <p:cNvSpPr/>
          <p:nvPr/>
        </p:nvSpPr>
        <p:spPr>
          <a:xfrm>
            <a:off x="179280" y="4761000"/>
            <a:ext cx="842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3300"/>
                </a:solidFill>
                <a:latin typeface="Arial"/>
                <a:ea typeface="Arial"/>
              </a:rPr>
              <a:t>Znaki graficzne naniesione w obrębie krat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ole tekstowe 4"/>
          <p:cNvSpPr/>
          <p:nvPr/>
        </p:nvSpPr>
        <p:spPr>
          <a:xfrm>
            <a:off x="1619280" y="1989000"/>
            <a:ext cx="1152360" cy="33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pl-PL" sz="9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ole tekstowe 2"/>
          <p:cNvSpPr/>
          <p:nvPr/>
        </p:nvSpPr>
        <p:spPr>
          <a:xfrm>
            <a:off x="1332000" y="47628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d032a"/>
                </a:solidFill>
                <a:latin typeface="Arial Black"/>
              </a:rPr>
              <a:t>CZY ODDANY GŁOS JEST WAŻN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1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1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6T10:10:29Z</dcterms:created>
  <dc:creator>Krajowe Biuro Wyborcze w Kielcach</dc:creator>
  <dc:description/>
  <dc:language>en-US</dc:language>
  <cp:lastModifiedBy>Adam Michcik</cp:lastModifiedBy>
  <cp:lastPrinted>2018-05-15T10:39:02Z</cp:lastPrinted>
  <dcterms:modified xsi:type="dcterms:W3CDTF">2023-09-30T08:22:36Z</dcterms:modified>
  <cp:revision>3292</cp:revision>
  <dc:subject/>
  <dc:title>Slajd 1</dc:title>
</cp:coreProperties>
</file>