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9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3.jpeg" ContentType="image/jpeg"/>
  <Override PartName="/ppt/media/image34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1.jpeg" ContentType="image/jpeg"/>
  <Override PartName="/ppt/media/image35.jpeg" ContentType="image/jpeg"/>
  <Override PartName="/ppt/media/image38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481C-F3EA-4615-92BD-5D331093EA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B93-E371-4655-8809-E3B41960EF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51DDD-946F-43FF-9DB6-14132B23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987CB-8F30-4D55-9E69-36445A6D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8A153-CBDD-4DD9-8AE8-2CD086CF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558DC5-978E-49D2-8ED4-1402DF3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609D9-BA7A-46C0-8E3F-B15EF6D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7FF1E-0F58-41CB-813A-3E77F0A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6EF56-4C3C-48D0-BC8B-F216BF8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921B7-D7A0-4EFB-AEF5-CB09E27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2609C-C0BB-44CF-997A-769C276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12662-9EB9-4E31-8D40-C912816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A7E06-D732-4989-94CB-EE8869D3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9B64A3-6892-41B4-8C7D-EA31ADBC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A4ABF-F422-48B9-95D7-C6E06440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EB29-9E0E-4D56-9249-3964A92B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268D0-A147-4F61-AF80-60D58DDC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4853-E937-44B3-A510-9D0410A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988D-47CA-4A0A-AA4C-9506F3C1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4142-28CA-4CBD-BE96-EA06D36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4D805-4080-426C-852F-1DEBD2B2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60E3B-11E7-4588-A567-AE1E474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576D8-17EB-49CB-BD3B-7ED7A227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14D14-68E6-48EB-8C47-4DF5826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7228D-8C9F-417F-8CA8-53991BCA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96A0B-B4DC-4D3C-96EE-F4F9AD29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0E46A-CE79-4F0A-A8DA-AFDE1DE9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C4529-5AB0-48CD-AB34-6F6B4095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D68CC-DE25-4DDF-8059-E295209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046A4-4480-46C0-A2A8-684D775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19031-AA85-4FA3-BF99-DD90D58B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9A40F-EA14-4504-BC56-6925872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EBC7A-BCB7-46FB-A5BF-FC66C25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C2D2C-A18C-4844-8B00-9C7CD5D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8DA8F-E154-430C-B35D-3B47D9A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80EA1-5DD9-4267-8618-956DDD4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83005-2187-44BB-AAF2-95B81EFF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E22A3-F466-4DE0-AF32-B276D7EA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B4436-F970-42F9-A408-5B1A8102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5FE17-56A3-4752-B089-4643CE1B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A2DC3-B3E1-4287-B6E1-13C10C9F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80FA0-F439-4B18-838E-021120A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9558E-F079-4031-A1ED-57F4AA8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55F38-1A81-479F-9A1A-ACD95656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38CD6-2D76-4136-99BE-572D453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71A95-285F-4351-BBB1-B40313E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29223-8BA0-498B-8A1C-EC6E340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32380-A2D5-464C-87AC-E8FFDB37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0CE4A-1007-49BF-8873-6A13E780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6FC24-22B6-4BF4-8726-CE23689E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55411-00BB-4A5D-A063-69E9A49E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F0106-1797-4CC8-B35D-EBA264D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9FA5B-7128-4DCF-962A-216AC89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DA5A6-C329-4119-A0B2-E9443D1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EA7E0-1520-48DE-9403-BE8A896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F0A6A-FCF2-4531-9537-5C4E790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EA40D-BD63-4248-BB32-0C3E47B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3410E-FA02-4CE9-94F0-F0A155A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D13AF-BCE2-45D0-A3C3-3624CDB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6E7E8-51B6-4175-8170-CF1D0E44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1EC78-9C9E-44E8-BE23-2C1CA12D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09694-3DF3-4C9E-AA0C-090840F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293-9282-4002-8737-4323757300CE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623-1108-40B2-A2BA-69B25BEC196B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5F9E-8BE8-4281-80DE-3F6548B4A3D6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427-2125-44C8-8BE4-20CD492DBBDA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DBBA-11A4-4943-B714-5DBEF73A1485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1E0-C395-41BB-BA16-D96C09D65151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B33-2B91-4547-A0F7-DF8F56942C07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506520" y="2462040"/>
            <a:ext cx="8845560" cy="128124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468360" y="3860640"/>
            <a:ext cx="842472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9" descr="SS 2019 - logo.jpg"/>
          <p:cNvPicPr/>
          <p:nvPr/>
        </p:nvPicPr>
        <p:blipFill>
          <a:blip r:embed="rId3"/>
          <a:stretch/>
        </p:blipFill>
        <p:spPr>
          <a:xfrm>
            <a:off x="3656160" y="966960"/>
            <a:ext cx="1542960" cy="1184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214200" y="405936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89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0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1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597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2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3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08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0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4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15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1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1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2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3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29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0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1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35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rostokąt 37"/>
          <p:cNvSpPr/>
          <p:nvPr/>
        </p:nvSpPr>
        <p:spPr>
          <a:xfrm>
            <a:off x="1598760" y="981000"/>
            <a:ext cx="504180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900000" y="4046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 I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raz 1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495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ole tekstowe 17"/>
          <p:cNvSpPr/>
          <p:nvPr/>
        </p:nvSpPr>
        <p:spPr>
          <a:xfrm>
            <a:off x="5724360" y="220500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2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248436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45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1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52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53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1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Łącznik prosty 10"/>
          <p:cNvSpPr/>
          <p:nvPr/>
        </p:nvSpPr>
        <p:spPr>
          <a:xfrm>
            <a:off x="231840" y="196704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Łącznik prosty 11"/>
          <p:cNvSpPr/>
          <p:nvPr/>
        </p:nvSpPr>
        <p:spPr>
          <a:xfrm flipV="1">
            <a:off x="212760" y="19638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olny kształt 11"/>
          <p:cNvSpPr/>
          <p:nvPr/>
        </p:nvSpPr>
        <p:spPr>
          <a:xfrm>
            <a:off x="393840" y="3898800"/>
            <a:ext cx="5778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ole tekstowe 14"/>
          <p:cNvSpPr/>
          <p:nvPr/>
        </p:nvSpPr>
        <p:spPr>
          <a:xfrm rot="19073400">
            <a:off x="232560" y="316548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e75b6"/>
                </a:solidFill>
                <a:latin typeface="Calibri"/>
              </a:rPr>
              <a:t>Nie głosuj na niego !!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załka w dół 15"/>
          <p:cNvSpPr/>
          <p:nvPr/>
        </p:nvSpPr>
        <p:spPr>
          <a:xfrm rot="2950200">
            <a:off x="658800" y="3566880"/>
            <a:ext cx="46080" cy="334800"/>
          </a:xfrm>
          <a:prstGeom prst="downArrow">
            <a:avLst>
              <a:gd name="adj1" fmla="val 50000"/>
              <a:gd name="adj2" fmla="val 49918"/>
            </a:avLst>
          </a:prstGeom>
          <a:solidFill>
            <a:srgbClr val="37609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Uśmiechnięta buźka 13"/>
          <p:cNvSpPr/>
          <p:nvPr/>
        </p:nvSpPr>
        <p:spPr>
          <a:xfrm>
            <a:off x="611280" y="4133880"/>
            <a:ext cx="288720" cy="30312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ole tekstowe 19"/>
          <p:cNvSpPr/>
          <p:nvPr/>
        </p:nvSpPr>
        <p:spPr>
          <a:xfrm>
            <a:off x="6437160" y="4076640"/>
            <a:ext cx="2592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znaki, wykreślenia, przekreślenia,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tym również i znak „X” postawiony przez wyborcę poza przeznaczoną na to kratką, traktuje się jako dopiski, które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65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66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ole tekstowe 9"/>
          <p:cNvSpPr/>
          <p:nvPr/>
        </p:nvSpPr>
        <p:spPr>
          <a:xfrm>
            <a:off x="6480000" y="2060640"/>
            <a:ext cx="259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 obok nazwisk dwóch lub więcej kandydatów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z tej samej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taki uważa się za ważnie oddany na daną listę i zalicza kandydatowi, którego nazwisko jest umieszczone najwyżej na tej liście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od innych nazwisk, przy których również postawiono znak „X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2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ącznik prosty 10"/>
          <p:cNvSpPr/>
          <p:nvPr/>
        </p:nvSpPr>
        <p:spPr>
          <a:xfrm>
            <a:off x="1076400" y="194796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Łącznik prosty 11"/>
          <p:cNvSpPr/>
          <p:nvPr/>
        </p:nvSpPr>
        <p:spPr>
          <a:xfrm flipV="1">
            <a:off x="1057320" y="19666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7"/>
          <p:cNvSpPr/>
          <p:nvPr/>
        </p:nvSpPr>
        <p:spPr>
          <a:xfrm flipV="1">
            <a:off x="1042920" y="3213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Łącznik prosty 20"/>
          <p:cNvSpPr/>
          <p:nvPr/>
        </p:nvSpPr>
        <p:spPr>
          <a:xfrm>
            <a:off x="1076400" y="320040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Łącznik prosty 21"/>
          <p:cNvSpPr/>
          <p:nvPr/>
        </p:nvSpPr>
        <p:spPr>
          <a:xfrm>
            <a:off x="1079640" y="5443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Łącznik prosty 22"/>
          <p:cNvSpPr/>
          <p:nvPr/>
        </p:nvSpPr>
        <p:spPr>
          <a:xfrm flipV="1">
            <a:off x="1042920" y="544356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6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77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ole tekstowe 9"/>
          <p:cNvSpPr/>
          <p:nvPr/>
        </p:nvSpPr>
        <p:spPr>
          <a:xfrm>
            <a:off x="6480000" y="2060640"/>
            <a:ext cx="25927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tej samej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zalicza się nieskreślonemu kandydatow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Łącznik prosty 10"/>
          <p:cNvSpPr/>
          <p:nvPr/>
        </p:nvSpPr>
        <p:spPr>
          <a:xfrm>
            <a:off x="1940040" y="258300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 flipV="1">
            <a:off x="1913040" y="257004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7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88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89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9"/>
          <p:cNvSpPr/>
          <p:nvPr/>
        </p:nvSpPr>
        <p:spPr>
          <a:xfrm>
            <a:off x="6480000" y="2060640"/>
            <a:ext cx="25927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jest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4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Łącznik prosty 10"/>
          <p:cNvSpPr/>
          <p:nvPr/>
        </p:nvSpPr>
        <p:spPr>
          <a:xfrm>
            <a:off x="279720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Łącznik prosty 11"/>
          <p:cNvSpPr/>
          <p:nvPr/>
        </p:nvSpPr>
        <p:spPr>
          <a:xfrm flipV="1">
            <a:off x="2762280" y="246672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9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0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ole tekstowe 9"/>
          <p:cNvSpPr/>
          <p:nvPr/>
        </p:nvSpPr>
        <p:spPr>
          <a:xfrm>
            <a:off x="6480000" y="2060640"/>
            <a:ext cx="259272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jedynie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listę ale nie zaliczony żadnemu kandydatowi z tej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wal 1"/>
          <p:cNvSpPr/>
          <p:nvPr/>
        </p:nvSpPr>
        <p:spPr>
          <a:xfrm>
            <a:off x="1979640" y="1341360"/>
            <a:ext cx="792000" cy="287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0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1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ole tekstowe 9"/>
          <p:cNvSpPr/>
          <p:nvPr/>
        </p:nvSpPr>
        <p:spPr>
          <a:xfrm>
            <a:off x="6480000" y="2060640"/>
            <a:ext cx="259272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kandydata z listy, której rejestrację unieważniono oraz postawiono znak „X” w kratce obok nazwiska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jest oddany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5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Łącznik prosty 17"/>
          <p:cNvSpPr/>
          <p:nvPr/>
        </p:nvSpPr>
        <p:spPr>
          <a:xfrm flipV="1">
            <a:off x="2741760" y="38322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Łącznik prosty 20"/>
          <p:cNvSpPr/>
          <p:nvPr/>
        </p:nvSpPr>
        <p:spPr>
          <a:xfrm>
            <a:off x="2811600" y="386064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Łącznik prosty 12"/>
          <p:cNvSpPr/>
          <p:nvPr/>
        </p:nvSpPr>
        <p:spPr>
          <a:xfrm flipV="1">
            <a:off x="3598920" y="246996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Łącznik prosty 15"/>
          <p:cNvSpPr/>
          <p:nvPr/>
        </p:nvSpPr>
        <p:spPr>
          <a:xfrm>
            <a:off x="364176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2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2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Łącznik prosty 10"/>
          <p:cNvSpPr/>
          <p:nvPr/>
        </p:nvSpPr>
        <p:spPr>
          <a:xfrm>
            <a:off x="1936800" y="221616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Łącznik prosty 11"/>
          <p:cNvSpPr/>
          <p:nvPr/>
        </p:nvSpPr>
        <p:spPr>
          <a:xfrm flipV="1">
            <a:off x="1908000" y="2205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owolny kształt 11"/>
          <p:cNvSpPr/>
          <p:nvPr/>
        </p:nvSpPr>
        <p:spPr>
          <a:xfrm>
            <a:off x="2878200" y="2411280"/>
            <a:ext cx="8856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ole tekstowe 19"/>
          <p:cNvSpPr/>
          <p:nvPr/>
        </p:nvSpPr>
        <p:spPr>
          <a:xfrm>
            <a:off x="6437160" y="4367160"/>
            <a:ext cx="2592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inne znaki niż znak „X”, tj. niebędą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co najmniej dwiema liniami, które przecinają się w obrębie kratki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niesione w obrębie kratki, również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3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3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ole tekstowe 9"/>
          <p:cNvSpPr/>
          <p:nvPr/>
        </p:nvSpPr>
        <p:spPr>
          <a:xfrm>
            <a:off x="6480000" y="2060640"/>
            <a:ext cx="259272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nazwiskach kandydatów 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różnych list kandydatów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tj. z więcej niż jednej list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Łącznik prosty 17"/>
          <p:cNvSpPr/>
          <p:nvPr/>
        </p:nvSpPr>
        <p:spPr>
          <a:xfrm flipV="1">
            <a:off x="4448160" y="395604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Łącznik prosty 20"/>
          <p:cNvSpPr/>
          <p:nvPr/>
        </p:nvSpPr>
        <p:spPr>
          <a:xfrm>
            <a:off x="4500720" y="397512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Łącznik prosty 12"/>
          <p:cNvSpPr/>
          <p:nvPr/>
        </p:nvSpPr>
        <p:spPr>
          <a:xfrm flipV="1">
            <a:off x="3618000" y="185256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Łącznik prosty 15"/>
          <p:cNvSpPr/>
          <p:nvPr/>
        </p:nvSpPr>
        <p:spPr>
          <a:xfrm>
            <a:off x="3632040" y="185436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4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ole tekstowe 9"/>
          <p:cNvSpPr/>
          <p:nvPr/>
        </p:nvSpPr>
        <p:spPr>
          <a:xfrm>
            <a:off x="6480000" y="2060640"/>
            <a:ext cx="2592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„X” jedynie w kratce obok nazwiska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listy, której rejestrację unieważni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Łącznik prosty 11"/>
          <p:cNvSpPr/>
          <p:nvPr/>
        </p:nvSpPr>
        <p:spPr>
          <a:xfrm flipV="1">
            <a:off x="2762280" y="23428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Łącznik prosty 12"/>
          <p:cNvSpPr/>
          <p:nvPr/>
        </p:nvSpPr>
        <p:spPr>
          <a:xfrm>
            <a:off x="2797200" y="234000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rostokąt 1"/>
          <p:cNvSpPr/>
          <p:nvPr/>
        </p:nvSpPr>
        <p:spPr>
          <a:xfrm>
            <a:off x="7920" y="1484280"/>
            <a:ext cx="78487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Franklin Gothic Book"/>
              </a:rPr>
              <a:t>Ustalając, czy głos na karcie jest ważny, czy nieważny, OKW stosuje poniższe regu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w rozumieniu Kodeksu wyborczego oraz, czy postawiony jest on w kratce, czy poza ni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18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(w razie wątpliwości komisja rozstrzyga w głosowaniu)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wyborcę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inne znaki niż znak „X”, tj. niebędące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 co najmniej dwiema liniami, które przecinają się w obrębie kratki, 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naniesione w obrębie kratki, również nie wpływają na ważność głosu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rostokąt 4"/>
          <p:cNvSpPr/>
          <p:nvPr/>
        </p:nvSpPr>
        <p:spPr>
          <a:xfrm>
            <a:off x="8317080" y="4041720"/>
            <a:ext cx="43164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5"/>
          <p:cNvSpPr/>
          <p:nvPr/>
        </p:nvSpPr>
        <p:spPr>
          <a:xfrm>
            <a:off x="8299440" y="285444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nożenie 6"/>
          <p:cNvSpPr/>
          <p:nvPr/>
        </p:nvSpPr>
        <p:spPr>
          <a:xfrm>
            <a:off x="8397720" y="2730600"/>
            <a:ext cx="61308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8"/>
          <p:cNvSpPr/>
          <p:nvPr/>
        </p:nvSpPr>
        <p:spPr>
          <a:xfrm>
            <a:off x="8353440" y="335124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Nie równa się 12"/>
          <p:cNvSpPr/>
          <p:nvPr/>
        </p:nvSpPr>
        <p:spPr>
          <a:xfrm>
            <a:off x="8286840" y="2139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Minus 13"/>
          <p:cNvSpPr/>
          <p:nvPr/>
        </p:nvSpPr>
        <p:spPr>
          <a:xfrm rot="19142400">
            <a:off x="8407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7"/>
          <p:cNvSpPr/>
          <p:nvPr/>
        </p:nvSpPr>
        <p:spPr>
          <a:xfrm>
            <a:off x="8291520" y="2062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5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ole tekstowe 9"/>
          <p:cNvSpPr/>
          <p:nvPr/>
        </p:nvSpPr>
        <p:spPr>
          <a:xfrm>
            <a:off x="6480000" y="2060640"/>
            <a:ext cx="2592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 przy nazwisku kandydata na ża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sp>
        <p:nvSpPr>
          <p:cNvPr id="755" name="Łącznik prosty 11"/>
          <p:cNvSpPr/>
          <p:nvPr/>
        </p:nvSpPr>
        <p:spPr>
          <a:xfrm>
            <a:off x="3645000" y="1852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Łącznik prosty 14"/>
          <p:cNvSpPr/>
          <p:nvPr/>
        </p:nvSpPr>
        <p:spPr>
          <a:xfrm flipV="1">
            <a:off x="3618000" y="18414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ole tekstowe 21"/>
          <p:cNvSpPr/>
          <p:nvPr/>
        </p:nvSpPr>
        <p:spPr>
          <a:xfrm>
            <a:off x="6480000" y="2060640"/>
            <a:ext cx="259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Brak pieczęci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obwodowej komisji wybor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UW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NIE JEST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GŁOS NIEWAŻ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J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RTA NIEWAŻNA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0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sp>
        <p:nvSpPr>
          <p:cNvPr id="762" name="pole tekstowe 12"/>
          <p:cNvSpPr/>
          <p:nvPr/>
        </p:nvSpPr>
        <p:spPr>
          <a:xfrm>
            <a:off x="5106960" y="191628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5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67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68" name="Łącznik prosty 10"/>
          <p:cNvSpPr/>
          <p:nvPr/>
        </p:nvSpPr>
        <p:spPr>
          <a:xfrm flipH="1" flipV="1">
            <a:off x="1331640" y="293040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Łącznik prosty 12"/>
          <p:cNvSpPr/>
          <p:nvPr/>
        </p:nvSpPr>
        <p:spPr>
          <a:xfrm flipV="1">
            <a:off x="1333440" y="290016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ole tekstowe 14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ole tekstowe 15"/>
          <p:cNvSpPr/>
          <p:nvPr/>
        </p:nvSpPr>
        <p:spPr>
          <a:xfrm>
            <a:off x="5940360" y="213372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 kandyda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4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76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77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ole tekstowe 17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ole tekstowe 18"/>
          <p:cNvSpPr/>
          <p:nvPr/>
        </p:nvSpPr>
        <p:spPr>
          <a:xfrm>
            <a:off x="5940360" y="2133720"/>
            <a:ext cx="25923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tylko jednego nieskreślonego kandy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nie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ole tekstowe 9"/>
          <p:cNvSpPr/>
          <p:nvPr/>
        </p:nvSpPr>
        <p:spPr>
          <a:xfrm>
            <a:off x="5867280" y="2387520"/>
            <a:ext cx="2592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kach przy nazwiskach więcej niż jed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8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90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91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ole tekstowe 9"/>
          <p:cNvSpPr/>
          <p:nvPr/>
        </p:nvSpPr>
        <p:spPr>
          <a:xfrm>
            <a:off x="5867280" y="2387520"/>
            <a:ext cx="259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żadnym nazwisku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9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1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ole tekstowe 9"/>
          <p:cNvSpPr/>
          <p:nvPr/>
        </p:nvSpPr>
        <p:spPr>
          <a:xfrm>
            <a:off x="5867280" y="2387520"/>
            <a:ext cx="266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tylk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6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8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80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ole tekstowe 9"/>
          <p:cNvSpPr/>
          <p:nvPr/>
        </p:nvSpPr>
        <p:spPr>
          <a:xfrm>
            <a:off x="5867280" y="2638440"/>
            <a:ext cx="2376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jednocześnie w kratce za wyborem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TAK”)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i w kratce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6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18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19" name="Łącznik prosty 13"/>
          <p:cNvSpPr/>
          <p:nvPr/>
        </p:nvSpPr>
        <p:spPr>
          <a:xfrm flipH="1" flipV="1">
            <a:off x="1596960" y="325728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Łącznik prosty 14"/>
          <p:cNvSpPr/>
          <p:nvPr/>
        </p:nvSpPr>
        <p:spPr>
          <a:xfrm flipV="1">
            <a:off x="1600200" y="32828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Łącznik prosty 17"/>
          <p:cNvSpPr/>
          <p:nvPr/>
        </p:nvSpPr>
        <p:spPr>
          <a:xfrm flipH="1" flipV="1">
            <a:off x="1611000" y="3609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Łącznik prosty 18"/>
          <p:cNvSpPr/>
          <p:nvPr/>
        </p:nvSpPr>
        <p:spPr>
          <a:xfrm flipV="1">
            <a:off x="1590840" y="3643200"/>
            <a:ext cx="18072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ole tekstowe 9"/>
          <p:cNvSpPr/>
          <p:nvPr/>
        </p:nvSpPr>
        <p:spPr>
          <a:xfrm>
            <a:off x="5867280" y="2638440"/>
            <a:ext cx="23767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ani za wyborem kandydata (w kratce oznaczonej słowem „TAK”), ani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7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29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5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ole tekstowe 2"/>
          <p:cNvSpPr/>
          <p:nvPr/>
        </p:nvSpPr>
        <p:spPr>
          <a:xfrm>
            <a:off x="2124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836" name="Prostokąt 1"/>
          <p:cNvSpPr/>
          <p:nvPr/>
        </p:nvSpPr>
        <p:spPr>
          <a:xfrm>
            <a:off x="324000" y="382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z pytaniami 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38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77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78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7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/>
  <dc:description/>
  <dc:language>en-US</dc:language>
  <cp:lastModifiedBy>Adam Michcik</cp:lastModifiedBy>
  <cp:lastPrinted>2018-05-15T10:39:02Z</cp:lastPrinted>
  <dcterms:modified xsi:type="dcterms:W3CDTF">2023-09-30T08:30:26Z</dcterms:modified>
  <cp:revision>3293</cp:revision>
  <dc:subject/>
  <dc:title>Slajd 1</dc:title>
</cp:coreProperties>
</file>