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9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3.jpeg" ContentType="image/jpeg"/>
  <Override PartName="/ppt/media/image34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1.jpeg" ContentType="image/jpeg"/>
  <Override PartName="/ppt/media/image35.jpeg" ContentType="image/jpeg"/>
  <Override PartName="/ppt/media/image38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C17-C7DA-4DD1-9F37-D85C4C704C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B991-DD4D-4816-8BFF-8F84D5D946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F75713-17FE-4262-A22D-908746C2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1CC49D-A004-4491-91B8-C2876FD6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41C33-7C6C-405D-9516-190FC11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1031E-F712-45E4-A8B9-91F763C3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D9C1F-EA28-48D7-BA20-7D3C465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7E0371-0C18-4FA9-BA73-97CAC04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04A7A7-815D-45E3-AD79-1B27C69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5B788-92D6-407A-BC73-7A3CFCB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70E578-375A-4E90-A9EF-35976F3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8D177-1FA9-42D3-8335-4746020E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3004D-59A9-47FE-A25E-B38D031E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0D3D1-98FF-431D-8404-540A7854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6963F-E8E4-490E-90CE-06EB7658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8331D-1FBA-44AC-ABC9-B78CE1B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93712-806F-4A93-9043-51997DDA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9C12C-72BC-4BD9-AACE-F8C4FCA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6911-DBCA-4D6D-ADA2-5699FD5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B474F-031B-498B-A8CD-4E8B3D60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5B168-34B1-4FB3-8D39-20C8358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8F626-2830-4495-8344-1992180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A75A1-54F9-4DC5-A6DC-7F27AAE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6BF3-1731-4EDB-A484-DE7C87EC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B02F-A1F4-479D-9E90-1AB22417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16D5-D313-4CF2-9340-A4230627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9977D-E96B-4401-A3BB-2B9F4B8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00F7C-16ED-4B95-8144-4A55A4A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0B126-CE7B-4E73-BE96-2D10B86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E6BAB-97B3-4D8C-9F8A-F760E60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3EADE-A649-4FB5-8280-B809B603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9B3B9-AD3E-4AEF-9FE5-22A8B46D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CBD1C-97D8-4037-B39B-64E174F5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9424B-D19B-4F03-A047-D732C0C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D18BB-4D0F-4A96-BC0F-395F0B5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23171-C8AC-4D1B-AC97-75A79C4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3CA08-9C74-460F-9811-7E3773E9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4475A-2D7C-43FC-8563-5B1832F5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47D71-144C-479B-987B-7621A4EA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DDEA3-9B7C-48B2-BB97-FB36B24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D5C5E-0625-49B4-B048-43E3B28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C0138-EABD-4825-A75C-C6B69F07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7DAA5-C900-4109-8A5F-8BD3648E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6A906-922A-483D-899F-6E3CFF7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CC9CF-9E5B-47F0-AB06-F876C8F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BB841-BEE3-4BAC-B371-958301E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611C4-11CF-4DE8-98C1-2F87A55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7223F-FF31-4DD2-BEC6-E4DB7FB6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6CF22-1307-4B50-96AF-70BEC139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D47B3-3050-45D5-B984-705FF359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977E9-20C6-4F84-A2A0-14D74F48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6CE0F-32C1-4C62-9AE9-949682A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A6EFE-74D2-438D-AE7E-30732ED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1A1BF-3506-44EF-9C9E-CACCAFC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3C234-4881-4F1C-9D9C-D2FDBD82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EC85A-DEAD-42AD-A0A8-6BC07565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465E5-00B5-45A3-AB9B-CE1C125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EBD75-07D1-41B1-AFF3-451CE90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08F2F-09BF-4EB5-A827-D6206CB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3AAA7-E723-43E3-AF8F-5DB026D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DC72F-50B4-40B4-B0C5-07AA9D67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7019C-F855-42E4-97BB-74BC7ED9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0E1-388E-4287-99CC-7A99723F1A7B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5DD-81F4-4DC0-9E15-807CD6BAB102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6A17-925C-4D93-967A-E48EACDEE49E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BC9-394B-4B86-BD1D-F53B5929CE11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38B2-F946-4692-9782-E39DF371B1D8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5D9-3EEC-473D-8BFA-E0CC0BF66B4A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5582-F9B1-43AE-BAF2-7055493C573C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506520" y="2462040"/>
            <a:ext cx="8845560" cy="128124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468360" y="3860640"/>
            <a:ext cx="842472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9" descr="SS 2019 - logo.jpg"/>
          <p:cNvPicPr/>
          <p:nvPr/>
        </p:nvPicPr>
        <p:blipFill>
          <a:blip r:embed="rId3"/>
          <a:stretch/>
        </p:blipFill>
        <p:spPr>
          <a:xfrm>
            <a:off x="3656160" y="966960"/>
            <a:ext cx="1542960" cy="1184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214200" y="405936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89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0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1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597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2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3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08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0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4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15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1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1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2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3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29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0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1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35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rostokąt 37"/>
          <p:cNvSpPr/>
          <p:nvPr/>
        </p:nvSpPr>
        <p:spPr>
          <a:xfrm>
            <a:off x="1598760" y="981000"/>
            <a:ext cx="504180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900000" y="4046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 I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raz 1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495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ole tekstowe 17"/>
          <p:cNvSpPr/>
          <p:nvPr/>
        </p:nvSpPr>
        <p:spPr>
          <a:xfrm>
            <a:off x="5724360" y="220500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2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248436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45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1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52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53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1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Łącznik prosty 10"/>
          <p:cNvSpPr/>
          <p:nvPr/>
        </p:nvSpPr>
        <p:spPr>
          <a:xfrm>
            <a:off x="231840" y="196704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Łącznik prosty 11"/>
          <p:cNvSpPr/>
          <p:nvPr/>
        </p:nvSpPr>
        <p:spPr>
          <a:xfrm flipV="1">
            <a:off x="212760" y="19638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olny kształt 11"/>
          <p:cNvSpPr/>
          <p:nvPr/>
        </p:nvSpPr>
        <p:spPr>
          <a:xfrm>
            <a:off x="393840" y="3898800"/>
            <a:ext cx="5778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ole tekstowe 14"/>
          <p:cNvSpPr/>
          <p:nvPr/>
        </p:nvSpPr>
        <p:spPr>
          <a:xfrm rot="19073400">
            <a:off x="232560" y="316548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e75b6"/>
                </a:solidFill>
                <a:latin typeface="Calibri"/>
              </a:rPr>
              <a:t>Nie głosuj na niego !!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załka w dół 15"/>
          <p:cNvSpPr/>
          <p:nvPr/>
        </p:nvSpPr>
        <p:spPr>
          <a:xfrm rot="2950200">
            <a:off x="658800" y="3566880"/>
            <a:ext cx="46080" cy="334800"/>
          </a:xfrm>
          <a:prstGeom prst="downArrow">
            <a:avLst>
              <a:gd name="adj1" fmla="val 50000"/>
              <a:gd name="adj2" fmla="val 49918"/>
            </a:avLst>
          </a:prstGeom>
          <a:solidFill>
            <a:srgbClr val="37609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Uśmiechnięta buźka 13"/>
          <p:cNvSpPr/>
          <p:nvPr/>
        </p:nvSpPr>
        <p:spPr>
          <a:xfrm>
            <a:off x="611280" y="4133880"/>
            <a:ext cx="288720" cy="30312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ole tekstowe 19"/>
          <p:cNvSpPr/>
          <p:nvPr/>
        </p:nvSpPr>
        <p:spPr>
          <a:xfrm>
            <a:off x="6437160" y="4076640"/>
            <a:ext cx="2592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znaki, wykreślenia, przekreślenia,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tym również i znak „X” postawiony przez wyborcę poza przeznaczoną na to kratką, traktuje się jako dopiski, które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65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66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ole tekstowe 9"/>
          <p:cNvSpPr/>
          <p:nvPr/>
        </p:nvSpPr>
        <p:spPr>
          <a:xfrm>
            <a:off x="6480000" y="2060640"/>
            <a:ext cx="259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 obok nazwisk dwóch lub więcej kandydatów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z tej samej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taki uważa się za ważnie oddany na daną listę i zalicza kandydatowi, którego nazwisko jest umieszczone najwyżej na tej liście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od innych nazwisk, przy których również postawiono znak „X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2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ącznik prosty 10"/>
          <p:cNvSpPr/>
          <p:nvPr/>
        </p:nvSpPr>
        <p:spPr>
          <a:xfrm>
            <a:off x="1076400" y="194796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Łącznik prosty 11"/>
          <p:cNvSpPr/>
          <p:nvPr/>
        </p:nvSpPr>
        <p:spPr>
          <a:xfrm flipV="1">
            <a:off x="1057320" y="19666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7"/>
          <p:cNvSpPr/>
          <p:nvPr/>
        </p:nvSpPr>
        <p:spPr>
          <a:xfrm flipV="1">
            <a:off x="1042920" y="3213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Łącznik prosty 20"/>
          <p:cNvSpPr/>
          <p:nvPr/>
        </p:nvSpPr>
        <p:spPr>
          <a:xfrm>
            <a:off x="1076400" y="320040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Łącznik prosty 21"/>
          <p:cNvSpPr/>
          <p:nvPr/>
        </p:nvSpPr>
        <p:spPr>
          <a:xfrm>
            <a:off x="1079640" y="5443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Łącznik prosty 22"/>
          <p:cNvSpPr/>
          <p:nvPr/>
        </p:nvSpPr>
        <p:spPr>
          <a:xfrm flipV="1">
            <a:off x="1042920" y="544356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6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77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ole tekstowe 9"/>
          <p:cNvSpPr/>
          <p:nvPr/>
        </p:nvSpPr>
        <p:spPr>
          <a:xfrm>
            <a:off x="6480000" y="2060640"/>
            <a:ext cx="25927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tej samej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zalicza się nieskreślonemu kandydatow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Łącznik prosty 10"/>
          <p:cNvSpPr/>
          <p:nvPr/>
        </p:nvSpPr>
        <p:spPr>
          <a:xfrm>
            <a:off x="1940040" y="258300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 flipV="1">
            <a:off x="1913040" y="257004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7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88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89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9"/>
          <p:cNvSpPr/>
          <p:nvPr/>
        </p:nvSpPr>
        <p:spPr>
          <a:xfrm>
            <a:off x="6480000" y="2060640"/>
            <a:ext cx="25927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jest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4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Łącznik prosty 10"/>
          <p:cNvSpPr/>
          <p:nvPr/>
        </p:nvSpPr>
        <p:spPr>
          <a:xfrm>
            <a:off x="279720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Łącznik prosty 11"/>
          <p:cNvSpPr/>
          <p:nvPr/>
        </p:nvSpPr>
        <p:spPr>
          <a:xfrm flipV="1">
            <a:off x="2762280" y="246672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9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0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ole tekstowe 9"/>
          <p:cNvSpPr/>
          <p:nvPr/>
        </p:nvSpPr>
        <p:spPr>
          <a:xfrm>
            <a:off x="6480000" y="2060640"/>
            <a:ext cx="259272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jedynie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listę ale nie zaliczony żadnemu kandydatowi z tej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wal 1"/>
          <p:cNvSpPr/>
          <p:nvPr/>
        </p:nvSpPr>
        <p:spPr>
          <a:xfrm>
            <a:off x="1979640" y="1341360"/>
            <a:ext cx="792000" cy="287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0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1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ole tekstowe 9"/>
          <p:cNvSpPr/>
          <p:nvPr/>
        </p:nvSpPr>
        <p:spPr>
          <a:xfrm>
            <a:off x="6480000" y="2060640"/>
            <a:ext cx="259272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kandydata z listy, której rejestrację unieważniono oraz postawiono znak „X” w kratce obok nazwiska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jest oddany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5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Łącznik prosty 17"/>
          <p:cNvSpPr/>
          <p:nvPr/>
        </p:nvSpPr>
        <p:spPr>
          <a:xfrm flipV="1">
            <a:off x="2741760" y="38322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Łącznik prosty 20"/>
          <p:cNvSpPr/>
          <p:nvPr/>
        </p:nvSpPr>
        <p:spPr>
          <a:xfrm>
            <a:off x="2811600" y="386064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Łącznik prosty 12"/>
          <p:cNvSpPr/>
          <p:nvPr/>
        </p:nvSpPr>
        <p:spPr>
          <a:xfrm flipV="1">
            <a:off x="3598920" y="246996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Łącznik prosty 15"/>
          <p:cNvSpPr/>
          <p:nvPr/>
        </p:nvSpPr>
        <p:spPr>
          <a:xfrm>
            <a:off x="364176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2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2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Łącznik prosty 10"/>
          <p:cNvSpPr/>
          <p:nvPr/>
        </p:nvSpPr>
        <p:spPr>
          <a:xfrm>
            <a:off x="1936800" y="221616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Łącznik prosty 11"/>
          <p:cNvSpPr/>
          <p:nvPr/>
        </p:nvSpPr>
        <p:spPr>
          <a:xfrm flipV="1">
            <a:off x="1908000" y="2205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owolny kształt 11"/>
          <p:cNvSpPr/>
          <p:nvPr/>
        </p:nvSpPr>
        <p:spPr>
          <a:xfrm>
            <a:off x="2878200" y="2411280"/>
            <a:ext cx="8856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ole tekstowe 19"/>
          <p:cNvSpPr/>
          <p:nvPr/>
        </p:nvSpPr>
        <p:spPr>
          <a:xfrm>
            <a:off x="6437160" y="4367160"/>
            <a:ext cx="2592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inne znaki niż znak „X”, tj. niebędą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co najmniej dwiema liniami, które przecinają się w obrębie kratki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niesione w obrębie kratki, również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3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3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ole tekstowe 9"/>
          <p:cNvSpPr/>
          <p:nvPr/>
        </p:nvSpPr>
        <p:spPr>
          <a:xfrm>
            <a:off x="6480000" y="2060640"/>
            <a:ext cx="259272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nazwiskach kandydatów 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różnych list kandydatów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tj. z więcej niż jednej list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Łącznik prosty 17"/>
          <p:cNvSpPr/>
          <p:nvPr/>
        </p:nvSpPr>
        <p:spPr>
          <a:xfrm flipV="1">
            <a:off x="4448160" y="395604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Łącznik prosty 20"/>
          <p:cNvSpPr/>
          <p:nvPr/>
        </p:nvSpPr>
        <p:spPr>
          <a:xfrm>
            <a:off x="4500720" y="397512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Łącznik prosty 12"/>
          <p:cNvSpPr/>
          <p:nvPr/>
        </p:nvSpPr>
        <p:spPr>
          <a:xfrm flipV="1">
            <a:off x="3618000" y="185256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Łącznik prosty 15"/>
          <p:cNvSpPr/>
          <p:nvPr/>
        </p:nvSpPr>
        <p:spPr>
          <a:xfrm>
            <a:off x="3632040" y="185436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4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ole tekstowe 9"/>
          <p:cNvSpPr/>
          <p:nvPr/>
        </p:nvSpPr>
        <p:spPr>
          <a:xfrm>
            <a:off x="6480000" y="2060640"/>
            <a:ext cx="2592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„X” jedynie w kratce obok nazwiska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listy, której rejestrację unieważni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Łącznik prosty 11"/>
          <p:cNvSpPr/>
          <p:nvPr/>
        </p:nvSpPr>
        <p:spPr>
          <a:xfrm flipV="1">
            <a:off x="2762280" y="23428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Łącznik prosty 12"/>
          <p:cNvSpPr/>
          <p:nvPr/>
        </p:nvSpPr>
        <p:spPr>
          <a:xfrm>
            <a:off x="2797200" y="234000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rostokąt 1"/>
          <p:cNvSpPr/>
          <p:nvPr/>
        </p:nvSpPr>
        <p:spPr>
          <a:xfrm>
            <a:off x="7920" y="1484280"/>
            <a:ext cx="78487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Franklin Gothic Book"/>
              </a:rPr>
              <a:t>Ustalając, czy głos na karcie jest ważny, czy nieważny, OKW stosuje poniższe regu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w rozumieniu Kodeksu wyborczego oraz, czy postawiony jest on w kratce, czy poza ni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18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(w razie wątpliwości komisja rozstrzyga w głosowaniu)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wyborcę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inne znaki niż znak „X”, tj. niebędące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 co najmniej dwiema liniami, które przecinają się w obrębie kratki, 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naniesione w obrębie kratki, również nie wpływają na ważność głosu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rostokąt 4"/>
          <p:cNvSpPr/>
          <p:nvPr/>
        </p:nvSpPr>
        <p:spPr>
          <a:xfrm>
            <a:off x="8317080" y="4041720"/>
            <a:ext cx="43164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5"/>
          <p:cNvSpPr/>
          <p:nvPr/>
        </p:nvSpPr>
        <p:spPr>
          <a:xfrm>
            <a:off x="8299440" y="285444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nożenie 6"/>
          <p:cNvSpPr/>
          <p:nvPr/>
        </p:nvSpPr>
        <p:spPr>
          <a:xfrm>
            <a:off x="8397720" y="2730600"/>
            <a:ext cx="61308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8"/>
          <p:cNvSpPr/>
          <p:nvPr/>
        </p:nvSpPr>
        <p:spPr>
          <a:xfrm>
            <a:off x="8353440" y="335124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Nie równa się 12"/>
          <p:cNvSpPr/>
          <p:nvPr/>
        </p:nvSpPr>
        <p:spPr>
          <a:xfrm>
            <a:off x="8286840" y="2139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Minus 13"/>
          <p:cNvSpPr/>
          <p:nvPr/>
        </p:nvSpPr>
        <p:spPr>
          <a:xfrm rot="19142400">
            <a:off x="8407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7"/>
          <p:cNvSpPr/>
          <p:nvPr/>
        </p:nvSpPr>
        <p:spPr>
          <a:xfrm>
            <a:off x="8291520" y="2062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5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ole tekstowe 9"/>
          <p:cNvSpPr/>
          <p:nvPr/>
        </p:nvSpPr>
        <p:spPr>
          <a:xfrm>
            <a:off x="6480000" y="2060640"/>
            <a:ext cx="2592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 przy nazwisku kandydata na ża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sp>
        <p:nvSpPr>
          <p:cNvPr id="755" name="Łącznik prosty 11"/>
          <p:cNvSpPr/>
          <p:nvPr/>
        </p:nvSpPr>
        <p:spPr>
          <a:xfrm>
            <a:off x="3645000" y="1852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Łącznik prosty 14"/>
          <p:cNvSpPr/>
          <p:nvPr/>
        </p:nvSpPr>
        <p:spPr>
          <a:xfrm flipV="1">
            <a:off x="3618000" y="18414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ole tekstowe 21"/>
          <p:cNvSpPr/>
          <p:nvPr/>
        </p:nvSpPr>
        <p:spPr>
          <a:xfrm>
            <a:off x="6480000" y="2060640"/>
            <a:ext cx="259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Brak pieczęci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obwodowej komisji wybor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UW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NIE JEST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GŁOS NIEWAŻ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J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RTA NIEWAŻNA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0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sp>
        <p:nvSpPr>
          <p:cNvPr id="762" name="pole tekstowe 12"/>
          <p:cNvSpPr/>
          <p:nvPr/>
        </p:nvSpPr>
        <p:spPr>
          <a:xfrm>
            <a:off x="5106960" y="191628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5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67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68" name="Łącznik prosty 10"/>
          <p:cNvSpPr/>
          <p:nvPr/>
        </p:nvSpPr>
        <p:spPr>
          <a:xfrm flipH="1" flipV="1">
            <a:off x="1331640" y="293040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Łącznik prosty 12"/>
          <p:cNvSpPr/>
          <p:nvPr/>
        </p:nvSpPr>
        <p:spPr>
          <a:xfrm flipV="1">
            <a:off x="1333440" y="290016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ole tekstowe 14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ole tekstowe 15"/>
          <p:cNvSpPr/>
          <p:nvPr/>
        </p:nvSpPr>
        <p:spPr>
          <a:xfrm>
            <a:off x="5940360" y="213372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 kandyda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4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76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77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ole tekstowe 17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ole tekstowe 18"/>
          <p:cNvSpPr/>
          <p:nvPr/>
        </p:nvSpPr>
        <p:spPr>
          <a:xfrm>
            <a:off x="5940360" y="2133720"/>
            <a:ext cx="25923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tylko jednego nieskreślonego kandy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nie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ole tekstowe 9"/>
          <p:cNvSpPr/>
          <p:nvPr/>
        </p:nvSpPr>
        <p:spPr>
          <a:xfrm>
            <a:off x="5867280" y="2387520"/>
            <a:ext cx="2592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kach przy nazwiskach więcej niż jed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8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90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91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ole tekstowe 9"/>
          <p:cNvSpPr/>
          <p:nvPr/>
        </p:nvSpPr>
        <p:spPr>
          <a:xfrm>
            <a:off x="5867280" y="2387520"/>
            <a:ext cx="259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żadnym nazwisku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9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1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ole tekstowe 9"/>
          <p:cNvSpPr/>
          <p:nvPr/>
        </p:nvSpPr>
        <p:spPr>
          <a:xfrm>
            <a:off x="5867280" y="2387520"/>
            <a:ext cx="266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tylk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6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8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80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ole tekstowe 9"/>
          <p:cNvSpPr/>
          <p:nvPr/>
        </p:nvSpPr>
        <p:spPr>
          <a:xfrm>
            <a:off x="5867280" y="2638440"/>
            <a:ext cx="2376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jednocześnie w kratce za wyborem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TAK”)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i w kratce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6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18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19" name="Łącznik prosty 13"/>
          <p:cNvSpPr/>
          <p:nvPr/>
        </p:nvSpPr>
        <p:spPr>
          <a:xfrm flipH="1" flipV="1">
            <a:off x="1596960" y="325728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Łącznik prosty 14"/>
          <p:cNvSpPr/>
          <p:nvPr/>
        </p:nvSpPr>
        <p:spPr>
          <a:xfrm flipV="1">
            <a:off x="1600200" y="32828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Łącznik prosty 17"/>
          <p:cNvSpPr/>
          <p:nvPr/>
        </p:nvSpPr>
        <p:spPr>
          <a:xfrm flipH="1" flipV="1">
            <a:off x="1611000" y="3609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Łącznik prosty 18"/>
          <p:cNvSpPr/>
          <p:nvPr/>
        </p:nvSpPr>
        <p:spPr>
          <a:xfrm flipV="1">
            <a:off x="1590840" y="3643200"/>
            <a:ext cx="18072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ole tekstowe 9"/>
          <p:cNvSpPr/>
          <p:nvPr/>
        </p:nvSpPr>
        <p:spPr>
          <a:xfrm>
            <a:off x="5867280" y="2638440"/>
            <a:ext cx="23767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ani za wyborem kandydata (w kratce oznaczonej słowem „TAK”), ani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7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29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5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ole tekstowe 2"/>
          <p:cNvSpPr/>
          <p:nvPr/>
        </p:nvSpPr>
        <p:spPr>
          <a:xfrm>
            <a:off x="2124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836" name="Prostokąt 1"/>
          <p:cNvSpPr/>
          <p:nvPr/>
        </p:nvSpPr>
        <p:spPr>
          <a:xfrm>
            <a:off x="324000" y="382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z pytaniami 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38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77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78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7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/>
  <dc:description/>
  <dc:language>en-US</dc:language>
  <cp:lastModifiedBy>Adam Michcik</cp:lastModifiedBy>
  <cp:lastPrinted>2018-05-15T10:39:02Z</cp:lastPrinted>
  <dcterms:modified xsi:type="dcterms:W3CDTF">2023-09-30T08:30:26Z</dcterms:modified>
  <cp:revision>3293</cp:revision>
  <dc:subject/>
  <dc:title>Slajd 1</dc:title>
</cp:coreProperties>
</file>